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310-634E-4979-811C-C32F6DA8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68D-FE22-497B-BDF0-9E4F8152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75C-104F-403E-9CA5-EBAB7394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891-9C5B-408E-B43A-CA74670E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FAE7C-A31D-4328-98B7-112B9239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B488D-9297-4959-A468-E471A06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F6D84-23EC-42FD-AE1B-68A8A10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5D05-DB91-45C0-AAB8-62C5F7B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F0B32-ED24-4D7A-B45B-57F63806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08F67-E8F5-48EE-83DC-FB1594D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BCE14-2236-4857-A882-93623C02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62B-E9F0-43AF-992E-4C47543A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B6D1B-41A7-433B-885F-D7DF3B3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BF2CC-E48C-464E-A7A3-A4369DB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9832A-366F-43A4-B939-F5EE3B0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5660C-735D-4198-BDAC-000D1E4E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C40BC-72DB-4535-B920-C8CD4A2B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E4A3-7479-42BC-AE88-5670E2ED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B1E10-38E9-41C0-8B60-E6D0B71C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C6AC-C4CD-47CF-9B7C-C8CF3FEB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5206-BF52-49F9-A31C-3504731C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B591-A950-4B4C-939E-6C90520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EA7-6A84-482D-8D32-B6D0E57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0B79-3B08-465E-9F59-E5911B8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C036-C6BE-4DF8-B98C-E8798B0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2E95-7995-4501-9DB4-A543460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DD97-3696-4581-8CB6-F5FC897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B53F-828F-4373-9EAD-3E425EC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34AA-1F97-4C19-8693-0E1D27DE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573F-E0FC-4A38-8281-CAEB9CFE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39D-E30B-4C9C-9723-2F481DC7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A19-13B3-4DFE-8449-3F33961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AE28-60B2-4AA2-B41E-07BF53F1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E2D-C222-4122-9EC5-069A56E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396-5E7E-4929-B3BA-4553D9F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BD2-C6B9-4008-ABDF-AD20AF5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5ECE-A6F9-4C25-8C5B-CE057E87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7EF5-AD7B-4294-A9F2-01465DE6B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E313-D685-4487-876B-1118F3C0C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mrism.agni-age.net/russian.htm" TargetMode="External"/><Relationship Id="rId2" Type="http://schemas.openxmlformats.org/officeDocument/2006/relationships/hyperlink" Target="http://www.astrotheos.com/Downloads/TR.zip" TargetMode="External"/><Relationship Id="rId3" Type="http://schemas.openxmlformats.org/officeDocument/2006/relationships/hyperlink" Target="http://www.astrotheos.com/Downloads/TL.zip" TargetMode="External"/><Relationship Id="rId4" Type="http://schemas.openxmlformats.org/officeDocument/2006/relationships/hyperlink" Target="http://www.astrotheos.com/Downloads/Webinar.zip" TargetMode="External"/><Relationship Id="rId5" Type="http://schemas.openxmlformats.org/officeDocument/2006/relationships/hyperlink" Target="http://www.astrotheos.com/Downloads/Webinar.zip" TargetMode="Externa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5680" y="2133720"/>
            <a:ext cx="90583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2012: АНАЛИЗ МИРОВЫХ ТЕНДЕН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В СВЕТЕ РЕЗОНАНСА ЭВОЛЮЦИОННЫХ И ЛОКАЛЬНЫХ ЦИКЛОВ РАЗВИТИЯ ПРИРОДЫ И ОБЩЕСТВА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Сергей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Смеля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www.astrotheo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www.astrotheos.narod.ru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24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марта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87520" y="257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578640" y="257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87520" y="491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79640" y="1251720"/>
            <a:ext cx="3173400" cy="3329280"/>
            <a:chOff x="1079640" y="1251720"/>
            <a:chExt cx="3173400" cy="3329280"/>
          </a:xfrm>
        </p:grpSpPr>
        <p:grpSp>
          <p:nvGrpSpPr>
            <p:cNvPr id="191" name=""/>
            <p:cNvGrpSpPr/>
            <p:nvPr/>
          </p:nvGrpSpPr>
          <p:grpSpPr>
            <a:xfrm>
              <a:off x="1079640" y="1251720"/>
              <a:ext cx="3173400" cy="3329280"/>
              <a:chOff x="1079640" y="1251720"/>
              <a:chExt cx="3173400" cy="3329280"/>
            </a:xfrm>
          </p:grpSpPr>
          <p:sp>
            <p:nvSpPr>
              <p:cNvPr id="192" name=""/>
              <p:cNvSpPr/>
              <p:nvPr/>
            </p:nvSpPr>
            <p:spPr>
              <a:xfrm>
                <a:off x="1407240" y="1510560"/>
                <a:ext cx="2814840" cy="281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816280" y="1514520"/>
                <a:ext cx="7560" cy="2811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1418400" y="2900880"/>
                <a:ext cx="2807280" cy="26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95440" y="2897280"/>
                <a:ext cx="57600" cy="56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76640" y="2870640"/>
                <a:ext cx="57600" cy="56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793960" y="4307040"/>
                <a:ext cx="57600" cy="56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793960" y="1472400"/>
                <a:ext cx="57600" cy="56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872000" y="395676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56560" y="2417400"/>
                <a:ext cx="57600" cy="5652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47160" y="401760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99680" y="239508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793960" y="152964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15560" y="161352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0"/>
                    </a:moveTo>
                    <a:cubicBezTo>
                      <a:pt x="20" y="15"/>
                      <a:pt x="0" y="45"/>
                      <a:pt x="0" y="45"/>
                    </a:cubicBezTo>
                    <a:cubicBezTo>
                      <a:pt x="0" y="45"/>
                      <a:pt x="20" y="15"/>
                      <a:pt x="3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43280" y="135432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33880" y="227628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357560" y="235656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14720" y="428796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36720" y="135432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70720" y="2104920"/>
                <a:ext cx="2019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28240" y="4398480"/>
                <a:ext cx="2016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79640" y="2329920"/>
                <a:ext cx="2019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88000" y="1251720"/>
                <a:ext cx="2016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92640" y="1251720"/>
                <a:ext cx="2019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67480" y="233280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48360" y="37810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38600" y="37126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56280" y="242820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11720" y="1602000"/>
                <a:ext cx="652320" cy="2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или 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01080" y="40366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94480" y="280908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62680" y="277920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81480" y="1807920"/>
                <a:ext cx="69048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или</a:t>
                </a: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 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032280" y="1628640"/>
                <a:ext cx="17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0920" y="371628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851280" y="231300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692360" y="242100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457440" y="37767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2843280" y="4041720"/>
            <a:ext cx="1998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4360" y="2781360"/>
            <a:ext cx="20016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9280" y="2816280"/>
            <a:ext cx="1998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800360"/>
            <a:ext cx="1998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27640" y="1628640"/>
            <a:ext cx="439236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оду Платон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5 77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) 5125-летни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к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лендаря Майя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торяется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 раз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 в граничных точк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инается новый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Длинный Сче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охи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НС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тмечены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ты рассматриваемых событий особой истор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и отмечены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ыт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оизошло три Платоновых года назад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мент важнейшего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НС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соединения Зимн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лнцестояния с Центром Галак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0760" y="2435400"/>
            <a:ext cx="56880" cy="5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77080" y="2852640"/>
            <a:ext cx="64800" cy="716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12360" y="1989000"/>
            <a:ext cx="58680" cy="5580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560" y="4653000"/>
            <a:ext cx="870912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ять циклов календаря Майя практически точно укладывается в один год Платона, приче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Окончание очередного цикла календаря Майя 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1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актически совпадает с важнейшим из ВНС  – с прохождени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ки Зимнего Солнцестояния через плоскость Галактики на фоне  Центра Галак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Начало текущего цикла календаря Майя 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актически совпадает с началом новой эры – эры Кали Юги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Событ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затопление Посейдониса) произошло точно посредине (в мидпоинте) между началами третьего цик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единений  и четвертого цикла календаря Майя, приче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промежуток времени от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до  (3) составляет 5137 лет, что совпадает с длительностью цикла календаря Майя и Т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промежуток времени от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до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актически совпадает с длительности цикла Т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Событ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Крушение Даития и Рута) произошло в эпоху важнейшего из ВНС  – с прохождением точки Зимн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лнцестояния через плоскость Галактики на фоне  Центра Галакт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Циклы ВНС и Длинного счета (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олнц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Календаря Май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 Звездном году (цикл прецессии равноденствий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7280" y="262080"/>
            <a:ext cx="8605800" cy="633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3280" y="404640"/>
            <a:ext cx="83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Ускорение эволюционного времени перед точкой бифурк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5192640"/>
            <a:ext cx="61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3753000"/>
            <a:ext cx="17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06040" y="955440"/>
            <a:ext cx="5670000" cy="1215000"/>
            <a:chOff x="1706040" y="955440"/>
            <a:chExt cx="5670000" cy="1215000"/>
          </a:xfrm>
        </p:grpSpPr>
        <p:grpSp>
          <p:nvGrpSpPr>
            <p:cNvPr id="246" name=""/>
            <p:cNvGrpSpPr/>
            <p:nvPr/>
          </p:nvGrpSpPr>
          <p:grpSpPr>
            <a:xfrm>
              <a:off x="1706040" y="978120"/>
              <a:ext cx="3852360" cy="1188720"/>
              <a:chOff x="1706040" y="978120"/>
              <a:chExt cx="3852360" cy="118872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924560" y="1038960"/>
                <a:ext cx="360" cy="74736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1858680" y="1684800"/>
                <a:ext cx="3623760" cy="338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45800" y="1058760"/>
                <a:ext cx="3087360" cy="659880"/>
              </a:xfrm>
              <a:custGeom>
                <a:avLst/>
                <a:gdLst/>
                <a:ahLst/>
                <a:rect l="l" t="t" r="r" b="b"/>
                <a:pathLst>
                  <a:path w="5332" h="1171">
                    <a:moveTo>
                      <a:pt x="0" y="1171"/>
                    </a:moveTo>
                    <a:cubicBezTo>
                      <a:pt x="58" y="1158"/>
                      <a:pt x="131" y="1145"/>
                      <a:pt x="210" y="1111"/>
                    </a:cubicBezTo>
                    <a:cubicBezTo>
                      <a:pt x="289" y="1077"/>
                      <a:pt x="407" y="1017"/>
                      <a:pt x="472" y="968"/>
                    </a:cubicBezTo>
                    <a:cubicBezTo>
                      <a:pt x="537" y="919"/>
                      <a:pt x="537" y="895"/>
                      <a:pt x="600" y="817"/>
                    </a:cubicBezTo>
                    <a:cubicBezTo>
                      <a:pt x="663" y="739"/>
                      <a:pt x="789" y="592"/>
                      <a:pt x="852" y="499"/>
                    </a:cubicBezTo>
                    <a:cubicBezTo>
                      <a:pt x="915" y="406"/>
                      <a:pt x="915" y="324"/>
                      <a:pt x="978" y="259"/>
                    </a:cubicBezTo>
                    <a:cubicBezTo>
                      <a:pt x="1041" y="194"/>
                      <a:pt x="1177" y="123"/>
                      <a:pt x="1230" y="109"/>
                    </a:cubicBezTo>
                    <a:cubicBezTo>
                      <a:pt x="1283" y="95"/>
                      <a:pt x="1282" y="143"/>
                      <a:pt x="1296" y="175"/>
                    </a:cubicBezTo>
                    <a:cubicBezTo>
                      <a:pt x="1310" y="207"/>
                      <a:pt x="1307" y="159"/>
                      <a:pt x="1314" y="301"/>
                    </a:cubicBezTo>
                    <a:cubicBezTo>
                      <a:pt x="1321" y="443"/>
                      <a:pt x="1327" y="888"/>
                      <a:pt x="1338" y="1027"/>
                    </a:cubicBezTo>
                    <a:cubicBezTo>
                      <a:pt x="1349" y="1166"/>
                      <a:pt x="1328" y="1128"/>
                      <a:pt x="1380" y="1133"/>
                    </a:cubicBezTo>
                    <a:cubicBezTo>
                      <a:pt x="1432" y="1138"/>
                      <a:pt x="1568" y="1126"/>
                      <a:pt x="1650" y="1057"/>
                    </a:cubicBezTo>
                    <a:cubicBezTo>
                      <a:pt x="1732" y="988"/>
                      <a:pt x="1807" y="810"/>
                      <a:pt x="1872" y="721"/>
                    </a:cubicBezTo>
                    <a:cubicBezTo>
                      <a:pt x="1937" y="632"/>
                      <a:pt x="1996" y="586"/>
                      <a:pt x="2040" y="523"/>
                    </a:cubicBezTo>
                    <a:cubicBezTo>
                      <a:pt x="2084" y="460"/>
                      <a:pt x="2101" y="403"/>
                      <a:pt x="2136" y="343"/>
                    </a:cubicBezTo>
                    <a:cubicBezTo>
                      <a:pt x="2171" y="283"/>
                      <a:pt x="2196" y="216"/>
                      <a:pt x="2250" y="163"/>
                    </a:cubicBezTo>
                    <a:cubicBezTo>
                      <a:pt x="2304" y="110"/>
                      <a:pt x="2400" y="27"/>
                      <a:pt x="2460" y="25"/>
                    </a:cubicBezTo>
                    <a:cubicBezTo>
                      <a:pt x="2520" y="23"/>
                      <a:pt x="2571" y="73"/>
                      <a:pt x="2610" y="151"/>
                    </a:cubicBezTo>
                    <a:cubicBezTo>
                      <a:pt x="2649" y="229"/>
                      <a:pt x="2677" y="406"/>
                      <a:pt x="2692" y="496"/>
                    </a:cubicBezTo>
                    <a:cubicBezTo>
                      <a:pt x="2707" y="586"/>
                      <a:pt x="2684" y="590"/>
                      <a:pt x="2700" y="691"/>
                    </a:cubicBezTo>
                    <a:cubicBezTo>
                      <a:pt x="2716" y="792"/>
                      <a:pt x="2704" y="1065"/>
                      <a:pt x="2790" y="1103"/>
                    </a:cubicBezTo>
                    <a:cubicBezTo>
                      <a:pt x="2876" y="1141"/>
                      <a:pt x="3101" y="1018"/>
                      <a:pt x="3216" y="919"/>
                    </a:cubicBezTo>
                    <a:cubicBezTo>
                      <a:pt x="3331" y="820"/>
                      <a:pt x="3420" y="639"/>
                      <a:pt x="3480" y="511"/>
                    </a:cubicBezTo>
                    <a:cubicBezTo>
                      <a:pt x="3540" y="383"/>
                      <a:pt x="3534" y="235"/>
                      <a:pt x="3576" y="151"/>
                    </a:cubicBezTo>
                    <a:cubicBezTo>
                      <a:pt x="3618" y="67"/>
                      <a:pt x="3690" y="0"/>
                      <a:pt x="3732" y="7"/>
                    </a:cubicBezTo>
                    <a:cubicBezTo>
                      <a:pt x="3774" y="14"/>
                      <a:pt x="3807" y="107"/>
                      <a:pt x="3828" y="193"/>
                    </a:cubicBezTo>
                    <a:cubicBezTo>
                      <a:pt x="3849" y="279"/>
                      <a:pt x="3847" y="434"/>
                      <a:pt x="3858" y="523"/>
                    </a:cubicBezTo>
                    <a:cubicBezTo>
                      <a:pt x="3869" y="612"/>
                      <a:pt x="3881" y="666"/>
                      <a:pt x="3892" y="728"/>
                    </a:cubicBezTo>
                    <a:cubicBezTo>
                      <a:pt x="3903" y="790"/>
                      <a:pt x="3912" y="843"/>
                      <a:pt x="3922" y="893"/>
                    </a:cubicBezTo>
                    <a:cubicBezTo>
                      <a:pt x="3932" y="943"/>
                      <a:pt x="3937" y="994"/>
                      <a:pt x="3952" y="1028"/>
                    </a:cubicBezTo>
                    <a:cubicBezTo>
                      <a:pt x="3967" y="1062"/>
                      <a:pt x="3977" y="1100"/>
                      <a:pt x="4012" y="1096"/>
                    </a:cubicBezTo>
                    <a:cubicBezTo>
                      <a:pt x="4047" y="1092"/>
                      <a:pt x="4069" y="1109"/>
                      <a:pt x="4164" y="1003"/>
                    </a:cubicBezTo>
                    <a:cubicBezTo>
                      <a:pt x="4259" y="897"/>
                      <a:pt x="4484" y="588"/>
                      <a:pt x="4584" y="457"/>
                    </a:cubicBezTo>
                    <a:cubicBezTo>
                      <a:pt x="4684" y="326"/>
                      <a:pt x="4694" y="291"/>
                      <a:pt x="4764" y="217"/>
                    </a:cubicBezTo>
                    <a:cubicBezTo>
                      <a:pt x="4834" y="143"/>
                      <a:pt x="4939" y="19"/>
                      <a:pt x="5002" y="16"/>
                    </a:cubicBezTo>
                    <a:cubicBezTo>
                      <a:pt x="5065" y="13"/>
                      <a:pt x="5116" y="122"/>
                      <a:pt x="5145" y="196"/>
                    </a:cubicBezTo>
                    <a:cubicBezTo>
                      <a:pt x="5174" y="270"/>
                      <a:pt x="5164" y="369"/>
                      <a:pt x="5175" y="458"/>
                    </a:cubicBezTo>
                    <a:cubicBezTo>
                      <a:pt x="5186" y="547"/>
                      <a:pt x="5203" y="667"/>
                      <a:pt x="5214" y="733"/>
                    </a:cubicBezTo>
                    <a:cubicBezTo>
                      <a:pt x="5225" y="799"/>
                      <a:pt x="5230" y="817"/>
                      <a:pt x="5242" y="856"/>
                    </a:cubicBezTo>
                    <a:cubicBezTo>
                      <a:pt x="5254" y="895"/>
                      <a:pt x="5272" y="929"/>
                      <a:pt x="5287" y="968"/>
                    </a:cubicBezTo>
                    <a:cubicBezTo>
                      <a:pt x="5302" y="1007"/>
                      <a:pt x="5323" y="1063"/>
                      <a:pt x="5332" y="10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06040" y="978120"/>
                <a:ext cx="1098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08000" y="1688400"/>
                <a:ext cx="504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661480" y="1785960"/>
                <a:ext cx="120960" cy="34560"/>
                <a:chOff x="2661480" y="1785960"/>
                <a:chExt cx="120960" cy="34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661480" y="1803240"/>
                  <a:ext cx="117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2664720" y="1785960"/>
                  <a:ext cx="13680" cy="34200"/>
                  <a:chOff x="2664720" y="1785960"/>
                  <a:chExt cx="13680" cy="34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V="1">
                    <a:off x="2664720" y="178596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667960" y="180324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2768760" y="1786320"/>
                  <a:ext cx="13680" cy="34200"/>
                  <a:chOff x="2768760" y="1786320"/>
                  <a:chExt cx="13680" cy="342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H="1">
                    <a:off x="2768760" y="180360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2769120" y="178632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" name=""/>
              <p:cNvGrpSpPr/>
              <p:nvPr/>
            </p:nvGrpSpPr>
            <p:grpSpPr>
              <a:xfrm>
                <a:off x="3495240" y="1785960"/>
                <a:ext cx="120960" cy="34560"/>
                <a:chOff x="3495240" y="1785960"/>
                <a:chExt cx="120960" cy="345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495240" y="1803240"/>
                  <a:ext cx="117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3498480" y="1785960"/>
                  <a:ext cx="13680" cy="34200"/>
                  <a:chOff x="3498480" y="1785960"/>
                  <a:chExt cx="13680" cy="342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V="1">
                    <a:off x="3498480" y="178596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501720" y="180324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3602520" y="1786320"/>
                  <a:ext cx="13680" cy="34200"/>
                  <a:chOff x="3602520" y="1786320"/>
                  <a:chExt cx="13680" cy="342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>
                    <a:off x="3602520" y="180360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flipV="1">
                    <a:off x="3602880" y="178632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4207320" y="1785960"/>
                <a:ext cx="120960" cy="34560"/>
                <a:chOff x="4207320" y="1785960"/>
                <a:chExt cx="120960" cy="34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207320" y="1803240"/>
                  <a:ext cx="117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4210560" y="1785960"/>
                  <a:ext cx="13680" cy="34200"/>
                  <a:chOff x="4210560" y="1785960"/>
                  <a:chExt cx="13680" cy="3420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210560" y="178596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213800" y="180324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4314600" y="1786320"/>
                  <a:ext cx="13680" cy="34200"/>
                  <a:chOff x="4314600" y="1786320"/>
                  <a:chExt cx="13680" cy="3420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>
                    <a:off x="4314600" y="180360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flipV="1">
                    <a:off x="4314960" y="178632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6" name=""/>
              <p:cNvGrpSpPr/>
              <p:nvPr/>
            </p:nvGrpSpPr>
            <p:grpSpPr>
              <a:xfrm>
                <a:off x="5006520" y="1785960"/>
                <a:ext cx="120960" cy="34560"/>
                <a:chOff x="5006520" y="1785960"/>
                <a:chExt cx="120960" cy="345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06520" y="1803240"/>
                  <a:ext cx="117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5009760" y="1785960"/>
                  <a:ext cx="13680" cy="34200"/>
                  <a:chOff x="5009760" y="1785960"/>
                  <a:chExt cx="13680" cy="342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V="1">
                    <a:off x="5009760" y="178596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013000" y="180324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5113800" y="1786320"/>
                  <a:ext cx="13680" cy="34200"/>
                  <a:chOff x="5113800" y="1786320"/>
                  <a:chExt cx="13680" cy="3420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flipH="1">
                    <a:off x="5113800" y="1803600"/>
                    <a:ext cx="136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 flipV="1">
                    <a:off x="5114160" y="1786320"/>
                    <a:ext cx="10080" cy="1692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"/>
              <p:cNvSpPr/>
              <p:nvPr/>
            </p:nvSpPr>
            <p:spPr>
              <a:xfrm>
                <a:off x="3512520" y="1983240"/>
                <a:ext cx="25344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82400" y="1847880"/>
                <a:ext cx="104040" cy="18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86040" y="1854000"/>
                <a:ext cx="8424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6548760" y="1983960"/>
              <a:ext cx="205560" cy="1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988600" y="955440"/>
              <a:ext cx="1310400" cy="1051200"/>
              <a:chOff x="5988600" y="955440"/>
              <a:chExt cx="1310400" cy="1051200"/>
            </a:xfrm>
          </p:grpSpPr>
          <p:sp>
            <p:nvSpPr>
              <p:cNvPr id="289" name=""/>
              <p:cNvSpPr/>
              <p:nvPr/>
            </p:nvSpPr>
            <p:spPr>
              <a:xfrm>
                <a:off x="6024600" y="1033560"/>
                <a:ext cx="360" cy="65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6031080" y="1690200"/>
                <a:ext cx="12679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17400" y="1162080"/>
                <a:ext cx="1149480" cy="532080"/>
              </a:xfrm>
              <a:custGeom>
                <a:avLst/>
                <a:gdLst/>
                <a:ahLst/>
                <a:rect l="l" t="t" r="r" b="b"/>
                <a:pathLst>
                  <a:path w="2100" h="938">
                    <a:moveTo>
                      <a:pt x="0" y="898"/>
                    </a:moveTo>
                    <a:cubicBezTo>
                      <a:pt x="96" y="897"/>
                      <a:pt x="463" y="893"/>
                      <a:pt x="588" y="892"/>
                    </a:cubicBezTo>
                    <a:cubicBezTo>
                      <a:pt x="713" y="891"/>
                      <a:pt x="680" y="892"/>
                      <a:pt x="749" y="892"/>
                    </a:cubicBezTo>
                    <a:cubicBezTo>
                      <a:pt x="818" y="892"/>
                      <a:pt x="907" y="894"/>
                      <a:pt x="1002" y="892"/>
                    </a:cubicBezTo>
                    <a:cubicBezTo>
                      <a:pt x="1097" y="890"/>
                      <a:pt x="1225" y="882"/>
                      <a:pt x="1320" y="878"/>
                    </a:cubicBezTo>
                    <a:cubicBezTo>
                      <a:pt x="1415" y="874"/>
                      <a:pt x="1483" y="886"/>
                      <a:pt x="1570" y="868"/>
                    </a:cubicBezTo>
                    <a:cubicBezTo>
                      <a:pt x="1657" y="850"/>
                      <a:pt x="1780" y="830"/>
                      <a:pt x="1840" y="768"/>
                    </a:cubicBezTo>
                    <a:cubicBezTo>
                      <a:pt x="1900" y="706"/>
                      <a:pt x="1912" y="584"/>
                      <a:pt x="1930" y="496"/>
                    </a:cubicBezTo>
                    <a:cubicBezTo>
                      <a:pt x="1948" y="408"/>
                      <a:pt x="1937" y="304"/>
                      <a:pt x="1946" y="240"/>
                    </a:cubicBezTo>
                    <a:cubicBezTo>
                      <a:pt x="1955" y="177"/>
                      <a:pt x="1958" y="0"/>
                      <a:pt x="1984" y="116"/>
                    </a:cubicBezTo>
                    <a:cubicBezTo>
                      <a:pt x="2010" y="232"/>
                      <a:pt x="2076" y="767"/>
                      <a:pt x="2100" y="938"/>
                    </a:cubicBez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88760" y="955440"/>
                <a:ext cx="32760" cy="10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62320" y="1690200"/>
                <a:ext cx="29520" cy="306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95600" y="1686960"/>
                <a:ext cx="29520" cy="306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44560" y="1690200"/>
                <a:ext cx="29520" cy="306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988600" y="1727640"/>
                <a:ext cx="88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008040" y="1663200"/>
                <a:ext cx="29520" cy="306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42520" y="1737720"/>
                <a:ext cx="88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79040" y="1741320"/>
                <a:ext cx="88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61120" y="1741320"/>
                <a:ext cx="88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828040" y="1062000"/>
              <a:ext cx="11016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7720" y="1687320"/>
              <a:ext cx="5832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90680" y="1881000"/>
              <a:ext cx="10080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776960" y="2709360"/>
            <a:ext cx="5720040" cy="3431160"/>
            <a:chOff x="1776960" y="2709360"/>
            <a:chExt cx="5720040" cy="3431160"/>
          </a:xfrm>
        </p:grpSpPr>
        <p:sp>
          <p:nvSpPr>
            <p:cNvPr id="305" name=""/>
            <p:cNvSpPr/>
            <p:nvPr/>
          </p:nvSpPr>
          <p:spPr>
            <a:xfrm>
              <a:off x="2040840" y="4245120"/>
              <a:ext cx="5272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4440" y="5562000"/>
              <a:ext cx="5344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025360" y="4674600"/>
              <a:ext cx="36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59920" y="3356640"/>
              <a:ext cx="36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4280" y="2721960"/>
              <a:ext cx="4867560" cy="1488240"/>
            </a:xfrm>
            <a:custGeom>
              <a:avLst/>
              <a:gdLst/>
              <a:ahLst/>
              <a:rect l="l" t="t" r="r" b="b"/>
              <a:pathLst>
                <a:path w="7667" h="2344">
                  <a:moveTo>
                    <a:pt x="0" y="2344"/>
                  </a:moveTo>
                  <a:cubicBezTo>
                    <a:pt x="160" y="2339"/>
                    <a:pt x="584" y="2326"/>
                    <a:pt x="960" y="2314"/>
                  </a:cubicBezTo>
                  <a:cubicBezTo>
                    <a:pt x="1336" y="2302"/>
                    <a:pt x="1986" y="2287"/>
                    <a:pt x="2257" y="2270"/>
                  </a:cubicBezTo>
                  <a:cubicBezTo>
                    <a:pt x="2528" y="2253"/>
                    <a:pt x="2332" y="2220"/>
                    <a:pt x="2587" y="2210"/>
                  </a:cubicBezTo>
                  <a:cubicBezTo>
                    <a:pt x="2842" y="2200"/>
                    <a:pt x="3490" y="2213"/>
                    <a:pt x="3787" y="2210"/>
                  </a:cubicBezTo>
                  <a:cubicBezTo>
                    <a:pt x="4084" y="2207"/>
                    <a:pt x="4230" y="2203"/>
                    <a:pt x="4367" y="2190"/>
                  </a:cubicBezTo>
                  <a:cubicBezTo>
                    <a:pt x="4504" y="2177"/>
                    <a:pt x="4442" y="2138"/>
                    <a:pt x="4607" y="2130"/>
                  </a:cubicBezTo>
                  <a:cubicBezTo>
                    <a:pt x="4772" y="2122"/>
                    <a:pt x="5159" y="2142"/>
                    <a:pt x="5357" y="2140"/>
                  </a:cubicBezTo>
                  <a:cubicBezTo>
                    <a:pt x="5555" y="2138"/>
                    <a:pt x="5685" y="2133"/>
                    <a:pt x="5797" y="2120"/>
                  </a:cubicBezTo>
                  <a:cubicBezTo>
                    <a:pt x="5909" y="2107"/>
                    <a:pt x="5902" y="2077"/>
                    <a:pt x="6027" y="2060"/>
                  </a:cubicBezTo>
                  <a:cubicBezTo>
                    <a:pt x="6152" y="2043"/>
                    <a:pt x="6425" y="2050"/>
                    <a:pt x="6547" y="2020"/>
                  </a:cubicBezTo>
                  <a:cubicBezTo>
                    <a:pt x="6669" y="1990"/>
                    <a:pt x="6670" y="1915"/>
                    <a:pt x="6757" y="1880"/>
                  </a:cubicBezTo>
                  <a:cubicBezTo>
                    <a:pt x="6844" y="1845"/>
                    <a:pt x="6990" y="1862"/>
                    <a:pt x="7067" y="1810"/>
                  </a:cubicBezTo>
                  <a:cubicBezTo>
                    <a:pt x="7144" y="1758"/>
                    <a:pt x="7164" y="1630"/>
                    <a:pt x="7217" y="1570"/>
                  </a:cubicBezTo>
                  <a:cubicBezTo>
                    <a:pt x="7270" y="1510"/>
                    <a:pt x="7330" y="1535"/>
                    <a:pt x="7387" y="1450"/>
                  </a:cubicBezTo>
                  <a:cubicBezTo>
                    <a:pt x="7444" y="1365"/>
                    <a:pt x="7515" y="1173"/>
                    <a:pt x="7557" y="1060"/>
                  </a:cubicBezTo>
                  <a:cubicBezTo>
                    <a:pt x="7599" y="947"/>
                    <a:pt x="7622" y="860"/>
                    <a:pt x="7637" y="770"/>
                  </a:cubicBezTo>
                  <a:cubicBezTo>
                    <a:pt x="7652" y="680"/>
                    <a:pt x="7642" y="648"/>
                    <a:pt x="7647" y="520"/>
                  </a:cubicBezTo>
                  <a:cubicBezTo>
                    <a:pt x="7652" y="392"/>
                    <a:pt x="7663" y="108"/>
                    <a:pt x="7667" y="0"/>
                  </a:cubicBez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79000" y="5055840"/>
              <a:ext cx="4928400" cy="468360"/>
            </a:xfrm>
            <a:custGeom>
              <a:avLst/>
              <a:gdLst/>
              <a:ahLst/>
              <a:rect l="l" t="t" r="r" b="b"/>
              <a:pathLst>
                <a:path w="7763" h="738">
                  <a:moveTo>
                    <a:pt x="0" y="738"/>
                  </a:moveTo>
                  <a:cubicBezTo>
                    <a:pt x="321" y="734"/>
                    <a:pt x="1541" y="720"/>
                    <a:pt x="1927" y="716"/>
                  </a:cubicBezTo>
                  <a:cubicBezTo>
                    <a:pt x="2313" y="712"/>
                    <a:pt x="2228" y="736"/>
                    <a:pt x="2316" y="715"/>
                  </a:cubicBezTo>
                  <a:cubicBezTo>
                    <a:pt x="2404" y="694"/>
                    <a:pt x="2411" y="615"/>
                    <a:pt x="2457" y="592"/>
                  </a:cubicBezTo>
                  <a:cubicBezTo>
                    <a:pt x="2503" y="569"/>
                    <a:pt x="2566" y="565"/>
                    <a:pt x="2593" y="575"/>
                  </a:cubicBezTo>
                  <a:cubicBezTo>
                    <a:pt x="2620" y="585"/>
                    <a:pt x="2599" y="629"/>
                    <a:pt x="2621" y="654"/>
                  </a:cubicBezTo>
                  <a:cubicBezTo>
                    <a:pt x="2643" y="679"/>
                    <a:pt x="2576" y="717"/>
                    <a:pt x="2724" y="725"/>
                  </a:cubicBezTo>
                  <a:cubicBezTo>
                    <a:pt x="2872" y="732"/>
                    <a:pt x="3232" y="704"/>
                    <a:pt x="3507" y="701"/>
                  </a:cubicBezTo>
                  <a:cubicBezTo>
                    <a:pt x="3782" y="697"/>
                    <a:pt x="4202" y="720"/>
                    <a:pt x="4374" y="701"/>
                  </a:cubicBezTo>
                  <a:cubicBezTo>
                    <a:pt x="4546" y="681"/>
                    <a:pt x="4510" y="617"/>
                    <a:pt x="4543" y="580"/>
                  </a:cubicBezTo>
                  <a:cubicBezTo>
                    <a:pt x="4576" y="543"/>
                    <a:pt x="4552" y="482"/>
                    <a:pt x="4569" y="480"/>
                  </a:cubicBezTo>
                  <a:cubicBezTo>
                    <a:pt x="4586" y="478"/>
                    <a:pt x="4618" y="537"/>
                    <a:pt x="4643" y="569"/>
                  </a:cubicBezTo>
                  <a:cubicBezTo>
                    <a:pt x="4668" y="601"/>
                    <a:pt x="4649" y="654"/>
                    <a:pt x="4721" y="671"/>
                  </a:cubicBezTo>
                  <a:cubicBezTo>
                    <a:pt x="4793" y="687"/>
                    <a:pt x="4891" y="672"/>
                    <a:pt x="5073" y="670"/>
                  </a:cubicBezTo>
                  <a:cubicBezTo>
                    <a:pt x="5255" y="667"/>
                    <a:pt x="5668" y="680"/>
                    <a:pt x="5811" y="654"/>
                  </a:cubicBezTo>
                  <a:cubicBezTo>
                    <a:pt x="5954" y="629"/>
                    <a:pt x="5899" y="560"/>
                    <a:pt x="5931" y="516"/>
                  </a:cubicBezTo>
                  <a:cubicBezTo>
                    <a:pt x="5963" y="473"/>
                    <a:pt x="5981" y="392"/>
                    <a:pt x="6003" y="393"/>
                  </a:cubicBezTo>
                  <a:cubicBezTo>
                    <a:pt x="6025" y="394"/>
                    <a:pt x="6043" y="482"/>
                    <a:pt x="6066" y="523"/>
                  </a:cubicBezTo>
                  <a:cubicBezTo>
                    <a:pt x="6089" y="564"/>
                    <a:pt x="6097" y="617"/>
                    <a:pt x="6141" y="638"/>
                  </a:cubicBezTo>
                  <a:cubicBezTo>
                    <a:pt x="6185" y="659"/>
                    <a:pt x="6263" y="650"/>
                    <a:pt x="6331" y="649"/>
                  </a:cubicBezTo>
                  <a:cubicBezTo>
                    <a:pt x="6399" y="647"/>
                    <a:pt x="6493" y="648"/>
                    <a:pt x="6551" y="627"/>
                  </a:cubicBezTo>
                  <a:cubicBezTo>
                    <a:pt x="6609" y="606"/>
                    <a:pt x="6643" y="578"/>
                    <a:pt x="6681" y="523"/>
                  </a:cubicBezTo>
                  <a:cubicBezTo>
                    <a:pt x="6719" y="468"/>
                    <a:pt x="6751" y="298"/>
                    <a:pt x="6777" y="299"/>
                  </a:cubicBezTo>
                  <a:cubicBezTo>
                    <a:pt x="6803" y="300"/>
                    <a:pt x="6809" y="474"/>
                    <a:pt x="6835" y="531"/>
                  </a:cubicBezTo>
                  <a:cubicBezTo>
                    <a:pt x="6861" y="588"/>
                    <a:pt x="6885" y="623"/>
                    <a:pt x="6931" y="638"/>
                  </a:cubicBezTo>
                  <a:cubicBezTo>
                    <a:pt x="6977" y="652"/>
                    <a:pt x="7069" y="645"/>
                    <a:pt x="7111" y="616"/>
                  </a:cubicBezTo>
                  <a:cubicBezTo>
                    <a:pt x="7153" y="587"/>
                    <a:pt x="7166" y="535"/>
                    <a:pt x="7183" y="466"/>
                  </a:cubicBezTo>
                  <a:cubicBezTo>
                    <a:pt x="7200" y="397"/>
                    <a:pt x="7192" y="189"/>
                    <a:pt x="7211" y="201"/>
                  </a:cubicBezTo>
                  <a:cubicBezTo>
                    <a:pt x="7230" y="213"/>
                    <a:pt x="7279" y="473"/>
                    <a:pt x="7296" y="538"/>
                  </a:cubicBezTo>
                  <a:cubicBezTo>
                    <a:pt x="7313" y="603"/>
                    <a:pt x="7290" y="584"/>
                    <a:pt x="7311" y="594"/>
                  </a:cubicBezTo>
                  <a:cubicBezTo>
                    <a:pt x="7332" y="603"/>
                    <a:pt x="7403" y="639"/>
                    <a:pt x="7421" y="599"/>
                  </a:cubicBezTo>
                  <a:cubicBezTo>
                    <a:pt x="7439" y="559"/>
                    <a:pt x="7407" y="428"/>
                    <a:pt x="7421" y="355"/>
                  </a:cubicBezTo>
                  <a:cubicBezTo>
                    <a:pt x="7435" y="282"/>
                    <a:pt x="7478" y="127"/>
                    <a:pt x="7504" y="159"/>
                  </a:cubicBezTo>
                  <a:cubicBezTo>
                    <a:pt x="7530" y="191"/>
                    <a:pt x="7555" y="479"/>
                    <a:pt x="7576" y="546"/>
                  </a:cubicBezTo>
                  <a:cubicBezTo>
                    <a:pt x="7597" y="613"/>
                    <a:pt x="7620" y="636"/>
                    <a:pt x="7631" y="560"/>
                  </a:cubicBezTo>
                  <a:cubicBezTo>
                    <a:pt x="7642" y="484"/>
                    <a:pt x="7631" y="94"/>
                    <a:pt x="7644" y="89"/>
                  </a:cubicBezTo>
                  <a:cubicBezTo>
                    <a:pt x="7657" y="84"/>
                    <a:pt x="7692" y="547"/>
                    <a:pt x="7711" y="533"/>
                  </a:cubicBezTo>
                  <a:cubicBezTo>
                    <a:pt x="7730" y="519"/>
                    <a:pt x="7749" y="10"/>
                    <a:pt x="7756" y="5"/>
                  </a:cubicBezTo>
                  <a:cubicBezTo>
                    <a:pt x="7763" y="0"/>
                    <a:pt x="7752" y="397"/>
                    <a:pt x="7751" y="5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44640" y="4141800"/>
              <a:ext cx="37800" cy="1657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66200" y="4084560"/>
              <a:ext cx="41760" cy="1687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9080" y="4042440"/>
              <a:ext cx="22680" cy="1702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2920" y="3935880"/>
              <a:ext cx="22680" cy="1668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46320" y="3787560"/>
              <a:ext cx="15120" cy="1813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40720" y="3577680"/>
              <a:ext cx="30240" cy="2030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14400" y="5951520"/>
              <a:ext cx="61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03720" y="5951520"/>
              <a:ext cx="61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54560" y="5856120"/>
              <a:ext cx="61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37120" y="5856120"/>
              <a:ext cx="61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48600" y="5856120"/>
              <a:ext cx="6120" cy="1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8680" y="5502240"/>
              <a:ext cx="5832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00720" y="4659120"/>
              <a:ext cx="9324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6960" y="3319560"/>
              <a:ext cx="11016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26080" y="4160880"/>
              <a:ext cx="5832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98920" y="5623920"/>
              <a:ext cx="1515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04520" y="2709360"/>
              <a:ext cx="30240" cy="289152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04520" y="423396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15680" y="554760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84720" y="5623200"/>
              <a:ext cx="10080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0640" y="5641920"/>
              <a:ext cx="12672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99720" y="4321440"/>
              <a:ext cx="12672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40840" y="423324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06280" y="554832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32720" y="5623920"/>
              <a:ext cx="1515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35600" y="5623920"/>
              <a:ext cx="15156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55040" y="423324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29160" y="423756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53960" y="422928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37800" y="424080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20160" y="4468680"/>
              <a:ext cx="143640" cy="19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39600" y="5898240"/>
              <a:ext cx="15228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59920" y="4313160"/>
              <a:ext cx="27540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= T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56880" y="554832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77000" y="554760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89240" y="554760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9760" y="5555160"/>
              <a:ext cx="34200" cy="334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900000" y="6093000"/>
            <a:ext cx="770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Рис.2. .Сочетание двух циклов эволюционного времени (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b –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точки бифуркации Календаря Май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08000" y="2241720"/>
            <a:ext cx="770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Рис.1. Линейная развертка Эволюционного времени и фазы его изменения в точке бифур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297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2560" y="4653000"/>
            <a:ext cx="179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Р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ра смены рас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096320" cy="3792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16000" y="40464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очетание точек бифуркации эволюционных и локальных цик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3280" y="4941720"/>
            <a:ext cx="44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НС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поха Великого Небесного Соединения и ее орб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360" y="526572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КМ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– Календарь Май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2560" y="5553000"/>
            <a:ext cx="33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Фокусы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– фокусы кометы Хэйла-Бо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6160" y="5877000"/>
            <a:ext cx="34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АСВ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– точки бифуркации Календаря Май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6040" y="6273720"/>
            <a:ext cx="130320" cy="20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6259680"/>
            <a:ext cx="31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оды максимумов Солнечного цик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09320" y="4797360"/>
            <a:ext cx="3981240" cy="17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Желтая полос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отражает интервал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ред  21 декабря  2012  года,  на котором вс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очки  бифуркации  остаются  действенны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 частота появления критических точек – воз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ает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сле этой даты точки типа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К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АСВ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перестаю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ействовать,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Фокус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– неизвест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роме того, подходим к концу орба 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ВНС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920" y="115920"/>
            <a:ext cx="8821800" cy="66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657360"/>
            <a:ext cx="8677080" cy="84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Крупнейшие землетрясения после появления кометы Хэйла-Боппа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3 дня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8.02.1997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Ира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7.1 балла. 1 600 жертв, десятки тысяч без к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0.05.1998. Афганистан. Стихия уносит жизни 4 00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7.08.1999. Турция, 7.4 балла. Около 17 000 жер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7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5 дней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1.09.1999.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айвань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7.9 балла. Погибли 2 500 тысячи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6.01.2001. Индия, 7.9 баллов. 20 000 жертв, более миллиона. лишаются кр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1.05.2003. Алжир. Погибают 2 00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7 дней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4.02.2004.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Марокк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. Погибло более 50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5 дней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6.12.2004.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Суматр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: землетрясение в 9 баллов и вызванное им цунами унос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жизни более, чем 300 000 человек в разных странах азиатского регио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4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3 дня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8.03.2005.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Суматра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. Гибнет 1 30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8.10.2005. Пакистан, 7.6 баллов. 73 000 жертв, миллионы лишены кр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7.05.2006. о. Ява, 6.2 балла. Гибнет почти 6 00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5.08.2007. В океане, около Перу. Погибло 519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2.05.2008. Китай, 7.8 баллов. 87 000 жер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1 день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06.04.2009.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Италия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(г. Аквила ), 5.8 баллов. Жертвы (308) и разруш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ызвали мировой резонанс. Самое разрушительное в Италии с 1980 г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Прим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: 20 сентября – на фокусе 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7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) – в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Италии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начался беспрецедентный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суд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н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сейсмологами по обвинению в непреднамеренном убийстве более 300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2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9 дней)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2.01.2010 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Гаити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. Более 200 000 жертв. За ним последовала эпидемия хол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4 дня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7.02.2010 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Чили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. Несколько тысяч человек погибло и пропало без в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В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3 дня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4.04.2010 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Китай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6.9 баллов. Погибло более 2000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, орб 3 дня)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1.03.2011 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Япония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Погибло более 27 тысяч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260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Примеры трендов по Фокусам кометы Хэйла-Бо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5760" y="5842080"/>
            <a:ext cx="7328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Вероятность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того, что 10 из 18 землетрясений случайно попали в 4-дневный орб фоку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оценивается Величиной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0.000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Иначе говоря, имеется лишь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1 шанс из 1000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что 10 крупнейш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землетрясений из 18 произошли на фокусах кометы ХБ “случайно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87520" y="257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578640" y="257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87520" y="491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179280" y="15228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2920" y="115920"/>
            <a:ext cx="8928000" cy="10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66ff"/>
                </a:solidFill>
                <a:latin typeface="Arial"/>
              </a:rPr>
              <a:t>Самые разрушительные из крупнейших землетрясений в эпоху кометы Хэйла-Бо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Индонезия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26 декабря 2004 (в 5-дн. орбе фокуса Т1, 21 декабр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Одной из самых ужасных катастроф в известной истории человечества. Его магнитуда (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9.3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) входит в тройку максимальных значений, а длительность – максимальная из известн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Сместило земную ось на 6 сантиметров. 30-метровые волны унесли жизни около 230 тыс.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Гаити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12 января 2010 г. (в 9-дневном орбе фокуса Т2, 3 январ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Магнитуда землетрясения составила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7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баллов. Число жертв составило от 50 000 до 200 000 человек. Разрушение жилья, водоснабжения и канализации вызвали вспышку холеры, которая продолжалась 2 года; заболело 252 640 человек, из которых к марту 2011 умерло 4672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Чили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27 февраля 2010 г. (в 4-дневном орбе фокуса Т3, 3 мар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Самое сильное землетрясение в Чили (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8.8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) с 1960 г. и в мире - с Индонезии в 2004  и до Японии в 2011 Цунами, опустошило несколько городов Чили, вызвало повреждения в Калифорнии и Япо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Земная ось сдвинулась на 8 см., земные сутки сократились на 1.26 мкс., 9% населения лишились жил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Япония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11 марта 2011 г. (в 2-дневном орбе фокуса Т8, 13 мар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еликое Восточно-Японское землетрясение (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9.0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) - самое мощное из всех, которые возникали в Японии  и  одним из пяти самых мощных за период регистрации. Чрезвычайно разрушительное цунами: высота которого достигала 40.5 м, а максимальное прохождение вглубь территории – 10 км. Остров Хонсю сдвинулся на 2.4 метра  к Востоку, а ось Земли сместилась на 10 – 25 см. Продолжительность земных суток сократилось на 1.6 мк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Новая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Зеландия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вторая Фукусима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” 2011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Серия землетрясений гораздо сильнее ударила по экономике Новой Зеландии, чем в Японии: по ущербу они вывели эту страну на второе место после Япо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Т7 4 сентября 2010 Землетрясение в Крайстчёрче (2010) с магнитудой 7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Т3 22 февраля 2011 разрушительное землетрясение магнитудой 6,3; погибли свыше 240 челове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Т6 6 июля В Новой Зеландии произошло мощное землетрясение магнитудой 7,8. Оно оказалось самым мощным. Возникло цунами, высота которого у новозеландских островов составила около м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Т1 23 декабря Землетрясение в Новой Зеландии:  проведена эвакуация, 15 тысяч человек без с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6000" y="15228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1640" y="225360"/>
            <a:ext cx="8425080" cy="10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66ff"/>
                </a:solidFill>
                <a:latin typeface="Arial"/>
              </a:rPr>
              <a:t>Техногенные катастрофы. Авиация и космонав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cc0099"/>
                </a:solidFill>
                <a:latin typeface="Comic Sans MS"/>
              </a:rPr>
              <a:t>*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Начал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Arial"/>
              </a:rPr>
              <a:t>лавины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катастроф: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 фокус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7 – 11 апреля) в 2010 г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9.04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В Воронеже аварийно приземлился Ан-24 из 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0.04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Лавина накрыла вертолет, севший у сопки на Камчатке: 10 человек погибл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0.04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Афганистан: сбит вертолет США CV-22; погибло 4 человека, остальные – ран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0.04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Смоленск: в авиакатастрофе погиб Президент Польши и еще 95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За 30 лет разбилось 5 президентских самолетов, но такой массовой гибели не было ни разу. Среди них один за период действия фокусов: 2004г.– 26 февраля (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, 3 марта), Президент Македон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На этом ж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фокусе,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проявился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синтез всех факторов влияни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– природных, техногенных и социальных -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беспрецедентные по масштабам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со времени Второй мировой войны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4.04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ачало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авиаколлапса в Европ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; прервано авиасообщение с другими континентами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За последние годы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все крупнейшие авиакатастрофы в России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произошли именно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а фокус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7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16 сентября)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4 сентября      2008 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Пермь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         Boeing 737, 88 жер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7 – 11 апреля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0 апреля          2010 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Смоленск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  Ту-154 Президента Польши, 96 жер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3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марта)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5 март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      2011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Белгород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    Крушение Ан-148, 6 жер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7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16 сентября)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7 сентября      2011 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Ярославль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Як-42, 43 жерт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Только чудом массовые жертвы не возникли в следующих двух авариях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также на фокусах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7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16 сент.) 7 сентября 2010 г.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Ком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аварийная посадку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Ту-154М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2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января) 1 января 2011 г.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Сургут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у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Ту-154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загорелась турб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Подобные происшествия преследуют не только Россию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НЛО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 также склонны проявляться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на фокусах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кометы Хэйла-Боп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1665360"/>
            <a:ext cx="856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292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8120" y="271440"/>
            <a:ext cx="8611920" cy="10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Три волны мирового финансового криз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15 сентября 2008 года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–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на фокусе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Т7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(16 сентября),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с лавины банкротств  крупнейших финансов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корпораций в США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началась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“взрывная” фаза мирового финансового (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долгового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)</a:t>
            </a:r>
            <a:r>
              <a:rPr b="1" i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кризиса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На резонансном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фокусе Т6’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(14 июля), и эволюционной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очкой бифуркац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BP17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(16 июля 2011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возникла,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реальная угроза усилением кризис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Угроза дефолта СШ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Впервые в истории кредитный 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рейтинг США понижен на один пункт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Мировой рынок акций лихорадил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как в начале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кризиса 2008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: за неделю он 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Arial"/>
              </a:rPr>
              <a:t>потерял более $2,6 трилл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Мировые лидеры срочно ищут меры предупреждения начала нового глобального кризи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Comic Sans MS"/>
              </a:rPr>
              <a:t>*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На фокусе Т7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(16 сентября),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как и в 2008,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началась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вторая фаза мирового кризиса;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в этот раз его у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азывают “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Великой депрессие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”, т.к. он вышел за рамки долговых обязатель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ЕВРОСОЮЗ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 угроза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нового мирового кризис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Глава Европейского ЦБ: эпицентром нового кризиса станет зона ев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Рынки Европы опустились до минимума за 26 меся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Европейский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банковский индекс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опустился, достигнув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минимальног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уровня с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2009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Инфляция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в еврозоне ускорилась в сентябре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до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максимума с 2008 г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Впервые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за два года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производственный сектор еврозоны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в сентябре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сокращается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АЗИЯ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: рынки обвалились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Ключевой индекс Токийской биржи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упал до минимума 2,5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СШ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ФРС предупредила о существенных рисках замедления эконом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Сорос: в США уже началась вторая волна реце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Чтобы избежать стагнации, объявлено о запуске специальной программы на $400 миллиард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МВФ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предупреждает о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самых больших угрозах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для мировой финансовой системе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с кризиса 200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Мировые финансовые рынки</a:t>
            </a:r>
            <a:r>
              <a:rPr b="1" lang="en-US" sz="20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накрыл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цунами образца 2008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 года: рухнули биржи, нефть, евро и золо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За неделю (15-22 сент.)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стоимость ценных бумаг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на ведущих рынках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упал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на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$3.5 триллио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86960" y="235080"/>
            <a:ext cx="7506720" cy="10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елигиозная нетерп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7 (16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сентября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 сентября, 2010. Два священника в США демонстративно сожгли 2 экземпляра Ко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2 сентября, 2010. Афганистан: 2 человека убиты, 7 ранено при разгоне антиамерикан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демонстрации в знак протеста против сожжения Кор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3 сентября, 2010. Австралиец скурил Коран и Библию и выложил ролик в 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4 (20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0 марта, 2011. Священник во Флориде демонстративно сжег Коран перед толп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ТВ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(7-11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апреля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 апреля, 2011 Афганистан: несколько тысяч человек протестуют против сожжения Кора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ротесты привели к гибели 8 сотрудников ООН, 10 дипломатов ранено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 апреля Пастор, сжегший Коран, не считает себя ответственным за события в Афганиста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3 апреля Тысячи демонстрантов в Джелалабаде протестуют против сожжения Ко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4 апреля Афганистан: толпа атаковала офис ООН в Кандагаре, при разгоне погибло 100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десятки раненых 10 апреля: Афганистан: ситуация крайне раскалена, всю неделю объекты НА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атакуются во всех район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3 (3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2 февраля, 2012: сожжение Корана на базе НАТО в Баграме снова взорвало всю страну, прич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 еще  большей мере и с большим числом жертв среди сотрудников и служащих НАТО, чем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редыдущие случа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6000" y="368280"/>
            <a:ext cx="8901000" cy="9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рроризм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Т7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(16 сентября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333399"/>
                </a:solidFill>
                <a:latin typeface="Arial"/>
              </a:rPr>
              <a:t>14 сентября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, 2005. Витебск. На троллейбусной остановке около горпарка </a:t>
            </a:r>
            <a:r>
              <a:rPr b="0" lang="ru-RU" sz="2400" spc="-1" strike="noStrike" baseline="-25000">
                <a:solidFill>
                  <a:srgbClr val="cc0099"/>
                </a:solidFill>
                <a:latin typeface="Arial"/>
              </a:rPr>
              <a:t>взорван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бан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начиненная гвоздями и болтами. ранено 2 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22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Arial"/>
              </a:rPr>
              <a:t>сентября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2005.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Витебск. В сотне метров от места первого взрыва у входа в каф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cc0099"/>
                </a:solidFill>
                <a:latin typeface="Arial"/>
              </a:rPr>
              <a:t>взорван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такое же устройство. Ранено 50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Т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4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юля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4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Arial"/>
              </a:rPr>
              <a:t>июля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2008.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Минск: на День независимости во время гала-концерта, где присутствов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президент, около полуночи в толпе </a:t>
            </a:r>
            <a:r>
              <a:rPr b="0" lang="ru-RU" sz="2400" spc="-1" strike="noStrike" baseline="-25000">
                <a:solidFill>
                  <a:srgbClr val="cc0099"/>
                </a:solidFill>
                <a:latin typeface="Arial"/>
              </a:rPr>
              <a:t>взорван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самодельная бомба того же типа. 55 челов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анено, из них 47  госпитализировано. Найдена </a:t>
            </a:r>
            <a:r>
              <a:rPr b="0" lang="ru-RU" sz="2400" spc="-1" strike="noStrike" baseline="-25000">
                <a:solidFill>
                  <a:srgbClr val="cc0099"/>
                </a:solidFill>
                <a:latin typeface="Arial"/>
              </a:rPr>
              <a:t>ещ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одна неразорвавшаяся бом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Т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7-11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преля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1 апреля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, 2011.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Минс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Беспрецедентный теракт в Белоруссии: при </a:t>
            </a:r>
            <a:r>
              <a:rPr b="0" lang="ru-RU" sz="2400" spc="-1" strike="noStrike" baseline="-25000">
                <a:solidFill>
                  <a:srgbClr val="cc0099"/>
                </a:solidFill>
                <a:latin typeface="Arial"/>
              </a:rPr>
              <a:t>взрыве в метр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5 убито, до 200  человек ранено, из них 30 – тяжело. Мощность заряда 5 – 7 кг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тротиловом эквиваленте 13 апреля, 2011. Минск: все террористы арестованы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4 апреля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2011.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Террористы признали свою вину. Их главарь – Дмитрий Коновалов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заявил, что ему доставляло удовольствие видеть мучения людей. Он признался и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предыдущих теракт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Т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16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сентября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5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Arial"/>
              </a:rPr>
              <a:t>сентября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011.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Минск: </a:t>
            </a:r>
            <a:r>
              <a:rPr b="0" lang="ru-RU" sz="2400" spc="-1" strike="noStrike" baseline="-25000">
                <a:solidFill>
                  <a:srgbClr val="cc0099"/>
                </a:solidFill>
                <a:latin typeface="Arial"/>
              </a:rPr>
              <a:t>начало процесс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над бомбистами – наиболее резонанс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в истории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640" y="40464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Хаос в математике, политике и эзоте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19400" y="3500280"/>
            <a:ext cx="6671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еустойчивость (а) и точка бифуркации (б) процесса в отношении малого параметра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1920" y="3895560"/>
            <a:ext cx="775224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99"/>
                </a:solidFill>
                <a:latin typeface="Arial"/>
              </a:rPr>
              <a:t>Хаос в математик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– одна из форм 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описания условий неопределенност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при моделир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различного рода систем. Для этого используется теория вероятностей, динамические мод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теории катастроф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Задача состоит в определении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критических параметро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к которым система наиболее чувствитель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в отношении устойчивости и возникновения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точек бифуркац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С их помощью можно управлять сложными системами в требуемом направлении, причем 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минимальными затратами ресурсов –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метод малого параметр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о то, куда направляют систему, зависит от целей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В этом отношении хаос, сам по себе, ни плох и ни хорош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63640" y="944640"/>
            <a:ext cx="752472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225360"/>
            <a:ext cx="8605800" cy="6337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сновные ссы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Е.П. Блаватская. Тайная Доктрин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Письма Елены Ивановны Рерих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mrism.agni-age.net/russian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Время как мера длительности движения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strotheos.com/Downloads/TR.z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 2012: “Конец Света” или Вознесение?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strotheos.com/Downloads/TL.z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О современном понимании древних знаний об актуальных мировых цикл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strotheos.com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ownloads/Webinar.z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Астрология в широком смысле – как наука о циклах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Астрология в современном пони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ъекты: Зодиак, планеты, дома, аспекты и их производ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Циклы, порождаемые космическими процес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ъекты:  кометы, максимумы солнечной активности, циклы прецессий и др.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Циклы, описанные в эзотерических источни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бъекты: Календарь Майя, Расовые цик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дна – качественное описание свойств человека (социума) и природ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оличественное (в пространстве и времени) прогнозирование ситуаций с ним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40464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Хаос в математике, политике и эзотер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67520" y="817560"/>
            <a:ext cx="7730640" cy="9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Математические модели управления хаосом по сути и представлены в 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</a:rPr>
              <a:t>политической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управляемого хаос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”, которая основана на том, что в неустойчивой системе малы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екоторых параметров могут приводят к большим изменениям  результата в качественном и/и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количественном отношении, а также выводить систему на точки бифурк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Но ее применение на практике приводит к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вызыванию в обществе хаоса</a:t>
            </a:r>
            <a:r>
              <a:rPr b="1" lang="en-US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уже</a:t>
            </a:r>
            <a:r>
              <a:rPr b="1" lang="en-US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в прямом смысл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как неупорядоченности, разрыва связей и т.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Для этого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метод малого параметр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используется для возбуждения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пассионарност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масс (пос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их информационной обработки, прежде всего –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деидеологизац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 с целью перевода системы чере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выбранную точку бифуркации в требуемое состоя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Основной легендой прикрытия  при этом служит лозунг “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защиты демократ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Эта теория представляет основной инструмент проведения в жизнь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политики колонизац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ранее известный как принцип “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разделяй и властву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669900"/>
                </a:solidFill>
                <a:latin typeface="Comic Sans MS"/>
              </a:rPr>
              <a:t>                                         </a:t>
            </a:r>
            <a:r>
              <a:rPr b="1" lang="en-US" sz="2400" spc="-1" strike="noStrike" baseline="-25000">
                <a:solidFill>
                  <a:srgbClr val="669900"/>
                </a:solidFill>
                <a:latin typeface="Comic Sans MS"/>
              </a:rPr>
              <a:t>*   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omic Sans MS"/>
              </a:rPr>
              <a:t>*</a:t>
            </a:r>
            <a:r>
              <a:rPr b="1" lang="en-US" sz="2400" spc="-1" strike="noStrike" baseline="-25000">
                <a:solidFill>
                  <a:srgbClr val="669900"/>
                </a:solidFill>
                <a:latin typeface="Comic Sans MS"/>
              </a:rPr>
              <a:t>   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cc0099"/>
                </a:solidFill>
                <a:latin typeface="Arial"/>
              </a:rPr>
              <a:t>С</a:t>
            </a:r>
            <a:r>
              <a:rPr b="1" i="1" lang="en-US" sz="2400" spc="-1" strike="noStrike" baseline="-25000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</a:rPr>
              <a:t>эзотерической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точки зрения </a:t>
            </a:r>
            <a:r>
              <a:rPr b="1" i="1" lang="en-US" sz="2000" spc="-1" strike="noStrike" baseline="-25000">
                <a:solidFill>
                  <a:srgbClr val="cc0099"/>
                </a:solidFill>
                <a:latin typeface="Arial"/>
              </a:rPr>
              <a:t>вызывание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 хаос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ни что иное как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cc0099"/>
                </a:solidFill>
                <a:latin typeface="Arial"/>
              </a:rPr>
              <a:t>методология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черной маг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которая в наши дни стала лишь более изощренной за счет использования матема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вызывание хаос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во всех его формах –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революци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войны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и др. –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решительн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Arial"/>
              </a:rPr>
              <a:t>осуждаетс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как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ведуще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к 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разрушительным и инволюционным последств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7280" y="331920"/>
            <a:ext cx="76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Начало военных действий (важнейших фаз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МКВ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1160640"/>
            <a:ext cx="87850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6200" y="189000"/>
            <a:ext cx="8966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0000" y="152280"/>
            <a:ext cx="8161920" cy="10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Арабская вес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                                                                               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Тун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21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декаб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8 декабря 2010 г. Самосожжение и бунты в Тунисе. Первые жертв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ризнанное начало “Арабской весны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 – 8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2011.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сплеск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демонстраций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бунто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Тунис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Десятки жер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4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сле пика беспорядков президент покидает страну и власть переходит к воен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(7 – 11 апрел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8 апреля. Власти пытаются погасить новую волну антиправительственных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The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беспорядков. Вводитс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комендантский час. Собираться группами на улицах запрещено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33cc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Егип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Беспрецедентный теракт: взрыв бомбы в христианской церкви. 21 человек поги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 ответ христиане ворвались в мечеть и закидали мусульман камня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4 января. Возобновление протестов коптов: 4000 демонстрация требует наказать организаторов взры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3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7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Новы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осл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беспорядк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Каире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Сотни людей атаковали штаб секретной служ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5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24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5 марта Массы протестантов заполнили Каир с требованием рефор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7 – 11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апрел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7 апреля Взрыв у пирамид в Гизе, 3 ране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8-10 апреля Тысячи человек на площадь Тахрир требуют суда над бывшим президенто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ри разгоне есть жертвы и раненые. Новая волна беспорядков накрыла Каир, снова строят баррик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Впервые с зимы армия выступает против оппозиции, что вызвало усиление протес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Рост протестов в Сирии и Йемене: демонстрации переросли в вооруженные столкновения; десятки жер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4200" y="189000"/>
            <a:ext cx="8750520" cy="655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3920" y="357120"/>
            <a:ext cx="7598160" cy="10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Египет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16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(4 июл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ffff"/>
                </a:solidFill>
                <a:latin typeface="Arial"/>
              </a:rPr>
              <a:t>30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июня. Российский МИД рекомендует не посещать Египет из-за резкого обострения ситуации в этой стра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(возводят баррикады, вооруженные стычки с полицией). Ранено более 1000 человек, из них – 40 полицей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4-7 июля Взорван газопровод в Израиль. Беспорядки и демо в Суэце. Атакованы правительственные з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1600" spc="-1" strike="noStrike" baseline="-25000">
                <a:solidFill>
                  <a:srgbClr val="0033cc"/>
                </a:solidFill>
                <a:latin typeface="Arial"/>
              </a:rPr>
              <a:t>6’ (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4 июля), </a:t>
            </a:r>
            <a:r>
              <a:rPr b="1" lang="en-US" sz="1600" spc="-1" strike="noStrike" baseline="-25000">
                <a:solidFill>
                  <a:srgbClr val="cc0099"/>
                </a:solidFill>
                <a:latin typeface="Arial"/>
              </a:rPr>
              <a:t>BP</a:t>
            </a:r>
            <a:r>
              <a:rPr b="1" lang="ru-RU" sz="1600" spc="-1" strike="noStrike" baseline="-25000">
                <a:solidFill>
                  <a:srgbClr val="cc0099"/>
                </a:solidFill>
                <a:latin typeface="Arial"/>
              </a:rPr>
              <a:t>17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(16 июл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5 июля Сотни тысяч демонстрантов на площади Тахрир выдвинули ультиматум военной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1-22 июля Новое правительство принимает присягу. После стычек с полицией в Каире – сотни ране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1600" spc="-1" strike="noStrike" baseline="-25000">
                <a:solidFill>
                  <a:srgbClr val="0033cc"/>
                </a:solidFill>
                <a:latin typeface="Arial"/>
              </a:rPr>
              <a:t>7 </a:t>
            </a:r>
            <a:r>
              <a:rPr b="1" lang="ru-RU" sz="1600" spc="-1" strike="noStrike" baseline="-25000">
                <a:solidFill>
                  <a:srgbClr val="ffffff"/>
                </a:solidFill>
                <a:latin typeface="Arial"/>
              </a:rPr>
              <a:t>(16 сентябр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ffff"/>
                </a:solidFill>
                <a:latin typeface="Arial"/>
              </a:rPr>
              <a:t>9 сентября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Сотни протестантов атаковали посольство Израиля в Ги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9 сентября Центр Каира снова заполнен протестантами, требующими отменить комендантский час. Круп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беспорядки в Александрии, Суэце, Сина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16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(21 декабр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ffff"/>
                </a:solidFill>
                <a:latin typeface="Arial"/>
              </a:rPr>
              <a:t>18-19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декабря. Новая волна столкновений в Каире. Протестанты требуют передачи власти гражданск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правительству, которое они сами выберут. Бросают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камни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полицию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. 9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жертв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сотни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раненых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Протест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попытались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поджечь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парламент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2 убито, 950 ран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Луксор: Протестанты заблокировали проезд 40 туристически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автобус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Госсекретарь США выразила озабоченность ситуацией в Егип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0, 21 декабря. Столкновения с полицией в Каире резко обострились: 17 жертв, 1000 раненых, 600 в больни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декабря Объявлены результаты второго тура выборов в парламент: “братья-мусульмане” – 40 мес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салафиты (религиозная партия) – 15, либералы и независимые – лишь 4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cc0099"/>
                </a:solidFill>
                <a:latin typeface="Arial"/>
              </a:rPr>
              <a:t>BP</a:t>
            </a:r>
            <a:r>
              <a:rPr b="1" lang="ru-RU" sz="1600" spc="-1" strike="noStrike" baseline="-25000">
                <a:solidFill>
                  <a:srgbClr val="cc0099"/>
                </a:solidFill>
                <a:latin typeface="Arial"/>
              </a:rPr>
              <a:t>18 (1 февраля, 201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ffff"/>
                </a:solidFill>
                <a:latin typeface="Arial"/>
              </a:rPr>
              <a:t>1 февраля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Обезумевшие египетские болельщики устроили кровавую бойню в Порт-Саиде. Число жерт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массовой драки на футбольном стадионе достигло 74 человек, раненых не менее 1000. Беспорядк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трибунах начались во время матча между двумя египетскими клубами. В стране объявлен трехдневный трау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В последующих беспорядках в Каире пострадали не менее 120 человек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7200" y="223920"/>
            <a:ext cx="8021880" cy="10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2800" spc="-1" strike="noStrike" baseline="-25000">
                <a:solidFill>
                  <a:srgbClr val="0033cc"/>
                </a:solidFill>
                <a:latin typeface="Arial"/>
              </a:rPr>
              <a:t>Ли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2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янва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6 января Кардинальное ухудшение отношений Ливии со странами НАТО. Отзывают посла 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3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Безостановочные боестолкновения с повстанцами. захвачены 8 британских спецназов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8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(13 мар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0 марта Европарламент признал НПС единым легитимным органом Лив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1 марта Взятием Рас-Лануф войска Каддафи открыли путь на оплот повстанцев – Бенгаз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ервые военнопленные: войска Каддафи захватили голландский вертолет с солда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20 марта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8 марта Совбез ООН принимает резолюцию #1973,, разрешающую применение войск прот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Каддафи – кроме наземных опе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19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марта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США, Италия, Франция, Британия и Канада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начали военные действия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против сувере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правительства Ливии с ракетно-бомбовых атак. В первый же день выпущено более 100 крылатых рак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B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(7 – 11 апрел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 апреля Евросовет разрешил применение силы в Ливи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3 апреля Беженцы начали бунт на о. Лампеду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7 апреля США заморозили $34 млрд. на счетах Каддаф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9 апреля К этому дню совершено уже 1434боевых вылета, 150 в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2 апреля Италию оставили с беженцами наедине: Европа отказалась пускать их к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(4 июл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30 июля Впервые на саммите ЕС обсуждаются ограничения на Шенгенское соглаш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 июля В нарушение резолюции Совбеза Франция снабжает повстанцев оруж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4 июля Заявление с аргументацией о том, что силы НАТО хотят убить Каддаф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5 июля Дания впервые установила КПП на границе (из-за беженцев из Африк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" y="81000"/>
            <a:ext cx="8966520" cy="6669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5320" y="225360"/>
            <a:ext cx="7831080" cy="10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2800" spc="-1" strike="noStrike" baseline="-25000">
                <a:solidFill>
                  <a:srgbClr val="0033cc"/>
                </a:solidFill>
                <a:latin typeface="Arial"/>
              </a:rPr>
              <a:t>Ливия</a:t>
            </a:r>
            <a:r>
              <a:rPr b="1" lang="ru-RU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 baseline="-25000">
                <a:solidFill>
                  <a:srgbClr val="0033cc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6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’ (July 14), BP17 (July 1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5 июля США признали НПС единым легитимным органом Лив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2 июля Германия дает срочный кредит повстанцам на 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Euro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100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7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16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сентября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1 сентября Ливийские повстанцы уже сражаются друг с другом (12 убито, десятки ране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7 сентября Африканский союз и ООН признали ПН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-25000">
                <a:solidFill>
                  <a:srgbClr val="0033cc"/>
                </a:solidFill>
                <a:latin typeface="Arial"/>
              </a:rPr>
              <a:t>Последей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1 октября Муаммар 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Каддафи был казнен после того, как его задержали и издевались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. Поим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осуществлена по наводке американского беспилотника «хищник». По сообщениям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ity Pres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Johannesburg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) и др. источников считают, что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его уничтожение входило в планы НАТО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. 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частности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1 марта: сообщается, что крылатые ракеты использовались для уничтожения резиденции Каддаф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0 мая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uters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: по крайней мере 10 бомб были взорваны ночью у резиденции Каддаф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5 мая Начальник генштаба Британии: уничтожение Каддафи при бомбардировках не следу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рассматривать как нарушение зак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0 июня Высокопоставленный генерал НАТО на условиях анонимности подтвердил, что резолю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Совбеза разрешает наносить удары прямо по Каддаф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25 июня конгрессмен Майк Тернер со слов высокопоставленного генерала заявил, что НАТ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действительно ставит целью уничтожение Каддаф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4 июля Со слов международного посредника в Ливию прибыли коммандос для уничтожения Каддаф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(21 декабр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16 декабря Международный уголовный суд квалифицировал уничтожение Каддафи как уголовщи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T3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 (3 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марта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33cc"/>
                </a:solidFill>
                <a:latin typeface="Arial"/>
              </a:rPr>
              <a:t>6 марта, 2012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 baseline="-25000">
                <a:solidFill>
                  <a:srgbClr val="cc0099"/>
                </a:solidFill>
                <a:latin typeface="Arial"/>
              </a:rPr>
              <a:t>Ливия распадается на части</a:t>
            </a:r>
            <a:r>
              <a:rPr b="1" lang="ru-RU" sz="2000" spc="-1" strike="noStrike" baseline="-25000">
                <a:solidFill>
                  <a:srgbClr val="ffffff"/>
                </a:solidFill>
                <a:latin typeface="Arial"/>
              </a:rPr>
              <a:t>: два района (богатые нефтью) объявили автоном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60280"/>
            <a:ext cx="8605800" cy="626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012: ЭПОХА РЕЗОНАНСА ЛОКАЛЬНЫХ И ЭВОЛЮЦИО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ЦИКЛОВ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ТОЧКАХ ИХ КУЛЬМИН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Фокусы кометы Хэйла-Бопп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Критические точк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- календарные даты фоку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11-летний цикл Солнечной активности и его подциклы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Критические точк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– эпохи цикловых и локальных максимумов Солнечной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ктивности (по числу солнечных пятен, вспышек, коронарных выбросов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Календарь Майя и его точки бифурк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Точка бифуркаци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– 21 декабря 2012,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критические точк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– Аурические точки бифуркации Календаря Май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. Великое Небесное Соединение и Звездный г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Точка бифуркаци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– эпоха ВНС, совпадающая с окончанием Звездного г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. Эра смены Коренных Р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Точка бифуркации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распределена на десятилетия, начиная с середины ХХ ве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рификация новых моделей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татистический анализ синхронизма между прогнозами и наблюдаемыми тренд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АЯ ГИПОТЕЗ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онец 2012 года (21.12.2012) - эпоха кульминации всех этих пяти цикл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9800" y="343080"/>
            <a:ext cx="42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ОМЕТА Хэйла-Боппа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(Х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2360" y="1325520"/>
          <a:ext cx="3959280" cy="3605400"/>
        </p:xfrm>
        <a:graphic>
          <a:graphicData uri="http://schemas.openxmlformats.org/drawingml/2006/table">
            <a:tbl>
              <a:tblPr/>
              <a:tblGrid>
                <a:gridCol w="406440"/>
                <a:gridCol w="853920"/>
                <a:gridCol w="540000"/>
                <a:gridCol w="2158920"/>
              </a:tblGrid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зн.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M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бы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ит в обла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ождения коме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янв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е соединение Солнца и Х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еригелии Зем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а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 Солнц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Х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активной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Б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Т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мар. 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но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ме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ме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Б в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гелии кульминируе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рид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вен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а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ное затм. ХБ кульминируе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рид.Сатурн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лнце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1ап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луние, Луна в соед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ХБ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лем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Солнце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тен Кейтос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(14) ию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Б в соед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м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ириус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волуние. Земл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афели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сен. 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ное затме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ме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</a:t>
                      </a: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орб в 5 дне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что соответствует орбу в 5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казанных соединений на эклип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36800" y="907920"/>
            <a:ext cx="43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Временные (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календарные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) Фокусы кометы Х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39800" y="93672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Факторы влияния кометы Х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13520" y="1174680"/>
            <a:ext cx="475272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Стихийные бедстви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1. Цунами, штормы, навод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2. Землетрясения, извержения вулк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3. Массовая гибель от разрушений, пожаров, эпидем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Техногенные бедст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1. Крушения самолетов, на транспорте и др.; косм. объе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. Разрушения, пожары на инженерных объектах (шахты,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3. Ущерб для природы и с/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Социальные бедст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1. Психологические коллизии (серийные убийства, и т.п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2. Терроризм, бунты, револю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. Нарушение границ (закона, морали и территорий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4. Политические сканд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5. Экономические потряс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92720" y="4005360"/>
            <a:ext cx="4535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Географические фоку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меют меридиональный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рб в 5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что соответствует орб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5° для указанных соединений на эклипти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ключают (в том числе) меридианы: Москва – Харьков – Израиль, Нью-Йорк-Вашингтон, Корея, Афганистан, и д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5386320"/>
            <a:ext cx="84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истика за прошедшие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л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зволяет сделать вывод, что соответствующ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м фокусам точки Зодиака приобрели собственную значимость и оказывают влияние, когда Солнце проходит по н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08360" y="364500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Б.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Атака на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WTC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, Нью-Йорк, 2001г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5560" y="279360"/>
            <a:ext cx="654336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Локальные циклы Солнечной а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инхронизм локальных максимумов СА с мунданными событи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А.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ГКЧП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, 19 – 21 августа 199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58800" y="1424160"/>
            <a:ext cx="6181920" cy="1752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31840" y="3449520"/>
            <a:ext cx="686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50760" y="3378240"/>
            <a:ext cx="588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71640" y="309096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фик числа солнечных пяте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лева – по дням августа 1991 г., Справа – по месяцам 199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44600" y="4113360"/>
            <a:ext cx="4991400" cy="1685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92360" y="5877000"/>
            <a:ext cx="59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фик числа солнечных пяте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лева – по дням сентября 2001 г., Справа – по месяцам 200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5560" y="223920"/>
            <a:ext cx="654336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Локальные циклы Солнечной а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инхронизм локальных максимумов СА с мунданными событи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Землетрясение в Японии</a:t>
            </a: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 11 марта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50760" y="3378240"/>
            <a:ext cx="588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000" y="4941720"/>
            <a:ext cx="806472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о землетрясение произошл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2-дневном орбе </a:t>
            </a:r>
            <a:r>
              <a:rPr b="1" lang="ru-RU" sz="1400" spc="-1" strike="noStrike">
                <a:solidFill>
                  <a:srgbClr val="0066ff"/>
                </a:solidFill>
                <a:latin typeface="Arial"/>
              </a:rPr>
              <a:t>фокус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Т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марта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Вблиз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ального максимума С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12 дней число СП возросло в 12.5 раз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Н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ксимуме среднемесячных знач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7,10 марта произошл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ечные вспышки, по мощности беспрецедентные с 2006 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11 марта последовал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ощная геомагнитная бур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50920" y="1376280"/>
            <a:ext cx="5058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6240" y="260280"/>
            <a:ext cx="63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1-летние циклы Солнечной а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63640" y="1015920"/>
            <a:ext cx="5256360" cy="5472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13200" y="657360"/>
            <a:ext cx="64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астота возникнове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х событи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 годы и фазы Солнечного цик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25360"/>
            <a:ext cx="8605800" cy="633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04640"/>
            <a:ext cx="73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Аурическая спираль времени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алендаря Май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5192640"/>
            <a:ext cx="61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3753000"/>
            <a:ext cx="17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24360" y="944640"/>
            <a:ext cx="181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4360" y="981000"/>
            <a:ext cx="3276360" cy="9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25000">
                <a:solidFill>
                  <a:srgbClr val="0066ff"/>
                </a:solidFill>
                <a:latin typeface="Arial"/>
              </a:rPr>
              <a:t>Точки бифуркации Календаря Май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0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6 сентября 3114 г. До н.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9 мая        1156 г. До н.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2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7 апреля     55 г.н.э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20 января    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3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19 февраля 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4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22 ноября   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5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20 марта    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6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26 августа  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7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16 июля    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8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1  февраля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19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4  Июня   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20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19 августа 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31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20 декабря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BP3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21 декабря 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ffff"/>
                </a:solidFill>
                <a:latin typeface="Comic Sans MS"/>
              </a:rPr>
              <a:t>21 декабря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7280" y="262080"/>
            <a:ext cx="8605800" cy="633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76360" y="404640"/>
            <a:ext cx="60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Великое Небесное Соединение (ВН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0000" y="1017720"/>
            <a:ext cx="759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очечная оценка эпохи ВНС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мая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1998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нтервальные оценк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2.12.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1975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– 22.12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.20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оха трансформации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959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03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ериод повторени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раза за цикл Прецессии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500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е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3280" y="2889360"/>
            <a:ext cx="3205080" cy="2955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50920" y="4616280"/>
            <a:ext cx="61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27640" y="4581360"/>
            <a:ext cx="9925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роп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одиа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3321000"/>
            <a:ext cx="179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55040" y="3105000"/>
            <a:ext cx="8035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оляр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одиа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0560" y="2600280"/>
            <a:ext cx="5113440" cy="34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Тропический и Солярный Зодиаки на 201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г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елка дает направление фактической прецессии Тропического Зодиака вдоль Солярног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. Точки 0 Овна в обоих Зодиаках заканчивают пу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 Стрельцу и синхронно входят в знаки Козеро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. Наступает эпоха Козеро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. Эпоха Козерога проходит под знаком Водолея: т.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 знаки совпадают, на Землю энергии Водо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едаются в неискаженном ви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 Символ ВНС – 8-конечный крест       как налож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ного и Солярного крестов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272360" y="5520960"/>
            <a:ext cx="212400" cy="213120"/>
            <a:chOff x="7272360" y="5520960"/>
            <a:chExt cx="212400" cy="213120"/>
          </a:xfrm>
        </p:grpSpPr>
        <p:sp>
          <p:nvSpPr>
            <p:cNvPr id="181" name=""/>
            <p:cNvSpPr/>
            <p:nvPr/>
          </p:nvSpPr>
          <p:spPr>
            <a:xfrm>
              <a:off x="7381800" y="5520960"/>
              <a:ext cx="0" cy="213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72360" y="5624280"/>
              <a:ext cx="212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8720" y="5544360"/>
              <a:ext cx="140400" cy="160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301880" y="5553720"/>
              <a:ext cx="159840" cy="13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04:20Z</dcterms:created>
  <dc:creator>Video</dc:creator>
  <dc:description/>
  <dc:language>en-US</dc:language>
  <cp:lastModifiedBy>Customer</cp:lastModifiedBy>
  <dcterms:modified xsi:type="dcterms:W3CDTF">2012-03-14T11:55:35Z</dcterms:modified>
  <cp:revision>157</cp:revision>
  <dc:subject/>
  <dc:title>Слайд 1</dc:title>
</cp:coreProperties>
</file>