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CFE-746D-4CE2-B75B-A480AF73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12B-840D-4212-824E-89F2FF3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D4E-ED7B-4AE9-8A27-C32F7EC1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1C21-9296-42CB-8850-260BAED0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D7260-461C-46EF-A9B7-9F624BAB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37CDE-5E39-4A01-ACC5-7E49771D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2E519-F4A7-418E-89C8-8EED0AA2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BC9D1-70A4-4DEC-914E-425E42F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3E918-B712-4E7D-BA51-119A4B1C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3C7DA-AA61-4601-98E7-8B7F641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4100-5E69-4A84-9541-D5DD17A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63D-0D68-47DE-94D2-FDD3EBB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707CF-1D66-41D4-85E6-83DA73A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A348E-1E73-440F-BC2D-874E133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BA65-B9A0-46CE-9969-9AD6CC2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0E023-AAFD-4418-87FF-D531E308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3C0BF-156E-4663-8E07-29F0FD1F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7636-FB25-458C-9CBA-54D1FEAC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C7FD-98A2-4B20-A742-E6F71146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6268-4B0F-4E3F-B25A-BD4A417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86A2-4813-4E7D-8CC4-E18603C8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A996-8AD8-44FF-9C6E-FD21EFF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69F-2DB3-40F0-A850-C5754F50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EF48-02E4-4D4F-A2FC-1E5C61F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4F31-BE55-488C-A589-DD2C793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C604-95B1-42D9-A9F7-CADE5B93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30F5-7159-442F-B19B-9542745C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033B-252D-440F-B000-5FE95D3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36CF6-3D8F-4A09-8F83-9C4D577D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C040-AF16-4C0B-AFEE-BCDF47B7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DAD-CE16-415B-B319-77A95F3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8CA-DD01-4752-8C67-735A4C7C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550-CDFE-4AA8-B335-26C08561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AE2-908E-478E-A127-2F6E6B0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391-11ED-49A8-B511-A3B9F86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101-4461-439A-965B-8814866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3A43-7885-4F3B-B2D8-4EB0DE46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754-4C5F-4B8B-A738-F0CDE1636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F073-4474-44FE-BF60-ECBDBD8BC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hyperlink" Target="http://astrotheos.com/Downloads/Part5.zip" TargetMode="External"/><Relationship Id="rId4" Type="http://schemas.openxmlformats.org/officeDocument/2006/relationships/hyperlink" Target="http://en.wikipedia.org/wiki/Alexander_Chizhevsky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ulysses.uchicago.edu/NeutronMonitor/Misc/neutron2.html" TargetMode="Externa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87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5680" y="2205000"/>
            <a:ext cx="905832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стрология в широком смысле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современное понимание древних исти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мунданные аспекты космических цикло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ерге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меля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99ff"/>
                </a:solidFill>
                <a:uFillTx/>
                <a:latin typeface="Arial"/>
              </a:rPr>
              <a:t>www.astrotheo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99ff"/>
                </a:solidFill>
                <a:uFillTx/>
                <a:latin typeface="Arial"/>
              </a:rPr>
              <a:t>www.astrotheos.narod.ru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3. Аурическая шкала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урической шкалой време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АШВ)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узком смыс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зовем Аурический ряд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единица котор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тветствует выбранной единице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а определяет дискретные значения времени степенями Золотого сечения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, если единице шкалы  сопоставлен тропический год (365.24 средних солнечных суток), то члену 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ответствует 1.618 года, члену 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2.618 года, члену Ф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–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члену 2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ряд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3.263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и значения можно представить и в иных единицах; например, 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оответствует 365.24590.97 суток, 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кунде соответствует значение Ф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</a:rPr>
              <a:t>– 3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0.945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урической шкалой време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широком смысл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нимается совокупность аурического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пряженных рядов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= { k</a:t>
            </a: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US" sz="1400" spc="-1" strike="noStrike" baseline="30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единицей времени, определяемой рядом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и ряд Фибоначч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отя наблюдаемые корреляции описываются несколькими рядами, ядро этой алгебраической систем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ляет Аурический ря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члены которого, прежде всего, и совпадают с большей частью базов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иодов в природе и обществе, включая живые организмы тогда как ряды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,и прежде всего – ряд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ряд Фибоначч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выполняют роль, подобную натуральным гармоник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частности, значени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Ш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 высокой точностью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оррелиру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ериодами обращения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лан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ых объектов, со средней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лительностью 11-летнего цикла солнечной актив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1.07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им образом, поскольку периоды планетарных обращений и средней длительности цикла солнеч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ктивности коррелируют с членами ряда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ыбор единицы времени является вопросом удобств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имер, выбор  в качестве единицы времен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лет (вместо тропического года) не наруша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нхронизм, а лишь смещает значения членов ряда на 5 порядков; в этом случае периоды обра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емли, Венеры и Меркурия составят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место прежних знач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Ф</a:t>
            </a:r>
            <a:r>
              <a:rPr b="1" lang="ru-RU" sz="1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2920" y="189000"/>
            <a:ext cx="882324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.4. Аурическая шкала эволюционного времен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биения календаря Майя на аурического цик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зобье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линный Счет («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алендар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»)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ай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хватывающий период 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нтябр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3114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 н.э. п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1 декабря 2012 г. н.э.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Золотом сечен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ак, чтобы число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раничные эпо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было равно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ные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знач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же рассмотрены, включая бесконечную последовательность цикл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кращающихся в Золотом сечении; она дает те же результаты, что и указаны ниже). В итоге получи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той таблице два первых значения предшествуют (также в Золотом сечении) эпохе начала Календаря Май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казывается, что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 граничные эпох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определяют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явно выраженны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плески таких фактор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лобальные катаклизм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феномены космической природ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ход Великих Учител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человечества, выдающихся философов и ученых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чальные эпохи календар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как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стем счета време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ческие события в истор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еликих религиозных/философских систем, устройства государств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мографические тренд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на примере Китая) как индикаторы космических влия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 результате анализа тренд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 синхронистических таблиц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этих факторов был сдел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В Ы В О Д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о том, что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бщий тренд интенсификации событий по всем этим факторам по срока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 су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ренд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оответству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 Ы В О Д А М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о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оявлении Великого Небесного Соеди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31640" y="2313000"/>
          <a:ext cx="8229600" cy="64764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449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9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11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о 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4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3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9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12 </a:t>
                      </a:r>
                      <a:r>
                        <a:rPr b="0" lang="en-US" sz="1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н.э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1. ЦИКЛЫ СОЛНЕЧНОЙ АКТИВНОСТИ И АУРИЧЕСКАЯ ШКАЛА ВРЕМЕ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http://astrotheos.com/page4.htm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 длительности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локальны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недели),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11-летние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22-летние) и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долговременны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десятки и сотни ле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 взаимодействию: 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внутрисистемны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Солнечная система, СС) и 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внесистемные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(СС – Галактика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1-летние циклы 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ения числа солнечных пятен (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красный пункти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и сглаживающей кривой (</a:t>
            </a:r>
            <a:r>
              <a:rPr b="0" lang="ru-RU" sz="1400" spc="-1" strike="noStrike">
                <a:solidFill>
                  <a:srgbClr val="0000cc"/>
                </a:solidFill>
                <a:latin typeface="Arial"/>
              </a:rPr>
              <a:t>синий пункти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, а такж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диоизлучение (черная ломаная) и ее сглаживающая (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сиреневая ли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дл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2-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3-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циклов 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низу указаны номера месяцев (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г. 1988 соответствует 1 – для левого графика и янв. 2000 – для правого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920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51280" y="3716280"/>
            <a:ext cx="34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Б. Атака на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TC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, Нью-Йорк, 2001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37920" y="297000"/>
            <a:ext cx="621720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2. Локальные циклы Солнечной ак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инхронизм локальных максимумов СА с мунданными событ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А. ГКЧП, 19 – 21 августа 199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58800" y="1197000"/>
            <a:ext cx="6181920" cy="1752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31840" y="3449520"/>
            <a:ext cx="686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3378240"/>
            <a:ext cx="588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71640" y="2982960"/>
            <a:ext cx="56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фик числа солнечных пяте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ева – по дням августа 1991 г., Справа – по месяцам 199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317680" y="4113360"/>
            <a:ext cx="4991040" cy="1685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92360" y="5877000"/>
            <a:ext cx="59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фик числа солнечных пяте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ева – по дням сентября 2001 г., Справа – по месяцам 200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2920" y="115920"/>
            <a:ext cx="8858160" cy="655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63640" y="260280"/>
            <a:ext cx="73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3. Регулярная модель максимумов Солнечной ак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132000" y="584280"/>
                <a:ext cx="2449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79280" y="944640"/>
            <a:ext cx="867744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десь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1400" spc="-1" strike="noStrike" baseline="-25000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=11.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средняя длительность 11-летнего цикла, полученная по историческим (за 2000 ле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астрономическим (за 400 лет) данным с погрешностью не более 1 %, а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мер цик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3708360" cy="2454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5280" y="1682640"/>
            <a:ext cx="3781440" cy="2268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58920" y="3753000"/>
            <a:ext cx="17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sidc.oma.b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5320" y="400536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ttp://science.nasa.gov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4356000" y="2414520"/>
          <a:ext cx="4427280" cy="3413160"/>
        </p:xfrm>
        <a:graphic>
          <a:graphicData uri="http://schemas.openxmlformats.org/drawingml/2006/table">
            <a:tbl>
              <a:tblPr/>
              <a:tblGrid>
                <a:gridCol w="395280"/>
                <a:gridCol w="1547640"/>
                <a:gridCol w="1260720"/>
                <a:gridCol w="1223640"/>
              </a:tblGrid>
              <a:tr h="46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Максимум цикла (медиана) М</a:t>
                      </a:r>
                      <a:r>
                        <a:rPr b="1" lang="en-US" sz="1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одель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14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лонение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50.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49.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61.29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60.397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48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48.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58.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59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69.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70.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80.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81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90.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2.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01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3.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0015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4431240" y="5979960"/>
            <a:ext cx="438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Знак «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» означает, что мах был раньше модель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63280" y="1808280"/>
            <a:ext cx="413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аблица значений наблюдаемых эпох максимум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соответствующих им модельных значен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83080" y="33336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4. 11-летние циклы Солнечной актив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Историометрия Чижев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484360" y="3897360"/>
            <a:ext cx="1989360" cy="2635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68360" y="3897360"/>
            <a:ext cx="1906560" cy="26715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58920" y="1074600"/>
            <a:ext cx="4213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лександр Леонидович Чиж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ие факторы исторического процесса. М,19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Л. Чижевский. Космический пульс жизни.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: Мысль, 1995. – 76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strotheos.com/Downloads/Part5.zip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en.wikipedia.org/wiki/Alexander_Chizhevsk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60 строк на английс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лиш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ок на русс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Глянцевый журнал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LAIS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ранция – 12 страниц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печатка рисунков и таблиц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бота отражена в том же объеме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и материал о Николе Тес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4896000" y="1449360"/>
            <a:ext cx="3878280" cy="5148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922640" y="955800"/>
            <a:ext cx="382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астота возникновения исторических событ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 годы и фазы Солнечного цикла за 50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4040" y="333360"/>
            <a:ext cx="84225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5. Связь циклов Солнечной активности с Галактическими процес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А. Синхронизм проникновения галактического ветра в солнечную систему с циклами 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\begin{figure}&#10;\begin{center}&#10;\epsfig{file=mld-fig04.eps,height=6cm}&#10;\end{center}&#10;\end{figure}"/>
          <p:cNvPicPr/>
          <p:nvPr/>
        </p:nvPicPr>
        <p:blipFill>
          <a:blip r:embed="rId1"/>
          <a:stretch/>
        </p:blipFill>
        <p:spPr>
          <a:xfrm>
            <a:off x="468360" y="1089000"/>
            <a:ext cx="3527280" cy="1303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671360" y="1052640"/>
            <a:ext cx="44938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тенсивность Галактического излучения (ГИ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о пропорциональна числу солнечных пятен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симум ГИ достигается в годы минимума СА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orbush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и воздействие ГИ модулируется во време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ами 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ulysses.uchicago.edu/NeutronMonitor/Misc/neutron2.html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880" y="2421000"/>
            <a:ext cx="87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Б. Синхронизм вариаций излучения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Гиперновой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Эта Киля (Форамен,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22°09′ Весов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) с циклами 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6000" y="2744640"/>
            <a:ext cx="87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ксимум светимости суперновой достигает излучающей способности Галактики, а гиперновая – в сотни раз мощнее. Форамен, близко расположенную к нам гиперновая, - едва ли не самая массивная в Галактике. По мощности излучения она в 50 000 000 раз превосходит Солнце, а радиус равен расстояние от Земли до Солнц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0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т назад она вспыхнула, выделив энергию как суперновая, но пережила это событие. Резкий рост блеска наблюдается с 1998 г. Рентгеновские затмения этой звезды происходит с периодом 5.52 года, причем синхронно с 5.52-летним всплеском и ослаблением линий возбуждения высокого энергетического уровн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6000" y="4041720"/>
            <a:ext cx="871848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ывод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1. Средний период Т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11.07 лет цикла СА представляет вторую гармонику основного периода Т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Ф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= 5.53 излучений Эта Киля, причем с высокой точностью 0.08 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ывод 2. В рамках 400- и 200-летних телескопических наблюдений 11-летние циклы СА и события в эволю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та Киля представляют синхронные процессы (т.е. коррелированные по максимумам), причем модель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ики М* циклов СА описывают эпохи наиболее значимых событий на Эта Киля с не меньшей точностью, ч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похи, определяемые принятой моделью периодического распределения событий на Эта Ки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ипотез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 Высокая стабильность регулярной модели СА позволяет предположить, чт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) очень точное совпадение длительности 11-летних циклов СА, и основного периода излучений Эта Киля,  а также синхронизм их максимумов  не случай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) чрезвычайно большая, по сравнению с Солнцем, мощность излучения звезды Эта Киля делает ее своего рода "синхронизирующим генератором" 11-летних циклов Солнечной акти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61680" y="333360"/>
            <a:ext cx="366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1. КОМЕТА Хэйла-Бопп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Х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http://astrotheos.com/page</a:t>
            </a:r>
            <a:r>
              <a:rPr b="0" lang="ru-RU" sz="1200" spc="-1" strike="noStrike" u="sng">
                <a:solidFill>
                  <a:srgbClr val="0000cc"/>
                </a:solidFill>
                <a:uFillTx/>
                <a:latin typeface="Arial"/>
              </a:rPr>
              <a:t>9</a:t>
            </a:r>
            <a:r>
              <a:rPr b="0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.htm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52360" y="1325520"/>
          <a:ext cx="3959280" cy="3697200"/>
        </p:xfrm>
        <a:graphic>
          <a:graphicData uri="http://schemas.openxmlformats.org/drawingml/2006/table">
            <a:tbl>
              <a:tblPr/>
              <a:tblGrid>
                <a:gridCol w="406440"/>
                <a:gridCol w="853920"/>
                <a:gridCol w="540000"/>
                <a:gridCol w="2158920"/>
              </a:tblGrid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зн.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M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бы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ит в обла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ождения коме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янв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е соединение Солнца и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еригелии Зем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 Солнц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Х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о активной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з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ХБ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Б в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гелии кульминируе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рид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вен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а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 затм. ХБ кульминируе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мерид.Сатур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/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лнце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11апр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луние, Луна в соед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ХБ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голем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Солнце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тен Кейтос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(14) ию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Б в соед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м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ириус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волуние. Земл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афели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сен. 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 затм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мар.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но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ме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5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4"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б в 5 дне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что соответствует орбу в 5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казанных соединений на эклипти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87280" y="981000"/>
            <a:ext cx="37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Временные (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календарные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) Фокусы кометы Х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45560" y="95868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Факторы влияния кометы Х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97760" y="1197000"/>
            <a:ext cx="4752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акторы вли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 Стихийные бедстви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1. Цунами, штормы, навод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2. Землетрясения, извержения вулк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3. Массовая гибель от разрушений, пожаров, эпидем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 Техногенные бед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1. Крушения самолетов, на транспорте и др.; косм. объе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. Разрушения, пожары на инженерных объектах (шахты,…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3. Ущерб для природы и с/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 Социальные бедств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1. Психологические коллизии (серийные убийства, и т.п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2. Терроризм, бунты, револю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. Нарушение границ (закона, морали и территорий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4. Политические сканд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5. Экономические потряс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92720" y="4005360"/>
            <a:ext cx="45352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Географические фокус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меют меридиональный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рб в 5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что соответствует орб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5° для указанных соединений на эклипти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ключают (в том числе) меридианы: Москва – Харьков – Израиль, Нью-Йорк-Вашингтон, Корея, Афганистан, и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4800" y="5386320"/>
            <a:ext cx="836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атистика за прошедшие 14 л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http://astrotheos.com/page4.htm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]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воляет сделать вывод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соответствующие этим фокусам точки Зодиака приобрели собственную значимость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казывают влияние, когда Солнце проходит по ним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90880" y="333360"/>
            <a:ext cx="82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2. Примеры трендов возникновения указанных типов событий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ременным и географическим фокусам влияния кометы Хэйла-Бо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20" y="1197000"/>
            <a:ext cx="765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Начал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семирно значимых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ВОЕННЫХ ДЕЙСТВИ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 так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Ш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нача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омбардировку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Югослав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4 март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1999 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4 марта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вод войск в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Афганистан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 март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2, с полным размахом 2-6 марта 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3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3 марта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йну в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Ирак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0 март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2003 г 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 марта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акж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периодически возникающие на календарных фокусах боевые действия межд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Северной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Южной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Корея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между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Израилем 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Палестино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3760" y="2708280"/>
            <a:ext cx="81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ПРИРОДНЫЕ КАТАКЛИЗМ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ранее, например: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Великое цунами в Индийском океа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6 де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 2004 г. (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1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 дек.) унесло жизни порядка 250 тыс. человек, так и этой весной и лет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8840" y="350028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ФИНАНСОВЫЕ ПРОБЛЕМ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,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начал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взрывной” фаз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мирового финансового кризис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иходится на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5 сент.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г. – точно на фокусе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 7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16 сент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6920" y="4437000"/>
            <a:ext cx="8506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АКТЫ ТЕРРОРИЗ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имер, отдельно предсказанная в августе 2001 г. опасност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в перву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чередь для СШ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 авиационных и техногенных катастроф и пожаров, психических отклонений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ликтов. Этот опубликованный в августе прогноз заканчивался риторическим вопросом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должится ли действие кометы, усиленное резонансом с затмениями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3040" y="5769000"/>
            <a:ext cx="89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Примеры можно продолжат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однако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вопрос в то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что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способствует сохранению этих влиян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189000"/>
            <a:ext cx="882180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6760" y="333360"/>
            <a:ext cx="80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3. Сопутствующие факторы влияния, приводящие к резонансном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силению фокусов влияния кометы Хэйла-Бо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3600" y="1257480"/>
            <a:ext cx="898668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еликое Небесное Соедине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Н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стоянно действующ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ктор влия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урическая Спираль Време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дискретно действу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урических точка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ифуркации (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Б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лендаря Майя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1997г. прошло четыре таких точки бифурк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Р12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20 янв. 1997),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совпадает с выходом кометы ХБ на активную фазу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роявления вблиз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Р13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19 фев. 2003) близка к фокусу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3 марта). Проявилась в интенсификации событий, посл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торого общего спада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точно на фокус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20 марта)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США начали войну в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рак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Р14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22 нояб. 2006) была достаточно далека от фокусов кометы, но когда следующая ТБ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Р15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20 марта 2009), совпала с фокусом кометы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20 марта), эффект оказался значительным [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ай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Физический анализ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ометы ХБ и влияния Космоса [</a:t>
            </a:r>
            <a:r>
              <a:rPr b="0" lang="en-GB" sz="1200" spc="-1" strike="noStrike" u="sng">
                <a:solidFill>
                  <a:srgbClr val="0000cc"/>
                </a:solidFill>
                <a:uFillTx/>
                <a:latin typeface="Arial"/>
              </a:rPr>
              <a:t>jmccanneyscience.com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1200" spc="-1" strike="noStrike" u="sng">
                <a:solidFill>
                  <a:srgbClr val="0000cc"/>
                </a:solidFill>
                <a:uFillTx/>
                <a:latin typeface="Arial"/>
              </a:rPr>
              <a:t>astrotheos.com/Downloads/C</a:t>
            </a:r>
            <a:r>
              <a:rPr b="0" lang="ru-RU" sz="1200" spc="-1" strike="noStrike" u="sng">
                <a:solidFill>
                  <a:srgbClr val="0000cc"/>
                </a:solidFill>
                <a:uFillTx/>
                <a:latin typeface="Arial"/>
              </a:rPr>
              <a:t>C2.zip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ворят о том, что она обладает огромным зарядом, состоит далеко не только изо льда, а ее разм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поставим с Луной. Моменты ее соединения с Солнцем вполне могли оставить след в ММ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свенно это подтверждается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синхронизм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окус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Х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 всплесками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олнечно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ктив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С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показал анализ СА, в 1998 г.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ероятность случай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плесков СА на фокусах кометы ХБ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ляет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е более 10</a:t>
            </a:r>
            <a:r>
              <a:rPr b="1" lang="en-US" sz="1400" spc="-1" strike="noStrike" baseline="30000">
                <a:solidFill>
                  <a:srgbClr val="333399"/>
                </a:solidFill>
                <a:latin typeface="Arial"/>
              </a:rPr>
              <a:t>-12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(!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езонансы с другими комет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Сложно говорить и о том, имела ли бы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омета Хэйла-Бопп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ое же влияние, появись она 50, 500 или 5000 лет назад. Но в данном историческом контекст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казывается, что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е временные фокус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определяющие их точки в Зодиаке и даже ее траектор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ходят в резонан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 соответствующими параметрами как предшествовавшей ей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ометы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Хиякутак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и с последующими комет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достаточно близко проходившими мимо Земли за эти годы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05800" cy="633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0.1. ВСТУПЛ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стрология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 современном пониман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ПЕРИРУЕ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одиак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ланетами,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ом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пект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их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изводны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чественн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ербальн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описание свойств человека, социума и материальных объект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такж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личественн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в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времен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прогнозирование ситуаций с ни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стрология в прош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этих же целей рассматривала и иные объекты,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реди них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еты, максимумы солнечной активности, циклы прецессий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др.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смежная с ней область –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зотерик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иклы различно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ительност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в частно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носящиеся к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ариациям параметров вращения и обращения Зем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Сокрытие части концепц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Ни одна тайна не сохранялась так хорошо и так священно древними, как тайна их цикл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вычислений. Начиная от египтян и до евреев, считалось величайшим грехом раскры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что, принадлежащее к правильному измерению времени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[Тайная Доктрина, Т2, с. 496]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14960" y="333360"/>
            <a:ext cx="561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4. Синхронизм фокусов кометы Хэйла-Бо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 критическими точками иных ком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1240" y="5877000"/>
            <a:ext cx="347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ектории некоторых значимых комет 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бесн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фере с эпохами периге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7240" y="5735520"/>
            <a:ext cx="6480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0" y="1197000"/>
            <a:ext cx="4968360" cy="4473720"/>
            <a:chOff x="0" y="1197000"/>
            <a:chExt cx="4968360" cy="4473720"/>
          </a:xfrm>
        </p:grpSpPr>
        <p:sp>
          <p:nvSpPr>
            <p:cNvPr id="390" name=""/>
            <p:cNvSpPr/>
            <p:nvPr/>
          </p:nvSpPr>
          <p:spPr>
            <a:xfrm>
              <a:off x="2562840" y="2812320"/>
              <a:ext cx="28260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080" y="1526040"/>
              <a:ext cx="3824280" cy="38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72600" y="2258640"/>
              <a:ext cx="2378880" cy="237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54800" y="2968920"/>
              <a:ext cx="1014840" cy="10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800" y="3443400"/>
              <a:ext cx="402912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1880" y="1401120"/>
              <a:ext cx="34560" cy="40528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03600" y="3377160"/>
              <a:ext cx="28260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18h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22360" y="1197000"/>
              <a:ext cx="28260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97960" y="5513760"/>
              <a:ext cx="28260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0 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22200" y="1683720"/>
              <a:ext cx="90828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800080"/>
                  </a:solidFill>
                  <a:latin typeface="Arial"/>
                </a:rPr>
                <a:t>Hyakutak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2600" y="2261880"/>
              <a:ext cx="72576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80"/>
                  </a:solidFill>
                  <a:latin typeface="Arial"/>
                </a:rPr>
                <a:t>Ikeya-Zha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01920" y="4608720"/>
              <a:ext cx="6472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ff0000"/>
                  </a:solidFill>
                  <a:latin typeface="Arial"/>
                </a:rPr>
                <a:t>Hale-Bop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03720"/>
              <a:ext cx="91440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8000"/>
                  </a:solidFill>
                  <a:latin typeface="Arial"/>
                </a:rPr>
                <a:t>Machhol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95800" y="3989880"/>
              <a:ext cx="119160" cy="1191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60920" y="4435920"/>
              <a:ext cx="208800" cy="2386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64480" y="4696920"/>
              <a:ext cx="6472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6600"/>
                  </a:solidFill>
                  <a:latin typeface="Arial"/>
                </a:rPr>
                <a:t>Nebula M3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36040" y="3835800"/>
              <a:ext cx="32688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Algo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22560" y="4388760"/>
              <a:ext cx="6472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Apex H/H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4160" y="1872360"/>
              <a:ext cx="3150000" cy="2788200"/>
            </a:xfrm>
            <a:custGeom>
              <a:avLst/>
              <a:gdLst/>
              <a:ahLst/>
              <a:rect l="l" t="t" r="r" b="b"/>
              <a:pathLst>
                <a:path w="6014" h="5325">
                  <a:moveTo>
                    <a:pt x="6014" y="0"/>
                  </a:moveTo>
                  <a:cubicBezTo>
                    <a:pt x="5273" y="713"/>
                    <a:pt x="4529" y="1420"/>
                    <a:pt x="4022" y="1962"/>
                  </a:cubicBezTo>
                  <a:cubicBezTo>
                    <a:pt x="3515" y="2504"/>
                    <a:pt x="3185" y="2977"/>
                    <a:pt x="2970" y="3255"/>
                  </a:cubicBezTo>
                  <a:cubicBezTo>
                    <a:pt x="2755" y="3533"/>
                    <a:pt x="2857" y="3488"/>
                    <a:pt x="2730" y="3630"/>
                  </a:cubicBezTo>
                  <a:cubicBezTo>
                    <a:pt x="2603" y="3772"/>
                    <a:pt x="2420" y="3970"/>
                    <a:pt x="2205" y="4110"/>
                  </a:cubicBezTo>
                  <a:cubicBezTo>
                    <a:pt x="1990" y="4250"/>
                    <a:pt x="1810" y="4267"/>
                    <a:pt x="1442" y="4470"/>
                  </a:cubicBezTo>
                  <a:cubicBezTo>
                    <a:pt x="1074" y="4673"/>
                    <a:pt x="300" y="5147"/>
                    <a:pt x="0" y="5325"/>
                  </a:cubicBezTo>
                </a:path>
              </a:pathLst>
            </a:custGeom>
            <a:noFill/>
            <a:ln w="19080">
              <a:solidFill>
                <a:srgbClr val="80008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43200" y="3781080"/>
              <a:ext cx="1461240" cy="494640"/>
            </a:xfrm>
            <a:custGeom>
              <a:avLst/>
              <a:gdLst/>
              <a:ahLst/>
              <a:rect l="l" t="t" r="r" b="b"/>
              <a:pathLst>
                <a:path w="2790" h="945">
                  <a:moveTo>
                    <a:pt x="0" y="945"/>
                  </a:moveTo>
                  <a:cubicBezTo>
                    <a:pt x="107" y="938"/>
                    <a:pt x="455" y="923"/>
                    <a:pt x="645" y="900"/>
                  </a:cubicBezTo>
                  <a:cubicBezTo>
                    <a:pt x="835" y="877"/>
                    <a:pt x="876" y="880"/>
                    <a:pt x="1139" y="807"/>
                  </a:cubicBezTo>
                  <a:cubicBezTo>
                    <a:pt x="1402" y="734"/>
                    <a:pt x="1970" y="569"/>
                    <a:pt x="2220" y="465"/>
                  </a:cubicBezTo>
                  <a:cubicBezTo>
                    <a:pt x="2470" y="361"/>
                    <a:pt x="2545" y="257"/>
                    <a:pt x="2640" y="180"/>
                  </a:cubicBezTo>
                  <a:cubicBezTo>
                    <a:pt x="2735" y="103"/>
                    <a:pt x="2759" y="37"/>
                    <a:pt x="2790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120" y="3678840"/>
              <a:ext cx="3895920" cy="869040"/>
            </a:xfrm>
            <a:custGeom>
              <a:avLst/>
              <a:gdLst/>
              <a:ahLst/>
              <a:rect l="l" t="t" r="r" b="b"/>
              <a:pathLst>
                <a:path w="7438" h="1660">
                  <a:moveTo>
                    <a:pt x="7438" y="1650"/>
                  </a:moveTo>
                  <a:cubicBezTo>
                    <a:pt x="7198" y="1650"/>
                    <a:pt x="6434" y="1660"/>
                    <a:pt x="5982" y="1650"/>
                  </a:cubicBezTo>
                  <a:cubicBezTo>
                    <a:pt x="5530" y="1640"/>
                    <a:pt x="5160" y="1625"/>
                    <a:pt x="4723" y="1590"/>
                  </a:cubicBezTo>
                  <a:cubicBezTo>
                    <a:pt x="4286" y="1555"/>
                    <a:pt x="3708" y="1500"/>
                    <a:pt x="3358" y="1440"/>
                  </a:cubicBezTo>
                  <a:cubicBezTo>
                    <a:pt x="3008" y="1380"/>
                    <a:pt x="2843" y="1303"/>
                    <a:pt x="2623" y="1230"/>
                  </a:cubicBezTo>
                  <a:cubicBezTo>
                    <a:pt x="2403" y="1157"/>
                    <a:pt x="2317" y="1117"/>
                    <a:pt x="2040" y="1002"/>
                  </a:cubicBezTo>
                  <a:cubicBezTo>
                    <a:pt x="1763" y="887"/>
                    <a:pt x="1300" y="707"/>
                    <a:pt x="960" y="540"/>
                  </a:cubicBezTo>
                  <a:cubicBezTo>
                    <a:pt x="620" y="373"/>
                    <a:pt x="160" y="90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90520" y="2422080"/>
              <a:ext cx="2130120" cy="2968920"/>
            </a:xfrm>
            <a:custGeom>
              <a:avLst/>
              <a:gdLst/>
              <a:ahLst/>
              <a:rect l="l" t="t" r="r" b="b"/>
              <a:pathLst>
                <a:path w="4067" h="5670">
                  <a:moveTo>
                    <a:pt x="0" y="5670"/>
                  </a:moveTo>
                  <a:cubicBezTo>
                    <a:pt x="25" y="5513"/>
                    <a:pt x="100" y="4972"/>
                    <a:pt x="135" y="4725"/>
                  </a:cubicBezTo>
                  <a:cubicBezTo>
                    <a:pt x="170" y="4478"/>
                    <a:pt x="185" y="4330"/>
                    <a:pt x="210" y="4185"/>
                  </a:cubicBezTo>
                  <a:cubicBezTo>
                    <a:pt x="235" y="4040"/>
                    <a:pt x="225" y="4065"/>
                    <a:pt x="285" y="3855"/>
                  </a:cubicBezTo>
                  <a:cubicBezTo>
                    <a:pt x="345" y="3645"/>
                    <a:pt x="449" y="3197"/>
                    <a:pt x="569" y="2922"/>
                  </a:cubicBezTo>
                  <a:cubicBezTo>
                    <a:pt x="689" y="2647"/>
                    <a:pt x="804" y="2434"/>
                    <a:pt x="1007" y="2202"/>
                  </a:cubicBezTo>
                  <a:cubicBezTo>
                    <a:pt x="1210" y="1970"/>
                    <a:pt x="1432" y="1807"/>
                    <a:pt x="1787" y="1530"/>
                  </a:cubicBezTo>
                  <a:cubicBezTo>
                    <a:pt x="2142" y="1253"/>
                    <a:pt x="2757" y="795"/>
                    <a:pt x="3137" y="540"/>
                  </a:cubicBezTo>
                  <a:cubicBezTo>
                    <a:pt x="3517" y="285"/>
                    <a:pt x="3792" y="142"/>
                    <a:pt x="4067" y="0"/>
                  </a:cubicBezTo>
                </a:path>
              </a:pathLst>
            </a:custGeom>
            <a:noFill/>
            <a:ln w="19080">
              <a:solidFill>
                <a:srgbClr val="00008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97200" y="3383640"/>
              <a:ext cx="28260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6 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8640" y="4122000"/>
              <a:ext cx="178920" cy="1789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56040" y="4351320"/>
              <a:ext cx="178920" cy="178920"/>
            </a:xfrm>
            <a:prstGeom prst="su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91040" y="4611960"/>
              <a:ext cx="700560" cy="15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Apex IZ/HB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12720" y="5745240"/>
            <a:ext cx="4557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49080" y="1125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74480" y="5734080"/>
            <a:ext cx="502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ектории значимых комет не только дают тройной кр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Алголе, но и синхронно проходят его окрестность. В 201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ду это привело к дополнительным погодным и иным эффек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м на весенних и летних фокусах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</a:rPr>
              <a:t>http://astrotheos.com/page9.htm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]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13240" y="-3421080"/>
            <a:ext cx="9959040" cy="9959040"/>
            <a:chOff x="1713240" y="-3421080"/>
            <a:chExt cx="9959040" cy="9959040"/>
          </a:xfrm>
        </p:grpSpPr>
        <p:grpSp>
          <p:nvGrpSpPr>
            <p:cNvPr id="420" name=""/>
            <p:cNvGrpSpPr/>
            <p:nvPr/>
          </p:nvGrpSpPr>
          <p:grpSpPr>
            <a:xfrm>
              <a:off x="1713240" y="-3421080"/>
              <a:ext cx="9959040" cy="9959040"/>
              <a:chOff x="1713240" y="-3421080"/>
              <a:chExt cx="9959040" cy="9959040"/>
            </a:xfrm>
          </p:grpSpPr>
          <p:sp>
            <p:nvSpPr>
              <p:cNvPr id="421" name=""/>
              <p:cNvSpPr/>
              <p:nvPr/>
            </p:nvSpPr>
            <p:spPr>
              <a:xfrm rot="8032200">
                <a:off x="3170520" y="-1963080"/>
                <a:ext cx="7044120" cy="704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84" y="89"/>
                    </a:moveTo>
                    <a:arcTo wR="10800" hR="10800" stAng="-4958329" swAng="44680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84" y="89"/>
                    </a:moveTo>
                    <a:arcTo wR="10800" hR="10800" stAng="-4958329" swAng="446800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8044200">
                <a:off x="5771520" y="435960"/>
                <a:ext cx="1973160" cy="188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326" y="108"/>
                    </a:moveTo>
                    <a:arcTo wR="10800" hR="10800" stAng="-4912485" swAng="47008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326" y="108"/>
                    </a:moveTo>
                    <a:arcTo wR="10800" hR="10800" stAng="-4912485" swAng="4700868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16520" y="1192320"/>
                <a:ext cx="2109960" cy="352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16520" y="1192320"/>
                <a:ext cx="34200" cy="419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754520" y="1192320"/>
                <a:ext cx="1962000" cy="383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826840" y="4782960"/>
                <a:ext cx="28224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</a:rPr>
                  <a:t>2 h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68680" y="5158080"/>
                <a:ext cx="28260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</a:rPr>
                  <a:t>4 h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34080" y="5526000"/>
                <a:ext cx="28152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</a:rPr>
                  <a:t>3 h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25840" y="4376520"/>
                <a:ext cx="1584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16720" y="3825720"/>
                <a:ext cx="1548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970160" y="3378240"/>
                <a:ext cx="1584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49520" y="2903760"/>
                <a:ext cx="1584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501880" y="2463480"/>
                <a:ext cx="1584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45240" y="2017800"/>
                <a:ext cx="15480" cy="19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195160" y="4052880"/>
                <a:ext cx="9288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60120" y="3533040"/>
                <a:ext cx="9288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04560" y="3068280"/>
                <a:ext cx="9288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949000" y="2603520"/>
                <a:ext cx="9288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5996880" y="4965120"/>
                <a:ext cx="2412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5391360" y="4799880"/>
                <a:ext cx="44640" cy="8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18320" y="5151240"/>
                <a:ext cx="32688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20m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215680" y="4986000"/>
                <a:ext cx="32688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40 m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07120" y="3815280"/>
                <a:ext cx="130680" cy="130680"/>
              </a:xfrm>
              <a:prstGeom prst="star5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073480" y="1736280"/>
                <a:ext cx="1843200" cy="3502800"/>
              </a:xfrm>
              <a:custGeom>
                <a:avLst/>
                <a:gdLst/>
                <a:ahLst/>
                <a:rect l="l" t="t" r="r" b="b"/>
                <a:pathLst>
                  <a:path w="3213" h="6105">
                    <a:moveTo>
                      <a:pt x="0" y="6105"/>
                    </a:moveTo>
                    <a:cubicBezTo>
                      <a:pt x="20" y="6082"/>
                      <a:pt x="29" y="6077"/>
                      <a:pt x="134" y="5970"/>
                    </a:cubicBezTo>
                    <a:cubicBezTo>
                      <a:pt x="239" y="5863"/>
                      <a:pt x="337" y="5825"/>
                      <a:pt x="632" y="5460"/>
                    </a:cubicBezTo>
                    <a:cubicBezTo>
                      <a:pt x="927" y="5095"/>
                      <a:pt x="1557" y="4328"/>
                      <a:pt x="1904" y="3780"/>
                    </a:cubicBezTo>
                    <a:cubicBezTo>
                      <a:pt x="2251" y="3232"/>
                      <a:pt x="2510" y="2627"/>
                      <a:pt x="2715" y="2175"/>
                    </a:cubicBezTo>
                    <a:cubicBezTo>
                      <a:pt x="2920" y="1723"/>
                      <a:pt x="3057" y="1328"/>
                      <a:pt x="3135" y="1065"/>
                    </a:cubicBezTo>
                    <a:cubicBezTo>
                      <a:pt x="3213" y="802"/>
                      <a:pt x="3185" y="730"/>
                      <a:pt x="3180" y="600"/>
                    </a:cubicBezTo>
                    <a:cubicBezTo>
                      <a:pt x="3175" y="470"/>
                      <a:pt x="3142" y="385"/>
                      <a:pt x="3105" y="285"/>
                    </a:cubicBezTo>
                    <a:cubicBezTo>
                      <a:pt x="3068" y="185"/>
                      <a:pt x="2986" y="59"/>
                      <a:pt x="2955" y="0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39320" y="3698280"/>
                <a:ext cx="2124360" cy="313560"/>
              </a:xfrm>
              <a:custGeom>
                <a:avLst/>
                <a:gdLst/>
                <a:ahLst/>
                <a:rect l="l" t="t" r="r" b="b"/>
                <a:pathLst>
                  <a:path w="3703" h="547">
                    <a:moveTo>
                      <a:pt x="0" y="480"/>
                    </a:moveTo>
                    <a:cubicBezTo>
                      <a:pt x="313" y="515"/>
                      <a:pt x="640" y="547"/>
                      <a:pt x="1062" y="522"/>
                    </a:cubicBezTo>
                    <a:cubicBezTo>
                      <a:pt x="1484" y="497"/>
                      <a:pt x="2153" y="397"/>
                      <a:pt x="2533" y="330"/>
                    </a:cubicBezTo>
                    <a:cubicBezTo>
                      <a:pt x="2913" y="263"/>
                      <a:pt x="3148" y="175"/>
                      <a:pt x="3343" y="120"/>
                    </a:cubicBezTo>
                    <a:cubicBezTo>
                      <a:pt x="3538" y="65"/>
                      <a:pt x="3628" y="25"/>
                      <a:pt x="3703" y="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346080" y="2028600"/>
                <a:ext cx="276120" cy="2624760"/>
              </a:xfrm>
              <a:custGeom>
                <a:avLst/>
                <a:gdLst/>
                <a:ahLst/>
                <a:rect l="l" t="t" r="r" b="b"/>
                <a:pathLst>
                  <a:path w="482" h="4575">
                    <a:moveTo>
                      <a:pt x="257" y="0"/>
                    </a:moveTo>
                    <a:cubicBezTo>
                      <a:pt x="227" y="235"/>
                      <a:pt x="106" y="935"/>
                      <a:pt x="64" y="1410"/>
                    </a:cubicBezTo>
                    <a:cubicBezTo>
                      <a:pt x="22" y="1885"/>
                      <a:pt x="0" y="2473"/>
                      <a:pt x="2" y="2850"/>
                    </a:cubicBezTo>
                    <a:cubicBezTo>
                      <a:pt x="4" y="3227"/>
                      <a:pt x="41" y="3457"/>
                      <a:pt x="76" y="3672"/>
                    </a:cubicBezTo>
                    <a:cubicBezTo>
                      <a:pt x="111" y="3887"/>
                      <a:pt x="144" y="3990"/>
                      <a:pt x="212" y="4140"/>
                    </a:cubicBezTo>
                    <a:cubicBezTo>
                      <a:pt x="280" y="4290"/>
                      <a:pt x="426" y="4484"/>
                      <a:pt x="482" y="4575"/>
                    </a:cubicBezTo>
                  </a:path>
                </a:pathLst>
              </a:custGeom>
              <a:noFill/>
              <a:ln w="19080">
                <a:solidFill>
                  <a:srgbClr val="800080"/>
                </a:solidFill>
                <a:prstDash val="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55080" y="4676040"/>
                <a:ext cx="105660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800080"/>
                    </a:solidFill>
                    <a:latin typeface="Arial"/>
                  </a:rPr>
                  <a:t>Hyakutak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40560" y="5268240"/>
                <a:ext cx="1046520" cy="203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Arial"/>
                  </a:rPr>
                  <a:t>Machholz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456680" y="3815280"/>
                <a:ext cx="833040" cy="20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0000"/>
                    </a:solidFill>
                    <a:latin typeface="Arial"/>
                  </a:rPr>
                  <a:t>Hale-Bop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35720" y="3643200"/>
                <a:ext cx="643680" cy="16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200" spc="-1" strike="noStrike">
                    <a:solidFill>
                      <a:srgbClr val="ff6600"/>
                    </a:solidFill>
                    <a:latin typeface="Arial"/>
                  </a:rPr>
                  <a:t>Alg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2920" y="115920"/>
            <a:ext cx="8821800" cy="662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480" y="115920"/>
            <a:ext cx="89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Пример трендов по фокусам кометы Хэйла-Боппа и критическим точк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гноз на 20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7280" y="871560"/>
            <a:ext cx="86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сле бурного проявления себя на мартовских фокусах, например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родные катаклизмы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T3   27.02   Чили: Крупнейше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за  последн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олвек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емлетрясение  – 9 баллов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в 10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щнее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на Гаити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4    20.03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ландия: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начало извержения вулкан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Эйяфьядлайекюлль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явлено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ЧП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   05.04   Мексика: землетрясение 7.2 по Рихтеру.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Эти штаты не трясло с 1979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Затронуло 20 млн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че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04 Китай: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самое мощно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землетрясение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год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магнитудой 7.1 разрушило город Цзег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04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ланд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: после начала извержения вулкана 20 марта (точно на фокусе Т4), открылся новый крат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виац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В  10.04 Смоленск: в авиакатастроф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гиб Президент Польш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с сопровождающими его лицам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ые коллиз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5   26.03  КНДР и Южная Корея снова на грани вой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2920" y="3174840"/>
            <a:ext cx="88628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Это позволило предполагать, что фокусы значимо проявят себя и далее, в мае и летом, так к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озникают три дополнительных резонанс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i) последействие 17 мая, при прохожден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олнца по Алгол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везда, связанная с фокусом ТВ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резонанс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очки бифуркац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ВР1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6 авгу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2010 г.)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 фокусом Т7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16 сентябр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, который уже дваж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явил себя атакой на небоскребы Нью-Йорка и взрывным началом финансового кризиса, на интервал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6 августа – 16 сентябр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опасный резонанс 4 – 9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14 июл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 факторам влияния, описанных для кометы Хэйла-Боппа ввиду тог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Временная вол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wave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ero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дает мощный всплеск около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9 июля 201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.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торый совпадает с фокусом кометы Т6 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4 июл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возможным последействием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14 июл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По-видимому экстремальные рекорды жары этим летом (в Сев. Полушарии) и холода (в Южно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вполне можно отнести к продолжению влияний фокусов кометы Хэйла-Боппа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6000" y="5734080"/>
            <a:ext cx="8712000" cy="9464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11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год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открывается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21.12.10 затмением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21 дек.)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1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21 дек); затем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еще  6 затм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, из которых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затмения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фокусах: 4 янв.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2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1 июля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6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4 июля), а затем –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резонанс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лнолуние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15 июля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6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(14 июля), который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усиливается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резонансом на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очке бифуркаци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(16 июля)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урическо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пирал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календаря Майя.  </a:t>
            </a: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Итого – 7 затмений в Тропическом году 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360" y="189000"/>
            <a:ext cx="89647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51840" y="923760"/>
            <a:ext cx="458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Линейная развертка и фазовый портрет време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58560" y="333360"/>
            <a:ext cx="607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5.1. ВРЕМЯ КАК МЕРА ДЛИТЕЛЬНОСТИ 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0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http://astrotheos.com/Downloads/TR.zip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0320" y="1166760"/>
            <a:ext cx="901692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я времен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= F(s) –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отображение состояний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{s}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оцесс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ыбранную числовую шкалу. Для простот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жно  считать, что процесс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ический, а одному периоду соответствует  единица времени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том смысле разн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ам А и В может соответствовать разное время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не только в смысле шкалы, но и нелинейной связи, ка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лучае истинного и гражданского солнечного времени. Типы зависимости времен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оказаны на рис.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использовать полярную систему координат, где угол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а радиус – отношени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392720" y="2130480"/>
                <a:ext cx="4665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73760" y="2384280"/>
            <a:ext cx="530604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де: 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приращение времени процесс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окрестности момент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– приращение времен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окрестности момент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(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2360" y="2924280"/>
            <a:ext cx="889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 функцию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ображающую пары значений времен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на плоскость назове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фазовым портрет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времени</a:t>
            </a: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ис.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42920" y="3336840"/>
            <a:ext cx="5516640" cy="2894400"/>
            <a:chOff x="142920" y="3336840"/>
            <a:chExt cx="5516640" cy="2894400"/>
          </a:xfrm>
        </p:grpSpPr>
        <p:grpSp>
          <p:nvGrpSpPr>
            <p:cNvPr id="471" name=""/>
            <p:cNvGrpSpPr/>
            <p:nvPr/>
          </p:nvGrpSpPr>
          <p:grpSpPr>
            <a:xfrm>
              <a:off x="142920" y="3336840"/>
              <a:ext cx="5516640" cy="2894400"/>
              <a:chOff x="142920" y="3336840"/>
              <a:chExt cx="5516640" cy="2894400"/>
            </a:xfrm>
          </p:grpSpPr>
          <p:sp>
            <p:nvSpPr>
              <p:cNvPr id="472" name=""/>
              <p:cNvSpPr/>
              <p:nvPr/>
            </p:nvSpPr>
            <p:spPr>
              <a:xfrm>
                <a:off x="4088520" y="406404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105080" y="384912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7000" y="4603680"/>
                <a:ext cx="1026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6880" y="5473800"/>
                <a:ext cx="1015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66320" y="47224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413280" y="5949360"/>
                <a:ext cx="1569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413280" y="3746520"/>
                <a:ext cx="720" cy="22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5720" y="3834720"/>
                <a:ext cx="696960" cy="2116080"/>
              </a:xfrm>
              <a:custGeom>
                <a:avLst/>
                <a:gdLst/>
                <a:ahLst/>
                <a:rect l="l" t="t" r="r" b="b"/>
                <a:pathLst>
                  <a:path w="1867" h="2814">
                    <a:moveTo>
                      <a:pt x="0" y="2814"/>
                    </a:moveTo>
                    <a:cubicBezTo>
                      <a:pt x="38" y="2806"/>
                      <a:pt x="155" y="2786"/>
                      <a:pt x="230" y="2754"/>
                    </a:cubicBezTo>
                    <a:cubicBezTo>
                      <a:pt x="305" y="2722"/>
                      <a:pt x="363" y="2679"/>
                      <a:pt x="450" y="2624"/>
                    </a:cubicBezTo>
                    <a:cubicBezTo>
                      <a:pt x="537" y="2569"/>
                      <a:pt x="671" y="2490"/>
                      <a:pt x="753" y="2425"/>
                    </a:cubicBezTo>
                    <a:cubicBezTo>
                      <a:pt x="835" y="2360"/>
                      <a:pt x="856" y="2347"/>
                      <a:pt x="944" y="2236"/>
                    </a:cubicBezTo>
                    <a:cubicBezTo>
                      <a:pt x="1032" y="2125"/>
                      <a:pt x="1172" y="1952"/>
                      <a:pt x="1279" y="1761"/>
                    </a:cubicBezTo>
                    <a:cubicBezTo>
                      <a:pt x="1386" y="1570"/>
                      <a:pt x="1505" y="1309"/>
                      <a:pt x="1587" y="1090"/>
                    </a:cubicBezTo>
                    <a:cubicBezTo>
                      <a:pt x="1669" y="871"/>
                      <a:pt x="1722" y="629"/>
                      <a:pt x="1769" y="447"/>
                    </a:cubicBezTo>
                    <a:cubicBezTo>
                      <a:pt x="1816" y="265"/>
                      <a:pt x="1847" y="93"/>
                      <a:pt x="1867" y="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0560" y="3724200"/>
                <a:ext cx="648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67040" y="581184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27280" y="601488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2200" y="601488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95160" y="5659560"/>
                <a:ext cx="10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969480" y="4832640"/>
                <a:ext cx="2520" cy="11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413280" y="5667480"/>
                <a:ext cx="2743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424080" y="4832640"/>
                <a:ext cx="5493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2920" y="558000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2920" y="4749840"/>
                <a:ext cx="6120" cy="18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9240" y="6056280"/>
                <a:ext cx="11772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571920" y="4212000"/>
                <a:ext cx="997920" cy="960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794680" y="3661920"/>
                <a:ext cx="2140920" cy="2060640"/>
              </a:xfrm>
              <a:custGeom>
                <a:avLst/>
                <a:gdLst/>
                <a:ahLst/>
                <a:rect l="l" t="t" r="r" b="b"/>
                <a:pathLst>
                  <a:path w="3372" h="3245">
                    <a:moveTo>
                      <a:pt x="2805" y="1605"/>
                    </a:moveTo>
                    <a:cubicBezTo>
                      <a:pt x="2797" y="1540"/>
                      <a:pt x="2828" y="1355"/>
                      <a:pt x="2765" y="1215"/>
                    </a:cubicBezTo>
                    <a:cubicBezTo>
                      <a:pt x="2702" y="1075"/>
                      <a:pt x="2582" y="867"/>
                      <a:pt x="2425" y="765"/>
                    </a:cubicBezTo>
                    <a:cubicBezTo>
                      <a:pt x="2268" y="663"/>
                      <a:pt x="2024" y="578"/>
                      <a:pt x="1821" y="601"/>
                    </a:cubicBezTo>
                    <a:cubicBezTo>
                      <a:pt x="1618" y="624"/>
                      <a:pt x="1369" y="736"/>
                      <a:pt x="1205" y="905"/>
                    </a:cubicBezTo>
                    <a:cubicBezTo>
                      <a:pt x="1041" y="1074"/>
                      <a:pt x="852" y="1347"/>
                      <a:pt x="836" y="1613"/>
                    </a:cubicBezTo>
                    <a:cubicBezTo>
                      <a:pt x="820" y="1879"/>
                      <a:pt x="909" y="2278"/>
                      <a:pt x="1108" y="2503"/>
                    </a:cubicBezTo>
                    <a:cubicBezTo>
                      <a:pt x="1307" y="2728"/>
                      <a:pt x="1713" y="2954"/>
                      <a:pt x="2031" y="2964"/>
                    </a:cubicBezTo>
                    <a:cubicBezTo>
                      <a:pt x="2349" y="2974"/>
                      <a:pt x="2794" y="2795"/>
                      <a:pt x="3015" y="2565"/>
                    </a:cubicBezTo>
                    <a:cubicBezTo>
                      <a:pt x="3236" y="2335"/>
                      <a:pt x="3338" y="1897"/>
                      <a:pt x="3355" y="1585"/>
                    </a:cubicBezTo>
                    <a:cubicBezTo>
                      <a:pt x="3372" y="1273"/>
                      <a:pt x="3265" y="934"/>
                      <a:pt x="3116" y="695"/>
                    </a:cubicBezTo>
                    <a:cubicBezTo>
                      <a:pt x="2967" y="456"/>
                      <a:pt x="2727" y="263"/>
                      <a:pt x="2464" y="154"/>
                    </a:cubicBezTo>
                    <a:cubicBezTo>
                      <a:pt x="2201" y="45"/>
                      <a:pt x="1837" y="0"/>
                      <a:pt x="1541" y="42"/>
                    </a:cubicBezTo>
                    <a:cubicBezTo>
                      <a:pt x="1245" y="84"/>
                      <a:pt x="921" y="219"/>
                      <a:pt x="688" y="406"/>
                    </a:cubicBezTo>
                    <a:cubicBezTo>
                      <a:pt x="455" y="593"/>
                      <a:pt x="257" y="894"/>
                      <a:pt x="145" y="1165"/>
                    </a:cubicBezTo>
                    <a:cubicBezTo>
                      <a:pt x="33" y="1436"/>
                      <a:pt x="0" y="1762"/>
                      <a:pt x="15" y="2035"/>
                    </a:cubicBezTo>
                    <a:cubicBezTo>
                      <a:pt x="30" y="2308"/>
                      <a:pt x="147" y="2603"/>
                      <a:pt x="235" y="2805"/>
                    </a:cubicBezTo>
                    <a:cubicBezTo>
                      <a:pt x="323" y="3007"/>
                      <a:pt x="481" y="3153"/>
                      <a:pt x="545" y="3245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141360" y="4676400"/>
                <a:ext cx="246492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35600" y="5862600"/>
                <a:ext cx="612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35600" y="554508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35600" y="5214600"/>
                <a:ext cx="6120" cy="18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4561920" y="4885920"/>
                <a:ext cx="36180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4321800" y="4947120"/>
                <a:ext cx="594360" cy="67428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4474440" y="5472720"/>
                <a:ext cx="403560" cy="46476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619520" y="4703400"/>
                <a:ext cx="1033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43440" y="4714920"/>
                <a:ext cx="117720" cy="17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09320" y="4641120"/>
                <a:ext cx="1478160" cy="1266120"/>
              </a:xfrm>
              <a:custGeom>
                <a:avLst/>
                <a:gdLst/>
                <a:ahLst/>
                <a:rect l="l" t="t" r="r" b="b"/>
                <a:pathLst>
                  <a:path w="2328" h="1994">
                    <a:moveTo>
                      <a:pt x="0" y="0"/>
                    </a:moveTo>
                    <a:cubicBezTo>
                      <a:pt x="24" y="82"/>
                      <a:pt x="92" y="328"/>
                      <a:pt x="147" y="477"/>
                    </a:cubicBezTo>
                    <a:cubicBezTo>
                      <a:pt x="202" y="626"/>
                      <a:pt x="244" y="749"/>
                      <a:pt x="330" y="896"/>
                    </a:cubicBezTo>
                    <a:cubicBezTo>
                      <a:pt x="416" y="1043"/>
                      <a:pt x="506" y="1210"/>
                      <a:pt x="664" y="1357"/>
                    </a:cubicBezTo>
                    <a:cubicBezTo>
                      <a:pt x="822" y="1504"/>
                      <a:pt x="1060" y="1677"/>
                      <a:pt x="1279" y="1777"/>
                    </a:cubicBezTo>
                    <a:cubicBezTo>
                      <a:pt x="1498" y="1877"/>
                      <a:pt x="1803" y="1924"/>
                      <a:pt x="1978" y="1959"/>
                    </a:cubicBezTo>
                    <a:cubicBezTo>
                      <a:pt x="2153" y="1994"/>
                      <a:pt x="2255" y="1981"/>
                      <a:pt x="2328" y="1986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405720" y="4455720"/>
                <a:ext cx="1710720" cy="151632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21520" y="4703400"/>
                <a:ext cx="1029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253040" y="4703400"/>
                <a:ext cx="1026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38880" y="4806360"/>
                <a:ext cx="4572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960" y="5648400"/>
                <a:ext cx="4572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6640" y="5942160"/>
                <a:ext cx="45720" cy="4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575360" y="5599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1300" spc="-1" strike="noStrike">
                    <a:solidFill>
                      <a:srgbClr val="0000ff"/>
                    </a:solidFill>
                    <a:latin typeface="Arial"/>
                  </a:rPr>
                  <a:t>f</a:t>
                </a:r>
                <a:r>
                  <a:rPr b="1" i="1" lang="ru-RU" sz="1300" spc="-1" strike="noStrike" baseline="-25000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5720" y="4703400"/>
                <a:ext cx="22824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3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n-US" sz="1300" spc="-1" strike="noStrike">
                    <a:solidFill>
                      <a:srgbClr val="003300"/>
                    </a:solidFill>
                    <a:latin typeface="Arial"/>
                  </a:rPr>
                  <a:t>f</a:t>
                </a:r>
                <a:r>
                  <a:rPr b="1" i="1" lang="en-US" sz="1300" spc="-1" strike="noStrike" baseline="-25000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140840" y="4200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i="1" lang="en-US" sz="13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i="1" lang="ru-RU" sz="13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4082400" y="4108680"/>
                <a:ext cx="194040" cy="57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38600" y="418896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322160" y="3956400"/>
                <a:ext cx="408240" cy="736560"/>
              </a:xfrm>
              <a:custGeom>
                <a:avLst/>
                <a:gdLst/>
                <a:ahLst/>
                <a:rect l="l" t="t" r="r" b="b"/>
                <a:pathLst>
                  <a:path w="643" h="1160">
                    <a:moveTo>
                      <a:pt x="0" y="0"/>
                    </a:moveTo>
                    <a:cubicBezTo>
                      <a:pt x="77" y="46"/>
                      <a:pt x="162" y="97"/>
                      <a:pt x="234" y="162"/>
                    </a:cubicBezTo>
                    <a:cubicBezTo>
                      <a:pt x="306" y="227"/>
                      <a:pt x="375" y="297"/>
                      <a:pt x="433" y="390"/>
                    </a:cubicBezTo>
                    <a:cubicBezTo>
                      <a:pt x="491" y="483"/>
                      <a:pt x="549" y="608"/>
                      <a:pt x="582" y="720"/>
                    </a:cubicBezTo>
                    <a:cubicBezTo>
                      <a:pt x="615" y="832"/>
                      <a:pt x="623" y="987"/>
                      <a:pt x="633" y="1060"/>
                    </a:cubicBezTo>
                    <a:cubicBezTo>
                      <a:pt x="643" y="1133"/>
                      <a:pt x="641" y="1139"/>
                      <a:pt x="643" y="11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47840" y="4680720"/>
                <a:ext cx="45720" cy="45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4276800" y="3838320"/>
                <a:ext cx="8748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50160" y="4086000"/>
                <a:ext cx="4536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08040" y="4219560"/>
                <a:ext cx="4536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834720" y="4699080"/>
                <a:ext cx="22824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799800" y="483372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664440" y="4263840"/>
                <a:ext cx="897840" cy="795600"/>
              </a:xfrm>
              <a:custGeom>
                <a:avLst/>
                <a:gdLst/>
                <a:ahLst/>
                <a:rect l="l" t="t" r="r" b="b"/>
                <a:pathLst>
                  <a:path w="1414" h="1253">
                    <a:moveTo>
                      <a:pt x="1414" y="704"/>
                    </a:moveTo>
                    <a:cubicBezTo>
                      <a:pt x="1391" y="645"/>
                      <a:pt x="1350" y="454"/>
                      <a:pt x="1273" y="352"/>
                    </a:cubicBezTo>
                    <a:cubicBezTo>
                      <a:pt x="1196" y="250"/>
                      <a:pt x="1083" y="144"/>
                      <a:pt x="953" y="92"/>
                    </a:cubicBezTo>
                    <a:cubicBezTo>
                      <a:pt x="823" y="40"/>
                      <a:pt x="636" y="0"/>
                      <a:pt x="493" y="42"/>
                    </a:cubicBezTo>
                    <a:cubicBezTo>
                      <a:pt x="350" y="84"/>
                      <a:pt x="166" y="207"/>
                      <a:pt x="93" y="342"/>
                    </a:cubicBezTo>
                    <a:cubicBezTo>
                      <a:pt x="20" y="477"/>
                      <a:pt x="0" y="709"/>
                      <a:pt x="53" y="852"/>
                    </a:cubicBezTo>
                    <a:cubicBezTo>
                      <a:pt x="106" y="995"/>
                      <a:pt x="272" y="1151"/>
                      <a:pt x="412" y="1202"/>
                    </a:cubicBezTo>
                    <a:cubicBezTo>
                      <a:pt x="552" y="1253"/>
                      <a:pt x="769" y="1222"/>
                      <a:pt x="892" y="1157"/>
                    </a:cubicBezTo>
                    <a:cubicBezTo>
                      <a:pt x="1015" y="1092"/>
                      <a:pt x="1125" y="938"/>
                      <a:pt x="1150" y="812"/>
                    </a:cubicBezTo>
                    <a:cubicBezTo>
                      <a:pt x="1175" y="686"/>
                      <a:pt x="1109" y="498"/>
                      <a:pt x="1042" y="400"/>
                    </a:cubicBezTo>
                    <a:cubicBezTo>
                      <a:pt x="975" y="302"/>
                      <a:pt x="840" y="246"/>
                      <a:pt x="745" y="221"/>
                    </a:cubicBezTo>
                    <a:cubicBezTo>
                      <a:pt x="650" y="196"/>
                      <a:pt x="549" y="222"/>
                      <a:pt x="472" y="250"/>
                    </a:cubicBezTo>
                    <a:cubicBezTo>
                      <a:pt x="395" y="278"/>
                      <a:pt x="329" y="328"/>
                      <a:pt x="285" y="392"/>
                    </a:cubicBezTo>
                    <a:cubicBezTo>
                      <a:pt x="241" y="456"/>
                      <a:pt x="201" y="542"/>
                      <a:pt x="210" y="632"/>
                    </a:cubicBezTo>
                    <a:cubicBezTo>
                      <a:pt x="219" y="722"/>
                      <a:pt x="259" y="870"/>
                      <a:pt x="339" y="935"/>
                    </a:cubicBezTo>
                    <a:cubicBezTo>
                      <a:pt x="419" y="1000"/>
                      <a:pt x="594" y="1040"/>
                      <a:pt x="689" y="1025"/>
                    </a:cubicBezTo>
                    <a:cubicBezTo>
                      <a:pt x="784" y="1010"/>
                      <a:pt x="871" y="918"/>
                      <a:pt x="909" y="845"/>
                    </a:cubicBezTo>
                    <a:cubicBezTo>
                      <a:pt x="947" y="772"/>
                      <a:pt x="932" y="650"/>
                      <a:pt x="919" y="585"/>
                    </a:cubicBezTo>
                    <a:cubicBezTo>
                      <a:pt x="906" y="520"/>
                      <a:pt x="848" y="482"/>
                      <a:pt x="829" y="455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43200" y="4684320"/>
                <a:ext cx="4572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79400" y="4680720"/>
                <a:ext cx="45720" cy="4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23520" y="4676760"/>
                <a:ext cx="4536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808080" y="4768200"/>
                <a:ext cx="4536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622960" y="4798800"/>
                <a:ext cx="120384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43760" y="3336840"/>
                <a:ext cx="2667960" cy="1892520"/>
              </a:xfrm>
              <a:custGeom>
                <a:avLst/>
                <a:gdLst/>
                <a:ahLst/>
                <a:rect l="l" t="t" r="r" b="b"/>
                <a:pathLst>
                  <a:path w="4202" h="2980">
                    <a:moveTo>
                      <a:pt x="215" y="2980"/>
                    </a:moveTo>
                    <a:cubicBezTo>
                      <a:pt x="129" y="2693"/>
                      <a:pt x="46" y="2422"/>
                      <a:pt x="23" y="2164"/>
                    </a:cubicBezTo>
                    <a:cubicBezTo>
                      <a:pt x="0" y="1906"/>
                      <a:pt x="7" y="1671"/>
                      <a:pt x="77" y="1430"/>
                    </a:cubicBezTo>
                    <a:cubicBezTo>
                      <a:pt x="147" y="1189"/>
                      <a:pt x="245" y="931"/>
                      <a:pt x="441" y="717"/>
                    </a:cubicBezTo>
                    <a:cubicBezTo>
                      <a:pt x="637" y="503"/>
                      <a:pt x="935" y="261"/>
                      <a:pt x="1252" y="144"/>
                    </a:cubicBezTo>
                    <a:cubicBezTo>
                      <a:pt x="1569" y="27"/>
                      <a:pt x="2002" y="0"/>
                      <a:pt x="2342" y="18"/>
                    </a:cubicBezTo>
                    <a:cubicBezTo>
                      <a:pt x="2682" y="36"/>
                      <a:pt x="3039" y="115"/>
                      <a:pt x="3293" y="250"/>
                    </a:cubicBezTo>
                    <a:cubicBezTo>
                      <a:pt x="3547" y="385"/>
                      <a:pt x="3729" y="614"/>
                      <a:pt x="3866" y="829"/>
                    </a:cubicBezTo>
                    <a:cubicBezTo>
                      <a:pt x="4003" y="1044"/>
                      <a:pt x="4062" y="1328"/>
                      <a:pt x="4118" y="1542"/>
                    </a:cubicBezTo>
                    <a:cubicBezTo>
                      <a:pt x="4174" y="1756"/>
                      <a:pt x="4185" y="1996"/>
                      <a:pt x="4202" y="21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62120" y="3632040"/>
                <a:ext cx="612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1240920" y="619920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17440" y="6184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869080" y="3475080"/>
            <a:ext cx="32400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скорение и замедление времен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носительно времен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96000" y="4076640"/>
            <a:ext cx="327672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Зависимость времен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 времен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ид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НЕЙНОЙ РАЗВЕР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ИРАЛЬ ВРЕМЕН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ускор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замедл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6600"/>
                </a:solidFill>
                <a:latin typeface="Arial"/>
              </a:rPr>
              <a:t>однородность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сштабов време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50920" y="2384280"/>
                <a:ext cx="1765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32360" y="5157720"/>
                <a:ext cx="10447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4896000" y="5516640"/>
                <a:ext cx="11160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896000" y="5913360"/>
                <a:ext cx="111600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08680" y="3537000"/>
            <a:ext cx="31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21400" y="5805360"/>
            <a:ext cx="31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9200" y="266760"/>
            <a:ext cx="7605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2. 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деальные (а) и вариант реального (б) фазовых портретов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сихологического времен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079640" y="1268280"/>
            <a:ext cx="6357600" cy="2990880"/>
            <a:chOff x="1079640" y="1268280"/>
            <a:chExt cx="6357600" cy="2990880"/>
          </a:xfrm>
        </p:grpSpPr>
        <p:grpSp>
          <p:nvGrpSpPr>
            <p:cNvPr id="551" name=""/>
            <p:cNvGrpSpPr/>
            <p:nvPr/>
          </p:nvGrpSpPr>
          <p:grpSpPr>
            <a:xfrm>
              <a:off x="1079640" y="1268280"/>
              <a:ext cx="6357600" cy="2990880"/>
              <a:chOff x="1079640" y="1268280"/>
              <a:chExt cx="6357600" cy="2990880"/>
            </a:xfrm>
          </p:grpSpPr>
          <p:sp>
            <p:nvSpPr>
              <p:cNvPr id="552" name=""/>
              <p:cNvSpPr/>
              <p:nvPr/>
            </p:nvSpPr>
            <p:spPr>
              <a:xfrm>
                <a:off x="1482480" y="2133720"/>
                <a:ext cx="2932920" cy="2107800"/>
              </a:xfrm>
              <a:custGeom>
                <a:avLst/>
                <a:gdLst/>
                <a:ahLst/>
                <a:rect l="l" t="t" r="r" b="b"/>
                <a:pathLst>
                  <a:path w="4018" h="2889">
                    <a:moveTo>
                      <a:pt x="0" y="2068"/>
                    </a:moveTo>
                    <a:cubicBezTo>
                      <a:pt x="74" y="2131"/>
                      <a:pt x="257" y="2329"/>
                      <a:pt x="445" y="2446"/>
                    </a:cubicBezTo>
                    <a:cubicBezTo>
                      <a:pt x="633" y="2563"/>
                      <a:pt x="874" y="2698"/>
                      <a:pt x="1130" y="2768"/>
                    </a:cubicBezTo>
                    <a:cubicBezTo>
                      <a:pt x="1386" y="2838"/>
                      <a:pt x="1717" y="2889"/>
                      <a:pt x="1982" y="2869"/>
                    </a:cubicBezTo>
                    <a:cubicBezTo>
                      <a:pt x="2247" y="2849"/>
                      <a:pt x="2495" y="2750"/>
                      <a:pt x="2723" y="2645"/>
                    </a:cubicBezTo>
                    <a:cubicBezTo>
                      <a:pt x="2951" y="2540"/>
                      <a:pt x="3176" y="2440"/>
                      <a:pt x="3353" y="2237"/>
                    </a:cubicBezTo>
                    <a:cubicBezTo>
                      <a:pt x="3530" y="2034"/>
                      <a:pt x="3682" y="1706"/>
                      <a:pt x="3787" y="1426"/>
                    </a:cubicBezTo>
                    <a:cubicBezTo>
                      <a:pt x="3892" y="1146"/>
                      <a:pt x="3948" y="797"/>
                      <a:pt x="3983" y="559"/>
                    </a:cubicBezTo>
                    <a:cubicBezTo>
                      <a:pt x="4018" y="321"/>
                      <a:pt x="3993" y="116"/>
                      <a:pt x="3996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665960" y="24778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972800" y="1900080"/>
                <a:ext cx="1147320" cy="1103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79640" y="1268280"/>
                <a:ext cx="2461320" cy="2367720"/>
              </a:xfrm>
              <a:custGeom>
                <a:avLst/>
                <a:gdLst/>
                <a:ahLst/>
                <a:rect l="l" t="t" r="r" b="b"/>
                <a:pathLst>
                  <a:path w="3372" h="3245">
                    <a:moveTo>
                      <a:pt x="2805" y="1605"/>
                    </a:moveTo>
                    <a:cubicBezTo>
                      <a:pt x="2797" y="1540"/>
                      <a:pt x="2828" y="1355"/>
                      <a:pt x="2765" y="1215"/>
                    </a:cubicBezTo>
                    <a:cubicBezTo>
                      <a:pt x="2702" y="1075"/>
                      <a:pt x="2582" y="867"/>
                      <a:pt x="2425" y="765"/>
                    </a:cubicBezTo>
                    <a:cubicBezTo>
                      <a:pt x="2268" y="663"/>
                      <a:pt x="2024" y="578"/>
                      <a:pt x="1821" y="601"/>
                    </a:cubicBezTo>
                    <a:cubicBezTo>
                      <a:pt x="1618" y="624"/>
                      <a:pt x="1369" y="736"/>
                      <a:pt x="1205" y="905"/>
                    </a:cubicBezTo>
                    <a:cubicBezTo>
                      <a:pt x="1041" y="1074"/>
                      <a:pt x="852" y="1347"/>
                      <a:pt x="836" y="1613"/>
                    </a:cubicBezTo>
                    <a:cubicBezTo>
                      <a:pt x="820" y="1879"/>
                      <a:pt x="909" y="2278"/>
                      <a:pt x="1108" y="2503"/>
                    </a:cubicBezTo>
                    <a:cubicBezTo>
                      <a:pt x="1307" y="2728"/>
                      <a:pt x="1713" y="2954"/>
                      <a:pt x="2031" y="2964"/>
                    </a:cubicBezTo>
                    <a:cubicBezTo>
                      <a:pt x="2349" y="2974"/>
                      <a:pt x="2794" y="2795"/>
                      <a:pt x="3015" y="2565"/>
                    </a:cubicBezTo>
                    <a:cubicBezTo>
                      <a:pt x="3236" y="2335"/>
                      <a:pt x="3338" y="1897"/>
                      <a:pt x="3355" y="1585"/>
                    </a:cubicBezTo>
                    <a:cubicBezTo>
                      <a:pt x="3372" y="1273"/>
                      <a:pt x="3265" y="934"/>
                      <a:pt x="3116" y="695"/>
                    </a:cubicBezTo>
                    <a:cubicBezTo>
                      <a:pt x="2967" y="456"/>
                      <a:pt x="2727" y="263"/>
                      <a:pt x="2464" y="154"/>
                    </a:cubicBezTo>
                    <a:cubicBezTo>
                      <a:pt x="2201" y="45"/>
                      <a:pt x="1837" y="0"/>
                      <a:pt x="1541" y="42"/>
                    </a:cubicBezTo>
                    <a:cubicBezTo>
                      <a:pt x="1245" y="84"/>
                      <a:pt x="921" y="219"/>
                      <a:pt x="688" y="406"/>
                    </a:cubicBezTo>
                    <a:cubicBezTo>
                      <a:pt x="455" y="593"/>
                      <a:pt x="257" y="894"/>
                      <a:pt x="145" y="1165"/>
                    </a:cubicBezTo>
                    <a:cubicBezTo>
                      <a:pt x="33" y="1436"/>
                      <a:pt x="0" y="1762"/>
                      <a:pt x="15" y="2035"/>
                    </a:cubicBezTo>
                    <a:cubicBezTo>
                      <a:pt x="30" y="2308"/>
                      <a:pt x="147" y="2603"/>
                      <a:pt x="235" y="2805"/>
                    </a:cubicBezTo>
                    <a:cubicBezTo>
                      <a:pt x="323" y="3007"/>
                      <a:pt x="481" y="3153"/>
                      <a:pt x="545" y="3245"/>
                    </a:cubicBezTo>
                  </a:path>
                </a:pathLst>
              </a:custGeom>
              <a:noFill/>
              <a:ln w="126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477800" y="2433600"/>
                <a:ext cx="3302280" cy="3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079360" y="1959840"/>
                <a:ext cx="1032120" cy="914400"/>
              </a:xfrm>
              <a:custGeom>
                <a:avLst/>
                <a:gdLst/>
                <a:ahLst/>
                <a:rect l="l" t="t" r="r" b="b"/>
                <a:pathLst>
                  <a:path w="1414" h="1253">
                    <a:moveTo>
                      <a:pt x="1414" y="704"/>
                    </a:moveTo>
                    <a:cubicBezTo>
                      <a:pt x="1391" y="645"/>
                      <a:pt x="1350" y="454"/>
                      <a:pt x="1273" y="352"/>
                    </a:cubicBezTo>
                    <a:cubicBezTo>
                      <a:pt x="1196" y="250"/>
                      <a:pt x="1083" y="144"/>
                      <a:pt x="953" y="92"/>
                    </a:cubicBezTo>
                    <a:cubicBezTo>
                      <a:pt x="823" y="40"/>
                      <a:pt x="636" y="0"/>
                      <a:pt x="493" y="42"/>
                    </a:cubicBezTo>
                    <a:cubicBezTo>
                      <a:pt x="350" y="84"/>
                      <a:pt x="166" y="207"/>
                      <a:pt x="93" y="342"/>
                    </a:cubicBezTo>
                    <a:cubicBezTo>
                      <a:pt x="20" y="477"/>
                      <a:pt x="0" y="709"/>
                      <a:pt x="53" y="852"/>
                    </a:cubicBezTo>
                    <a:cubicBezTo>
                      <a:pt x="106" y="995"/>
                      <a:pt x="272" y="1151"/>
                      <a:pt x="412" y="1202"/>
                    </a:cubicBezTo>
                    <a:cubicBezTo>
                      <a:pt x="552" y="1253"/>
                      <a:pt x="769" y="1222"/>
                      <a:pt x="892" y="1157"/>
                    </a:cubicBezTo>
                    <a:cubicBezTo>
                      <a:pt x="1015" y="1092"/>
                      <a:pt x="1125" y="938"/>
                      <a:pt x="1150" y="812"/>
                    </a:cubicBezTo>
                    <a:cubicBezTo>
                      <a:pt x="1175" y="686"/>
                      <a:pt x="1109" y="498"/>
                      <a:pt x="1042" y="400"/>
                    </a:cubicBezTo>
                    <a:cubicBezTo>
                      <a:pt x="975" y="302"/>
                      <a:pt x="840" y="246"/>
                      <a:pt x="745" y="221"/>
                    </a:cubicBezTo>
                    <a:cubicBezTo>
                      <a:pt x="650" y="196"/>
                      <a:pt x="549" y="222"/>
                      <a:pt x="472" y="250"/>
                    </a:cubicBezTo>
                    <a:cubicBezTo>
                      <a:pt x="395" y="278"/>
                      <a:pt x="329" y="328"/>
                      <a:pt x="285" y="392"/>
                    </a:cubicBezTo>
                    <a:cubicBezTo>
                      <a:pt x="241" y="456"/>
                      <a:pt x="206" y="546"/>
                      <a:pt x="210" y="632"/>
                    </a:cubicBezTo>
                    <a:cubicBezTo>
                      <a:pt x="214" y="718"/>
                      <a:pt x="235" y="844"/>
                      <a:pt x="307" y="910"/>
                    </a:cubicBezTo>
                    <a:cubicBezTo>
                      <a:pt x="379" y="976"/>
                      <a:pt x="547" y="1038"/>
                      <a:pt x="645" y="1030"/>
                    </a:cubicBezTo>
                    <a:cubicBezTo>
                      <a:pt x="743" y="1022"/>
                      <a:pt x="844" y="926"/>
                      <a:pt x="893" y="862"/>
                    </a:cubicBezTo>
                    <a:cubicBezTo>
                      <a:pt x="942" y="798"/>
                      <a:pt x="928" y="692"/>
                      <a:pt x="937" y="647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89880" y="2442960"/>
                <a:ext cx="52560" cy="525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553200" y="3051360"/>
                <a:ext cx="398520" cy="18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00"/>
                    </a:solidFill>
                    <a:latin typeface="Arial"/>
                  </a:rPr>
                  <a:t>МРВ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3111480" y="2675160"/>
                <a:ext cx="416160" cy="446400"/>
              </a:xfrm>
              <a:prstGeom prst="line">
                <a:avLst/>
              </a:prstGeom>
              <a:ln w="12600">
                <a:solidFill>
                  <a:srgbClr val="33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2845800" y="2768400"/>
                <a:ext cx="694800" cy="75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2982600" y="3339000"/>
                <a:ext cx="657360" cy="70704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173760" y="2210760"/>
                <a:ext cx="1166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20360" y="2438640"/>
                <a:ext cx="52560" cy="52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403000" y="2477880"/>
                <a:ext cx="126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22680" y="2193480"/>
                <a:ext cx="1188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501360" y="2438640"/>
                <a:ext cx="52560" cy="52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65800" y="2193480"/>
                <a:ext cx="1173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77600" y="2412360"/>
                <a:ext cx="52200" cy="525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65800" y="3525120"/>
                <a:ext cx="41976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МУВ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578040" y="4070880"/>
                <a:ext cx="383760" cy="18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МЗВ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63160" y="1900080"/>
                <a:ext cx="1147320" cy="1103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17680" y="2433240"/>
                <a:ext cx="24195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79880" y="2408760"/>
                <a:ext cx="52560" cy="525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12320" y="25588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х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57280" y="312228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09280" y="2408760"/>
                <a:ext cx="52200" cy="525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08200" y="1418400"/>
                <a:ext cx="1916280" cy="2000880"/>
              </a:xfrm>
              <a:custGeom>
                <a:avLst/>
                <a:gdLst/>
                <a:ahLst/>
                <a:rect l="l" t="t" r="r" b="b"/>
                <a:pathLst>
                  <a:path w="2625" h="2742">
                    <a:moveTo>
                      <a:pt x="2104" y="1371"/>
                    </a:moveTo>
                    <a:cubicBezTo>
                      <a:pt x="2101" y="1278"/>
                      <a:pt x="2194" y="991"/>
                      <a:pt x="2084" y="796"/>
                    </a:cubicBezTo>
                    <a:cubicBezTo>
                      <a:pt x="1974" y="601"/>
                      <a:pt x="1656" y="277"/>
                      <a:pt x="1444" y="201"/>
                    </a:cubicBezTo>
                    <a:cubicBezTo>
                      <a:pt x="1232" y="125"/>
                      <a:pt x="1036" y="255"/>
                      <a:pt x="814" y="341"/>
                    </a:cubicBezTo>
                    <a:cubicBezTo>
                      <a:pt x="592" y="427"/>
                      <a:pt x="228" y="551"/>
                      <a:pt x="114" y="720"/>
                    </a:cubicBezTo>
                    <a:cubicBezTo>
                      <a:pt x="0" y="889"/>
                      <a:pt x="132" y="1098"/>
                      <a:pt x="129" y="1357"/>
                    </a:cubicBezTo>
                    <a:cubicBezTo>
                      <a:pt x="126" y="1616"/>
                      <a:pt x="10" y="2057"/>
                      <a:pt x="95" y="2275"/>
                    </a:cubicBezTo>
                    <a:cubicBezTo>
                      <a:pt x="180" y="2493"/>
                      <a:pt x="384" y="2604"/>
                      <a:pt x="639" y="2666"/>
                    </a:cubicBezTo>
                    <a:cubicBezTo>
                      <a:pt x="894" y="2728"/>
                      <a:pt x="1364" y="2742"/>
                      <a:pt x="1625" y="2649"/>
                    </a:cubicBezTo>
                    <a:cubicBezTo>
                      <a:pt x="1886" y="2556"/>
                      <a:pt x="2053" y="2252"/>
                      <a:pt x="2203" y="2105"/>
                    </a:cubicBezTo>
                    <a:cubicBezTo>
                      <a:pt x="2353" y="1958"/>
                      <a:pt x="2461" y="1924"/>
                      <a:pt x="2526" y="1765"/>
                    </a:cubicBezTo>
                    <a:cubicBezTo>
                      <a:pt x="2591" y="1606"/>
                      <a:pt x="2625" y="1348"/>
                      <a:pt x="2594" y="1153"/>
                    </a:cubicBezTo>
                    <a:cubicBezTo>
                      <a:pt x="2563" y="958"/>
                      <a:pt x="2418" y="751"/>
                      <a:pt x="2339" y="592"/>
                    </a:cubicBezTo>
                    <a:cubicBezTo>
                      <a:pt x="2260" y="433"/>
                      <a:pt x="2231" y="294"/>
                      <a:pt x="2118" y="201"/>
                    </a:cubicBezTo>
                    <a:cubicBezTo>
                      <a:pt x="2005" y="108"/>
                      <a:pt x="1781" y="62"/>
                      <a:pt x="1659" y="31"/>
                    </a:cubicBezTo>
                    <a:cubicBezTo>
                      <a:pt x="1537" y="0"/>
                      <a:pt x="1506" y="17"/>
                      <a:pt x="1387" y="14"/>
                    </a:cubicBezTo>
                    <a:cubicBezTo>
                      <a:pt x="1268" y="11"/>
                      <a:pt x="1055" y="0"/>
                      <a:pt x="945" y="14"/>
                    </a:cubicBezTo>
                    <a:cubicBezTo>
                      <a:pt x="835" y="28"/>
                      <a:pt x="783" y="42"/>
                      <a:pt x="724" y="99"/>
                    </a:cubicBezTo>
                    <a:cubicBezTo>
                      <a:pt x="665" y="156"/>
                      <a:pt x="634" y="255"/>
                      <a:pt x="588" y="354"/>
                    </a:cubicBezTo>
                    <a:cubicBezTo>
                      <a:pt x="542" y="453"/>
                      <a:pt x="500" y="613"/>
                      <a:pt x="449" y="692"/>
                    </a:cubicBezTo>
                    <a:cubicBezTo>
                      <a:pt x="398" y="771"/>
                      <a:pt x="313" y="756"/>
                      <a:pt x="282" y="830"/>
                    </a:cubicBezTo>
                    <a:cubicBezTo>
                      <a:pt x="251" y="904"/>
                      <a:pt x="273" y="1023"/>
                      <a:pt x="265" y="1136"/>
                    </a:cubicBezTo>
                    <a:cubicBezTo>
                      <a:pt x="257" y="1249"/>
                      <a:pt x="242" y="1385"/>
                      <a:pt x="231" y="1510"/>
                    </a:cubicBezTo>
                    <a:cubicBezTo>
                      <a:pt x="220" y="1635"/>
                      <a:pt x="157" y="1793"/>
                      <a:pt x="197" y="1884"/>
                    </a:cubicBezTo>
                    <a:cubicBezTo>
                      <a:pt x="237" y="1975"/>
                      <a:pt x="378" y="2011"/>
                      <a:pt x="469" y="2054"/>
                    </a:cubicBezTo>
                    <a:cubicBezTo>
                      <a:pt x="560" y="2097"/>
                      <a:pt x="655" y="2136"/>
                      <a:pt x="741" y="2139"/>
                    </a:cubicBezTo>
                    <a:cubicBezTo>
                      <a:pt x="827" y="2142"/>
                      <a:pt x="881" y="2068"/>
                      <a:pt x="984" y="2071"/>
                    </a:cubicBezTo>
                    <a:cubicBezTo>
                      <a:pt x="1087" y="2074"/>
                      <a:pt x="1263" y="2175"/>
                      <a:pt x="1358" y="2160"/>
                    </a:cubicBezTo>
                    <a:cubicBezTo>
                      <a:pt x="1453" y="2145"/>
                      <a:pt x="1493" y="2045"/>
                      <a:pt x="1554" y="1979"/>
                    </a:cubicBezTo>
                    <a:cubicBezTo>
                      <a:pt x="1615" y="1913"/>
                      <a:pt x="1684" y="1826"/>
                      <a:pt x="1727" y="1765"/>
                    </a:cubicBezTo>
                    <a:cubicBezTo>
                      <a:pt x="1770" y="1704"/>
                      <a:pt x="1798" y="1683"/>
                      <a:pt x="1812" y="1612"/>
                    </a:cubicBezTo>
                    <a:cubicBezTo>
                      <a:pt x="1826" y="1541"/>
                      <a:pt x="1826" y="1408"/>
                      <a:pt x="1812" y="1340"/>
                    </a:cubicBezTo>
                    <a:cubicBezTo>
                      <a:pt x="1798" y="1272"/>
                      <a:pt x="1778" y="1266"/>
                      <a:pt x="1727" y="1204"/>
                    </a:cubicBezTo>
                    <a:cubicBezTo>
                      <a:pt x="1676" y="1142"/>
                      <a:pt x="1577" y="1026"/>
                      <a:pt x="1506" y="966"/>
                    </a:cubicBezTo>
                    <a:cubicBezTo>
                      <a:pt x="1435" y="906"/>
                      <a:pt x="1376" y="872"/>
                      <a:pt x="1302" y="847"/>
                    </a:cubicBezTo>
                    <a:cubicBezTo>
                      <a:pt x="1228" y="822"/>
                      <a:pt x="1126" y="807"/>
                      <a:pt x="1064" y="813"/>
                    </a:cubicBezTo>
                    <a:cubicBezTo>
                      <a:pt x="1002" y="819"/>
                      <a:pt x="970" y="830"/>
                      <a:pt x="928" y="881"/>
                    </a:cubicBezTo>
                    <a:cubicBezTo>
                      <a:pt x="886" y="932"/>
                      <a:pt x="860" y="1054"/>
                      <a:pt x="809" y="1119"/>
                    </a:cubicBezTo>
                    <a:cubicBezTo>
                      <a:pt x="758" y="1184"/>
                      <a:pt x="662" y="1221"/>
                      <a:pt x="622" y="1272"/>
                    </a:cubicBezTo>
                    <a:cubicBezTo>
                      <a:pt x="582" y="1323"/>
                      <a:pt x="568" y="1368"/>
                      <a:pt x="571" y="1425"/>
                    </a:cubicBezTo>
                    <a:cubicBezTo>
                      <a:pt x="574" y="1482"/>
                      <a:pt x="597" y="1550"/>
                      <a:pt x="639" y="1612"/>
                    </a:cubicBezTo>
                    <a:cubicBezTo>
                      <a:pt x="681" y="1674"/>
                      <a:pt x="764" y="1757"/>
                      <a:pt x="826" y="1799"/>
                    </a:cubicBezTo>
                    <a:cubicBezTo>
                      <a:pt x="888" y="1841"/>
                      <a:pt x="959" y="1859"/>
                      <a:pt x="1013" y="1867"/>
                    </a:cubicBezTo>
                    <a:cubicBezTo>
                      <a:pt x="1067" y="1875"/>
                      <a:pt x="1098" y="1853"/>
                      <a:pt x="1149" y="1850"/>
                    </a:cubicBezTo>
                    <a:cubicBezTo>
                      <a:pt x="1200" y="1847"/>
                      <a:pt x="1268" y="1895"/>
                      <a:pt x="1319" y="1850"/>
                    </a:cubicBezTo>
                    <a:cubicBezTo>
                      <a:pt x="1370" y="1805"/>
                      <a:pt x="1421" y="1638"/>
                      <a:pt x="1455" y="1578"/>
                    </a:cubicBezTo>
                    <a:cubicBezTo>
                      <a:pt x="1489" y="1518"/>
                      <a:pt x="1512" y="1530"/>
                      <a:pt x="1523" y="1493"/>
                    </a:cubicBezTo>
                    <a:cubicBezTo>
                      <a:pt x="1534" y="1456"/>
                      <a:pt x="1537" y="1399"/>
                      <a:pt x="1523" y="1357"/>
                    </a:cubicBezTo>
                    <a:cubicBezTo>
                      <a:pt x="1509" y="1315"/>
                      <a:pt x="1466" y="1263"/>
                      <a:pt x="1438" y="1238"/>
                    </a:cubicBezTo>
                    <a:cubicBezTo>
                      <a:pt x="1410" y="1213"/>
                      <a:pt x="1395" y="1210"/>
                      <a:pt x="1353" y="1204"/>
                    </a:cubicBezTo>
                    <a:cubicBezTo>
                      <a:pt x="1311" y="1198"/>
                      <a:pt x="1225" y="1198"/>
                      <a:pt x="1183" y="1204"/>
                    </a:cubicBezTo>
                    <a:cubicBezTo>
                      <a:pt x="1141" y="1210"/>
                      <a:pt x="1115" y="1215"/>
                      <a:pt x="1098" y="1238"/>
                    </a:cubicBezTo>
                    <a:cubicBezTo>
                      <a:pt x="1081" y="1261"/>
                      <a:pt x="1084" y="1309"/>
                      <a:pt x="1081" y="1340"/>
                    </a:cubicBezTo>
                    <a:cubicBezTo>
                      <a:pt x="1078" y="1371"/>
                      <a:pt x="1064" y="1397"/>
                      <a:pt x="1081" y="1425"/>
                    </a:cubicBezTo>
                    <a:cubicBezTo>
                      <a:pt x="1098" y="1453"/>
                      <a:pt x="1163" y="1496"/>
                      <a:pt x="1183" y="151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2320" y="291276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032520" y="3026160"/>
                <a:ext cx="52200" cy="52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50040" y="2793960"/>
                <a:ext cx="52200" cy="525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90080" y="1900800"/>
                <a:ext cx="966600" cy="1151280"/>
              </a:xfrm>
              <a:custGeom>
                <a:avLst/>
                <a:gdLst/>
                <a:ahLst/>
                <a:rect l="l" t="t" r="r" b="b"/>
                <a:pathLst>
                  <a:path w="1324" h="1578">
                    <a:moveTo>
                      <a:pt x="815" y="872"/>
                    </a:moveTo>
                    <a:cubicBezTo>
                      <a:pt x="856" y="891"/>
                      <a:pt x="898" y="910"/>
                      <a:pt x="935" y="932"/>
                    </a:cubicBezTo>
                    <a:cubicBezTo>
                      <a:pt x="972" y="954"/>
                      <a:pt x="990" y="999"/>
                      <a:pt x="1037" y="1004"/>
                    </a:cubicBezTo>
                    <a:cubicBezTo>
                      <a:pt x="1084" y="1009"/>
                      <a:pt x="1182" y="1032"/>
                      <a:pt x="1217" y="962"/>
                    </a:cubicBezTo>
                    <a:cubicBezTo>
                      <a:pt x="1252" y="892"/>
                      <a:pt x="1230" y="689"/>
                      <a:pt x="1247" y="584"/>
                    </a:cubicBezTo>
                    <a:cubicBezTo>
                      <a:pt x="1264" y="479"/>
                      <a:pt x="1324" y="406"/>
                      <a:pt x="1319" y="332"/>
                    </a:cubicBezTo>
                    <a:cubicBezTo>
                      <a:pt x="1314" y="258"/>
                      <a:pt x="1294" y="180"/>
                      <a:pt x="1217" y="140"/>
                    </a:cubicBezTo>
                    <a:cubicBezTo>
                      <a:pt x="1140" y="100"/>
                      <a:pt x="979" y="115"/>
                      <a:pt x="857" y="92"/>
                    </a:cubicBezTo>
                    <a:cubicBezTo>
                      <a:pt x="735" y="69"/>
                      <a:pt x="575" y="0"/>
                      <a:pt x="485" y="2"/>
                    </a:cubicBezTo>
                    <a:cubicBezTo>
                      <a:pt x="395" y="4"/>
                      <a:pt x="373" y="72"/>
                      <a:pt x="317" y="104"/>
                    </a:cubicBezTo>
                    <a:cubicBezTo>
                      <a:pt x="261" y="136"/>
                      <a:pt x="189" y="156"/>
                      <a:pt x="149" y="194"/>
                    </a:cubicBezTo>
                    <a:cubicBezTo>
                      <a:pt x="109" y="232"/>
                      <a:pt x="97" y="264"/>
                      <a:pt x="77" y="332"/>
                    </a:cubicBezTo>
                    <a:cubicBezTo>
                      <a:pt x="57" y="400"/>
                      <a:pt x="30" y="519"/>
                      <a:pt x="27" y="602"/>
                    </a:cubicBezTo>
                    <a:cubicBezTo>
                      <a:pt x="24" y="685"/>
                      <a:pt x="60" y="755"/>
                      <a:pt x="57" y="832"/>
                    </a:cubicBezTo>
                    <a:cubicBezTo>
                      <a:pt x="54" y="909"/>
                      <a:pt x="0" y="999"/>
                      <a:pt x="7" y="1062"/>
                    </a:cubicBezTo>
                    <a:cubicBezTo>
                      <a:pt x="14" y="1125"/>
                      <a:pt x="32" y="1156"/>
                      <a:pt x="97" y="1212"/>
                    </a:cubicBezTo>
                    <a:cubicBezTo>
                      <a:pt x="162" y="1268"/>
                      <a:pt x="308" y="1337"/>
                      <a:pt x="398" y="1398"/>
                    </a:cubicBezTo>
                    <a:cubicBezTo>
                      <a:pt x="488" y="1459"/>
                      <a:pt x="588" y="1540"/>
                      <a:pt x="638" y="157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87560" y="1765080"/>
                <a:ext cx="126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75400" y="2320920"/>
                <a:ext cx="52560" cy="52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03960" y="1532880"/>
                <a:ext cx="52560" cy="525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71080" y="2101320"/>
                <a:ext cx="1137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38080" y="2745720"/>
                <a:ext cx="52560" cy="5256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86320" y="2273040"/>
                <a:ext cx="52560" cy="52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307920" y="160308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38200" y="245520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312240" y="2671560"/>
                <a:ext cx="1101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59240" y="2080800"/>
                <a:ext cx="1008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65960" y="1957680"/>
                <a:ext cx="52560" cy="522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199800" y="4979880"/>
            <a:ext cx="8654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рас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скручивающаяся)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пирал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редставляет модель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ускорения 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зеле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кружнос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авномерного 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иня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раскручивающаяся)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пирал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– модель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замедления восприят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диус окружности для МРВ имеет значение коэффициента пропорциональности между шкала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изического и психологического времени: чем меньше радиус, тем выше интенсивность восприят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в единицу физического времени), но сама интенсивность остается неизменн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Arial"/>
              </a:rPr>
              <a:t>Зеленую окружность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можно рассматривать как аппроксимант для фрагмента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H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49800" y="4529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27200" y="4545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363680" y="266760"/>
            <a:ext cx="61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3. Качественная модель эволюционного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текущего цикла календаря Май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327680" y="1003320"/>
            <a:ext cx="6323400" cy="4119840"/>
            <a:chOff x="1327680" y="1003320"/>
            <a:chExt cx="6323400" cy="4119840"/>
          </a:xfrm>
        </p:grpSpPr>
        <p:grpSp>
          <p:nvGrpSpPr>
            <p:cNvPr id="602" name=""/>
            <p:cNvGrpSpPr/>
            <p:nvPr/>
          </p:nvGrpSpPr>
          <p:grpSpPr>
            <a:xfrm>
              <a:off x="1327680" y="1003320"/>
              <a:ext cx="6323400" cy="4119840"/>
              <a:chOff x="1327680" y="1003320"/>
              <a:chExt cx="6323400" cy="4119840"/>
            </a:xfrm>
          </p:grpSpPr>
          <p:sp>
            <p:nvSpPr>
              <p:cNvPr id="603" name=""/>
              <p:cNvSpPr/>
              <p:nvPr/>
            </p:nvSpPr>
            <p:spPr>
              <a:xfrm>
                <a:off x="1619280" y="2788560"/>
                <a:ext cx="58356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623600" y="4245480"/>
                <a:ext cx="5915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1602360" y="3263760"/>
                <a:ext cx="72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1640520" y="1805040"/>
                <a:ext cx="36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1000" y="1103040"/>
                <a:ext cx="5387760" cy="1646640"/>
              </a:xfrm>
              <a:custGeom>
                <a:avLst/>
                <a:gdLst/>
                <a:ahLst/>
                <a:rect l="l" t="t" r="r" b="b"/>
                <a:pathLst>
                  <a:path w="7667" h="2344">
                    <a:moveTo>
                      <a:pt x="0" y="2344"/>
                    </a:moveTo>
                    <a:cubicBezTo>
                      <a:pt x="160" y="2339"/>
                      <a:pt x="584" y="2326"/>
                      <a:pt x="960" y="2314"/>
                    </a:cubicBezTo>
                    <a:cubicBezTo>
                      <a:pt x="1336" y="2302"/>
                      <a:pt x="1986" y="2287"/>
                      <a:pt x="2257" y="2270"/>
                    </a:cubicBezTo>
                    <a:cubicBezTo>
                      <a:pt x="2528" y="2253"/>
                      <a:pt x="2332" y="2220"/>
                      <a:pt x="2587" y="2210"/>
                    </a:cubicBezTo>
                    <a:cubicBezTo>
                      <a:pt x="2842" y="2200"/>
                      <a:pt x="3490" y="2213"/>
                      <a:pt x="3787" y="2210"/>
                    </a:cubicBezTo>
                    <a:cubicBezTo>
                      <a:pt x="4084" y="2207"/>
                      <a:pt x="4230" y="2203"/>
                      <a:pt x="4367" y="2190"/>
                    </a:cubicBezTo>
                    <a:cubicBezTo>
                      <a:pt x="4504" y="2177"/>
                      <a:pt x="4442" y="2138"/>
                      <a:pt x="4607" y="2130"/>
                    </a:cubicBezTo>
                    <a:cubicBezTo>
                      <a:pt x="4772" y="2122"/>
                      <a:pt x="5159" y="2142"/>
                      <a:pt x="5357" y="2140"/>
                    </a:cubicBezTo>
                    <a:cubicBezTo>
                      <a:pt x="5555" y="2138"/>
                      <a:pt x="5685" y="2133"/>
                      <a:pt x="5797" y="2120"/>
                    </a:cubicBezTo>
                    <a:cubicBezTo>
                      <a:pt x="5909" y="2107"/>
                      <a:pt x="5902" y="2077"/>
                      <a:pt x="6027" y="2060"/>
                    </a:cubicBezTo>
                    <a:cubicBezTo>
                      <a:pt x="6152" y="2043"/>
                      <a:pt x="6425" y="2050"/>
                      <a:pt x="6547" y="2020"/>
                    </a:cubicBezTo>
                    <a:cubicBezTo>
                      <a:pt x="6669" y="1990"/>
                      <a:pt x="6670" y="1915"/>
                      <a:pt x="6757" y="1880"/>
                    </a:cubicBezTo>
                    <a:cubicBezTo>
                      <a:pt x="6844" y="1845"/>
                      <a:pt x="6990" y="1862"/>
                      <a:pt x="7067" y="1810"/>
                    </a:cubicBezTo>
                    <a:cubicBezTo>
                      <a:pt x="7144" y="1758"/>
                      <a:pt x="7164" y="1630"/>
                      <a:pt x="7217" y="1570"/>
                    </a:cubicBezTo>
                    <a:cubicBezTo>
                      <a:pt x="7270" y="1510"/>
                      <a:pt x="7330" y="1535"/>
                      <a:pt x="7387" y="1450"/>
                    </a:cubicBezTo>
                    <a:cubicBezTo>
                      <a:pt x="7444" y="1365"/>
                      <a:pt x="7515" y="1173"/>
                      <a:pt x="7557" y="1060"/>
                    </a:cubicBezTo>
                    <a:cubicBezTo>
                      <a:pt x="7599" y="947"/>
                      <a:pt x="7622" y="860"/>
                      <a:pt x="7637" y="770"/>
                    </a:cubicBezTo>
                    <a:cubicBezTo>
                      <a:pt x="7652" y="680"/>
                      <a:pt x="7642" y="648"/>
                      <a:pt x="7647" y="520"/>
                    </a:cubicBezTo>
                    <a:cubicBezTo>
                      <a:pt x="7652" y="392"/>
                      <a:pt x="7663" y="108"/>
                      <a:pt x="7667" y="0"/>
                    </a:cubicBez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661760" y="3684240"/>
                <a:ext cx="5451480" cy="519840"/>
              </a:xfrm>
              <a:custGeom>
                <a:avLst/>
                <a:gdLst/>
                <a:ahLst/>
                <a:rect l="l" t="t" r="r" b="b"/>
                <a:pathLst>
                  <a:path w="7758" h="740">
                    <a:moveTo>
                      <a:pt x="0" y="740"/>
                    </a:moveTo>
                    <a:cubicBezTo>
                      <a:pt x="321" y="733"/>
                      <a:pt x="1541" y="707"/>
                      <a:pt x="1927" y="700"/>
                    </a:cubicBezTo>
                    <a:cubicBezTo>
                      <a:pt x="2313" y="693"/>
                      <a:pt x="2232" y="735"/>
                      <a:pt x="2316" y="698"/>
                    </a:cubicBezTo>
                    <a:cubicBezTo>
                      <a:pt x="2400" y="661"/>
                      <a:pt x="2390" y="549"/>
                      <a:pt x="2431" y="476"/>
                    </a:cubicBezTo>
                    <a:cubicBezTo>
                      <a:pt x="2472" y="403"/>
                      <a:pt x="2534" y="263"/>
                      <a:pt x="2561" y="258"/>
                    </a:cubicBezTo>
                    <a:cubicBezTo>
                      <a:pt x="2588" y="253"/>
                      <a:pt x="2583" y="389"/>
                      <a:pt x="2593" y="444"/>
                    </a:cubicBezTo>
                    <a:cubicBezTo>
                      <a:pt x="2603" y="499"/>
                      <a:pt x="2599" y="543"/>
                      <a:pt x="2621" y="588"/>
                    </a:cubicBezTo>
                    <a:cubicBezTo>
                      <a:pt x="2643" y="633"/>
                      <a:pt x="2576" y="702"/>
                      <a:pt x="2724" y="716"/>
                    </a:cubicBezTo>
                    <a:cubicBezTo>
                      <a:pt x="2872" y="730"/>
                      <a:pt x="3232" y="679"/>
                      <a:pt x="3507" y="672"/>
                    </a:cubicBezTo>
                    <a:cubicBezTo>
                      <a:pt x="3782" y="665"/>
                      <a:pt x="4202" y="708"/>
                      <a:pt x="4374" y="672"/>
                    </a:cubicBezTo>
                    <a:cubicBezTo>
                      <a:pt x="4546" y="636"/>
                      <a:pt x="4509" y="533"/>
                      <a:pt x="4543" y="454"/>
                    </a:cubicBezTo>
                    <a:cubicBezTo>
                      <a:pt x="4577" y="375"/>
                      <a:pt x="4564" y="201"/>
                      <a:pt x="4581" y="198"/>
                    </a:cubicBezTo>
                    <a:cubicBezTo>
                      <a:pt x="4598" y="195"/>
                      <a:pt x="4620" y="364"/>
                      <a:pt x="4643" y="434"/>
                    </a:cubicBezTo>
                    <a:cubicBezTo>
                      <a:pt x="4666" y="504"/>
                      <a:pt x="4649" y="588"/>
                      <a:pt x="4721" y="618"/>
                    </a:cubicBezTo>
                    <a:cubicBezTo>
                      <a:pt x="4793" y="648"/>
                      <a:pt x="4891" y="621"/>
                      <a:pt x="5073" y="616"/>
                    </a:cubicBezTo>
                    <a:cubicBezTo>
                      <a:pt x="5255" y="611"/>
                      <a:pt x="5668" y="634"/>
                      <a:pt x="5811" y="588"/>
                    </a:cubicBezTo>
                    <a:cubicBezTo>
                      <a:pt x="5954" y="542"/>
                      <a:pt x="5899" y="417"/>
                      <a:pt x="5931" y="338"/>
                    </a:cubicBezTo>
                    <a:cubicBezTo>
                      <a:pt x="5963" y="259"/>
                      <a:pt x="5981" y="112"/>
                      <a:pt x="6003" y="114"/>
                    </a:cubicBezTo>
                    <a:cubicBezTo>
                      <a:pt x="6025" y="116"/>
                      <a:pt x="6043" y="276"/>
                      <a:pt x="6066" y="350"/>
                    </a:cubicBezTo>
                    <a:cubicBezTo>
                      <a:pt x="6089" y="424"/>
                      <a:pt x="6097" y="520"/>
                      <a:pt x="6141" y="558"/>
                    </a:cubicBezTo>
                    <a:cubicBezTo>
                      <a:pt x="6185" y="596"/>
                      <a:pt x="6263" y="581"/>
                      <a:pt x="6331" y="578"/>
                    </a:cubicBezTo>
                    <a:cubicBezTo>
                      <a:pt x="6399" y="575"/>
                      <a:pt x="6493" y="576"/>
                      <a:pt x="6551" y="538"/>
                    </a:cubicBezTo>
                    <a:cubicBezTo>
                      <a:pt x="6609" y="500"/>
                      <a:pt x="6651" y="420"/>
                      <a:pt x="6681" y="350"/>
                    </a:cubicBezTo>
                    <a:cubicBezTo>
                      <a:pt x="6711" y="280"/>
                      <a:pt x="6705" y="116"/>
                      <a:pt x="6731" y="118"/>
                    </a:cubicBezTo>
                    <a:cubicBezTo>
                      <a:pt x="6757" y="120"/>
                      <a:pt x="6802" y="291"/>
                      <a:pt x="6835" y="364"/>
                    </a:cubicBezTo>
                    <a:cubicBezTo>
                      <a:pt x="6868" y="437"/>
                      <a:pt x="6885" y="532"/>
                      <a:pt x="6931" y="558"/>
                    </a:cubicBezTo>
                    <a:cubicBezTo>
                      <a:pt x="6977" y="584"/>
                      <a:pt x="7067" y="548"/>
                      <a:pt x="7111" y="518"/>
                    </a:cubicBezTo>
                    <a:cubicBezTo>
                      <a:pt x="7155" y="488"/>
                      <a:pt x="7181" y="438"/>
                      <a:pt x="7198" y="378"/>
                    </a:cubicBezTo>
                    <a:cubicBezTo>
                      <a:pt x="7215" y="318"/>
                      <a:pt x="7196" y="155"/>
                      <a:pt x="7212" y="155"/>
                    </a:cubicBezTo>
                    <a:cubicBezTo>
                      <a:pt x="7228" y="155"/>
                      <a:pt x="7280" y="324"/>
                      <a:pt x="7296" y="378"/>
                    </a:cubicBezTo>
                    <a:cubicBezTo>
                      <a:pt x="7312" y="432"/>
                      <a:pt x="7290" y="460"/>
                      <a:pt x="7311" y="478"/>
                    </a:cubicBezTo>
                    <a:cubicBezTo>
                      <a:pt x="7332" y="496"/>
                      <a:pt x="7396" y="518"/>
                      <a:pt x="7421" y="488"/>
                    </a:cubicBezTo>
                    <a:cubicBezTo>
                      <a:pt x="7446" y="458"/>
                      <a:pt x="7445" y="363"/>
                      <a:pt x="7461" y="298"/>
                    </a:cubicBezTo>
                    <a:cubicBezTo>
                      <a:pt x="7477" y="233"/>
                      <a:pt x="7501" y="83"/>
                      <a:pt x="7520" y="99"/>
                    </a:cubicBezTo>
                    <a:cubicBezTo>
                      <a:pt x="7539" y="115"/>
                      <a:pt x="7558" y="339"/>
                      <a:pt x="7576" y="392"/>
                    </a:cubicBezTo>
                    <a:cubicBezTo>
                      <a:pt x="7594" y="445"/>
                      <a:pt x="7619" y="482"/>
                      <a:pt x="7631" y="418"/>
                    </a:cubicBezTo>
                    <a:cubicBezTo>
                      <a:pt x="7643" y="354"/>
                      <a:pt x="7638" y="16"/>
                      <a:pt x="7651" y="8"/>
                    </a:cubicBezTo>
                    <a:cubicBezTo>
                      <a:pt x="7664" y="0"/>
                      <a:pt x="7694" y="358"/>
                      <a:pt x="7711" y="368"/>
                    </a:cubicBezTo>
                    <a:cubicBezTo>
                      <a:pt x="7728" y="378"/>
                      <a:pt x="7744" y="78"/>
                      <a:pt x="7751" y="68"/>
                    </a:cubicBezTo>
                    <a:cubicBezTo>
                      <a:pt x="7758" y="58"/>
                      <a:pt x="7751" y="258"/>
                      <a:pt x="7751" y="308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94440" y="2673720"/>
                <a:ext cx="42120" cy="1833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857840" y="2610720"/>
                <a:ext cx="46080" cy="18673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57200" y="2564280"/>
                <a:ext cx="25200" cy="188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392520" y="2446200"/>
                <a:ext cx="16560" cy="2031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17240" y="2282040"/>
                <a:ext cx="16560" cy="2162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932160" y="2049840"/>
                <a:ext cx="24840" cy="2402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23600" y="4482360"/>
                <a:ext cx="18129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445200" y="4461480"/>
                <a:ext cx="14630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887000" y="4457160"/>
                <a:ext cx="990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86720" y="4457160"/>
                <a:ext cx="5184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17720" y="4457160"/>
                <a:ext cx="336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66640" y="4676760"/>
                <a:ext cx="684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012920" y="467676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76800" y="457236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34240" y="457236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88200" y="457236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85000" y="4656600"/>
                <a:ext cx="612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92760" y="4180320"/>
                <a:ext cx="583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52160" y="32464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27680" y="1763280"/>
                <a:ext cx="1101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81600" y="2695680"/>
                <a:ext cx="583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95600" y="2855160"/>
                <a:ext cx="16776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02520" y="2855880"/>
                <a:ext cx="1008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113600" y="1089000"/>
                <a:ext cx="37800" cy="3389040"/>
              </a:xfrm>
              <a:prstGeom prst="line">
                <a:avLst/>
              </a:prstGeom>
              <a:ln cap="rnd" w="93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113600" y="277596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26200" y="422928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20160" y="4369320"/>
                <a:ext cx="1008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442160" y="4334040"/>
                <a:ext cx="126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63040" y="2873520"/>
                <a:ext cx="126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19280" y="277488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81480" y="423000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20840" y="2855160"/>
                <a:ext cx="16776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03280" y="2855160"/>
                <a:ext cx="16776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845240" y="277488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77520" y="277992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40280" y="277092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75600" y="278352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3200" y="3035160"/>
                <a:ext cx="1436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а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85520" y="4912560"/>
                <a:ext cx="16848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б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40520" y="2863440"/>
                <a:ext cx="304560" cy="21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ffffff"/>
                    </a:solidFill>
                    <a:latin typeface="Arial"/>
                  </a:rPr>
                  <a:t>=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ru-RU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396840" y="423000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5480" y="422928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83040" y="422928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411360" y="4237920"/>
                <a:ext cx="37800" cy="3708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90200" y="1003320"/>
                <a:ext cx="267480" cy="1662120"/>
              </a:xfrm>
              <a:custGeom>
                <a:avLst/>
                <a:gdLst/>
                <a:ahLst/>
                <a:rect l="l" t="t" r="r" b="b"/>
                <a:pathLst>
                  <a:path w="381" h="2366">
                    <a:moveTo>
                      <a:pt x="0" y="150"/>
                    </a:moveTo>
                    <a:cubicBezTo>
                      <a:pt x="5" y="135"/>
                      <a:pt x="17" y="63"/>
                      <a:pt x="30" y="60"/>
                    </a:cubicBezTo>
                    <a:cubicBezTo>
                      <a:pt x="43" y="57"/>
                      <a:pt x="61" y="0"/>
                      <a:pt x="80" y="130"/>
                    </a:cubicBezTo>
                    <a:cubicBezTo>
                      <a:pt x="99" y="260"/>
                      <a:pt x="133" y="538"/>
                      <a:pt x="146" y="841"/>
                    </a:cubicBezTo>
                    <a:cubicBezTo>
                      <a:pt x="159" y="1144"/>
                      <a:pt x="139" y="1709"/>
                      <a:pt x="160" y="1946"/>
                    </a:cubicBezTo>
                    <a:cubicBezTo>
                      <a:pt x="181" y="2183"/>
                      <a:pt x="236" y="2194"/>
                      <a:pt x="273" y="2264"/>
                    </a:cubicBezTo>
                    <a:cubicBezTo>
                      <a:pt x="310" y="2334"/>
                      <a:pt x="345" y="2332"/>
                      <a:pt x="381" y="2366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408400" y="4627440"/>
                <a:ext cx="14760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4032360" y="4637160"/>
                <a:ext cx="360360" cy="1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184720" y="4508640"/>
                <a:ext cx="4539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5940360" y="4508640"/>
                <a:ext cx="442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443640" y="4508640"/>
                <a:ext cx="4428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153000" y="5262480"/>
            <a:ext cx="89650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нтегральн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эволюционное врем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ак функция физического времени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на интервале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,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"/>
              </a:rPr>
              <a:t>Красным пунктиром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изображен возможный ход эволюционного времени после граничной точки 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ифференциально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эволюционное время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как функция физического времени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интервала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0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),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),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), … , убывающих в геометрической прогрессии со знаменателем, равным числ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Золотого Сече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 = 1.61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плески  на этой кривой увеличены для наглядности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62440" y="266760"/>
            <a:ext cx="65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4. Линейные развертки (а, в) и фазовые портреты (б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волюционного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547640" y="1175040"/>
            <a:ext cx="6136200" cy="3463200"/>
            <a:chOff x="1547640" y="1175040"/>
            <a:chExt cx="6136200" cy="3463200"/>
          </a:xfrm>
        </p:grpSpPr>
        <p:grpSp>
          <p:nvGrpSpPr>
            <p:cNvPr id="670" name=""/>
            <p:cNvGrpSpPr/>
            <p:nvPr/>
          </p:nvGrpSpPr>
          <p:grpSpPr>
            <a:xfrm>
              <a:off x="1547640" y="1175040"/>
              <a:ext cx="6136200" cy="3463200"/>
              <a:chOff x="1547640" y="1175040"/>
              <a:chExt cx="6136200" cy="3463200"/>
            </a:xfrm>
          </p:grpSpPr>
          <p:sp>
            <p:nvSpPr>
              <p:cNvPr id="671" name=""/>
              <p:cNvSpPr/>
              <p:nvPr/>
            </p:nvSpPr>
            <p:spPr>
              <a:xfrm>
                <a:off x="4749120" y="2749680"/>
                <a:ext cx="1221120" cy="122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8400" y="3360600"/>
                <a:ext cx="1477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366520" y="2566800"/>
                <a:ext cx="720" cy="1499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4" name=""/>
              <p:cNvGrpSpPr/>
              <p:nvPr/>
            </p:nvGrpSpPr>
            <p:grpSpPr>
              <a:xfrm>
                <a:off x="1547640" y="2590200"/>
                <a:ext cx="1477800" cy="1501200"/>
                <a:chOff x="1547640" y="2590200"/>
                <a:chExt cx="1477800" cy="150120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1612800" y="2748240"/>
                  <a:ext cx="1223280" cy="1223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547640" y="3357720"/>
                  <a:ext cx="147780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2221920" y="2590200"/>
                  <a:ext cx="360" cy="1501200"/>
                </a:xfrm>
                <a:prstGeom prst="line">
                  <a:avLst/>
                </a:prstGeom>
                <a:ln cap="rnd" w="648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822320" y="2844720"/>
                  <a:ext cx="1011600" cy="833040"/>
                </a:xfrm>
                <a:custGeom>
                  <a:avLst/>
                  <a:gdLst/>
                  <a:ahLst/>
                  <a:rect l="l" t="t" r="r" b="b"/>
                  <a:pathLst>
                    <a:path w="1593" h="1312">
                      <a:moveTo>
                        <a:pt x="1593" y="802"/>
                      </a:moveTo>
                      <a:cubicBezTo>
                        <a:pt x="1572" y="751"/>
                        <a:pt x="1526" y="588"/>
                        <a:pt x="1475" y="497"/>
                      </a:cubicBezTo>
                      <a:cubicBezTo>
                        <a:pt x="1424" y="406"/>
                        <a:pt x="1372" y="329"/>
                        <a:pt x="1285" y="257"/>
                      </a:cubicBezTo>
                      <a:cubicBezTo>
                        <a:pt x="1198" y="185"/>
                        <a:pt x="1075" y="104"/>
                        <a:pt x="953" y="65"/>
                      </a:cubicBezTo>
                      <a:cubicBezTo>
                        <a:pt x="831" y="26"/>
                        <a:pt x="681" y="0"/>
                        <a:pt x="553" y="23"/>
                      </a:cubicBezTo>
                      <a:cubicBezTo>
                        <a:pt x="425" y="46"/>
                        <a:pt x="274" y="104"/>
                        <a:pt x="183" y="205"/>
                      </a:cubicBezTo>
                      <a:cubicBezTo>
                        <a:pt x="92" y="306"/>
                        <a:pt x="10" y="478"/>
                        <a:pt x="5" y="627"/>
                      </a:cubicBezTo>
                      <a:cubicBezTo>
                        <a:pt x="0" y="776"/>
                        <a:pt x="75" y="987"/>
                        <a:pt x="155" y="1097"/>
                      </a:cubicBezTo>
                      <a:cubicBezTo>
                        <a:pt x="235" y="1207"/>
                        <a:pt x="385" y="1262"/>
                        <a:pt x="485" y="1287"/>
                      </a:cubicBezTo>
                      <a:cubicBezTo>
                        <a:pt x="585" y="1312"/>
                        <a:pt x="688" y="1271"/>
                        <a:pt x="755" y="1247"/>
                      </a:cubicBezTo>
                      <a:cubicBezTo>
                        <a:pt x="822" y="1223"/>
                        <a:pt x="866" y="1191"/>
                        <a:pt x="885" y="1143"/>
                      </a:cubicBezTo>
                      <a:cubicBezTo>
                        <a:pt x="904" y="1095"/>
                        <a:pt x="908" y="1013"/>
                        <a:pt x="870" y="957"/>
                      </a:cubicBezTo>
                      <a:cubicBezTo>
                        <a:pt x="832" y="901"/>
                        <a:pt x="700" y="838"/>
                        <a:pt x="655" y="806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817360" y="3336840"/>
                  <a:ext cx="34200" cy="342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215080" y="3336840"/>
                  <a:ext cx="34200" cy="342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4993560" y="2751120"/>
                <a:ext cx="378360" cy="602640"/>
              </a:xfrm>
              <a:custGeom>
                <a:avLst/>
                <a:gdLst/>
                <a:ahLst/>
                <a:rect l="l" t="t" r="r" b="b"/>
                <a:pathLst>
                  <a:path w="596" h="949">
                    <a:moveTo>
                      <a:pt x="596" y="0"/>
                    </a:moveTo>
                    <a:cubicBezTo>
                      <a:pt x="575" y="4"/>
                      <a:pt x="527" y="14"/>
                      <a:pt x="476" y="30"/>
                    </a:cubicBezTo>
                    <a:cubicBezTo>
                      <a:pt x="425" y="46"/>
                      <a:pt x="352" y="61"/>
                      <a:pt x="288" y="94"/>
                    </a:cubicBezTo>
                    <a:cubicBezTo>
                      <a:pt x="224" y="127"/>
                      <a:pt x="140" y="176"/>
                      <a:pt x="94" y="226"/>
                    </a:cubicBezTo>
                    <a:cubicBezTo>
                      <a:pt x="48" y="276"/>
                      <a:pt x="24" y="335"/>
                      <a:pt x="12" y="391"/>
                    </a:cubicBezTo>
                    <a:cubicBezTo>
                      <a:pt x="0" y="447"/>
                      <a:pt x="2" y="508"/>
                      <a:pt x="19" y="563"/>
                    </a:cubicBezTo>
                    <a:cubicBezTo>
                      <a:pt x="36" y="618"/>
                      <a:pt x="72" y="680"/>
                      <a:pt x="111" y="724"/>
                    </a:cubicBezTo>
                    <a:cubicBezTo>
                      <a:pt x="150" y="768"/>
                      <a:pt x="210" y="802"/>
                      <a:pt x="252" y="829"/>
                    </a:cubicBezTo>
                    <a:cubicBezTo>
                      <a:pt x="294" y="856"/>
                      <a:pt x="327" y="873"/>
                      <a:pt x="366" y="889"/>
                    </a:cubicBezTo>
                    <a:cubicBezTo>
                      <a:pt x="405" y="905"/>
                      <a:pt x="452" y="915"/>
                      <a:pt x="486" y="925"/>
                    </a:cubicBezTo>
                    <a:cubicBezTo>
                      <a:pt x="520" y="935"/>
                      <a:pt x="555" y="944"/>
                      <a:pt x="573" y="949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0840" y="2986560"/>
                <a:ext cx="602640" cy="381600"/>
              </a:xfrm>
              <a:custGeom>
                <a:avLst/>
                <a:gdLst/>
                <a:ahLst/>
                <a:rect l="l" t="t" r="r" b="b"/>
                <a:pathLst>
                  <a:path w="949" h="601">
                    <a:moveTo>
                      <a:pt x="949" y="601"/>
                    </a:moveTo>
                    <a:cubicBezTo>
                      <a:pt x="945" y="580"/>
                      <a:pt x="937" y="528"/>
                      <a:pt x="923" y="476"/>
                    </a:cubicBezTo>
                    <a:cubicBezTo>
                      <a:pt x="909" y="424"/>
                      <a:pt x="895" y="352"/>
                      <a:pt x="863" y="288"/>
                    </a:cubicBezTo>
                    <a:cubicBezTo>
                      <a:pt x="831" y="224"/>
                      <a:pt x="781" y="140"/>
                      <a:pt x="731" y="94"/>
                    </a:cubicBezTo>
                    <a:cubicBezTo>
                      <a:pt x="681" y="48"/>
                      <a:pt x="622" y="24"/>
                      <a:pt x="566" y="12"/>
                    </a:cubicBezTo>
                    <a:cubicBezTo>
                      <a:pt x="510" y="0"/>
                      <a:pt x="452" y="2"/>
                      <a:pt x="394" y="19"/>
                    </a:cubicBezTo>
                    <a:cubicBezTo>
                      <a:pt x="336" y="36"/>
                      <a:pt x="263" y="76"/>
                      <a:pt x="216" y="113"/>
                    </a:cubicBezTo>
                    <a:cubicBezTo>
                      <a:pt x="169" y="150"/>
                      <a:pt x="137" y="203"/>
                      <a:pt x="111" y="242"/>
                    </a:cubicBezTo>
                    <a:cubicBezTo>
                      <a:pt x="85" y="281"/>
                      <a:pt x="74" y="310"/>
                      <a:pt x="60" y="347"/>
                    </a:cubicBezTo>
                    <a:cubicBezTo>
                      <a:pt x="46" y="384"/>
                      <a:pt x="37" y="424"/>
                      <a:pt x="27" y="464"/>
                    </a:cubicBezTo>
                    <a:cubicBezTo>
                      <a:pt x="17" y="504"/>
                      <a:pt x="6" y="561"/>
                      <a:pt x="0" y="587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76600" y="3364920"/>
                <a:ext cx="379080" cy="603720"/>
              </a:xfrm>
              <a:custGeom>
                <a:avLst/>
                <a:gdLst/>
                <a:ahLst/>
                <a:rect l="l" t="t" r="r" b="b"/>
                <a:pathLst>
                  <a:path w="597" h="951">
                    <a:moveTo>
                      <a:pt x="0" y="951"/>
                    </a:moveTo>
                    <a:cubicBezTo>
                      <a:pt x="21" y="947"/>
                      <a:pt x="70" y="936"/>
                      <a:pt x="121" y="921"/>
                    </a:cubicBezTo>
                    <a:cubicBezTo>
                      <a:pt x="172" y="906"/>
                      <a:pt x="245" y="893"/>
                      <a:pt x="309" y="861"/>
                    </a:cubicBezTo>
                    <a:cubicBezTo>
                      <a:pt x="373" y="829"/>
                      <a:pt x="457" y="779"/>
                      <a:pt x="503" y="729"/>
                    </a:cubicBezTo>
                    <a:cubicBezTo>
                      <a:pt x="549" y="679"/>
                      <a:pt x="573" y="620"/>
                      <a:pt x="585" y="564"/>
                    </a:cubicBezTo>
                    <a:cubicBezTo>
                      <a:pt x="597" y="508"/>
                      <a:pt x="597" y="446"/>
                      <a:pt x="578" y="392"/>
                    </a:cubicBezTo>
                    <a:cubicBezTo>
                      <a:pt x="559" y="338"/>
                      <a:pt x="507" y="282"/>
                      <a:pt x="468" y="240"/>
                    </a:cubicBezTo>
                    <a:cubicBezTo>
                      <a:pt x="429" y="198"/>
                      <a:pt x="383" y="168"/>
                      <a:pt x="342" y="141"/>
                    </a:cubicBezTo>
                    <a:cubicBezTo>
                      <a:pt x="301" y="114"/>
                      <a:pt x="261" y="93"/>
                      <a:pt x="222" y="75"/>
                    </a:cubicBezTo>
                    <a:cubicBezTo>
                      <a:pt x="183" y="57"/>
                      <a:pt x="145" y="43"/>
                      <a:pt x="108" y="30"/>
                    </a:cubicBezTo>
                    <a:cubicBezTo>
                      <a:pt x="71" y="17"/>
                      <a:pt x="25" y="6"/>
                      <a:pt x="3" y="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47680" y="3361320"/>
                <a:ext cx="619200" cy="380160"/>
              </a:xfrm>
              <a:custGeom>
                <a:avLst/>
                <a:gdLst/>
                <a:ahLst/>
                <a:rect l="l" t="t" r="r" b="b"/>
                <a:pathLst>
                  <a:path w="975" h="599">
                    <a:moveTo>
                      <a:pt x="0" y="0"/>
                    </a:moveTo>
                    <a:cubicBezTo>
                      <a:pt x="5" y="21"/>
                      <a:pt x="16" y="74"/>
                      <a:pt x="33" y="126"/>
                    </a:cubicBezTo>
                    <a:cubicBezTo>
                      <a:pt x="50" y="178"/>
                      <a:pt x="68" y="248"/>
                      <a:pt x="101" y="311"/>
                    </a:cubicBezTo>
                    <a:cubicBezTo>
                      <a:pt x="134" y="374"/>
                      <a:pt x="183" y="459"/>
                      <a:pt x="233" y="505"/>
                    </a:cubicBezTo>
                    <a:cubicBezTo>
                      <a:pt x="283" y="551"/>
                      <a:pt x="342" y="575"/>
                      <a:pt x="398" y="587"/>
                    </a:cubicBezTo>
                    <a:cubicBezTo>
                      <a:pt x="454" y="599"/>
                      <a:pt x="512" y="597"/>
                      <a:pt x="570" y="580"/>
                    </a:cubicBezTo>
                    <a:cubicBezTo>
                      <a:pt x="628" y="563"/>
                      <a:pt x="701" y="523"/>
                      <a:pt x="748" y="486"/>
                    </a:cubicBezTo>
                    <a:cubicBezTo>
                      <a:pt x="795" y="449"/>
                      <a:pt x="826" y="398"/>
                      <a:pt x="853" y="357"/>
                    </a:cubicBezTo>
                    <a:cubicBezTo>
                      <a:pt x="880" y="316"/>
                      <a:pt x="893" y="276"/>
                      <a:pt x="908" y="239"/>
                    </a:cubicBezTo>
                    <a:cubicBezTo>
                      <a:pt x="923" y="202"/>
                      <a:pt x="934" y="169"/>
                      <a:pt x="945" y="134"/>
                    </a:cubicBezTo>
                    <a:cubicBezTo>
                      <a:pt x="956" y="99"/>
                      <a:pt x="969" y="51"/>
                      <a:pt x="975" y="29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351400" y="3340440"/>
                <a:ext cx="34200" cy="342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43840" y="3949920"/>
                <a:ext cx="34200" cy="342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949720" y="3348000"/>
                <a:ext cx="34200" cy="342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34000" y="3348000"/>
                <a:ext cx="34200" cy="342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347440" y="2742120"/>
                <a:ext cx="34200" cy="3420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6313320" y="2668320"/>
                <a:ext cx="1370520" cy="1417320"/>
                <a:chOff x="6313320" y="2668320"/>
                <a:chExt cx="1370520" cy="14173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6445440" y="2752200"/>
                  <a:ext cx="1221840" cy="1222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46640" y="3353400"/>
                  <a:ext cx="25920" cy="273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>
                  <a:off x="7049160" y="2759760"/>
                  <a:ext cx="11880" cy="601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7065360" y="3182400"/>
                  <a:ext cx="575280" cy="1789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061760" y="3365640"/>
                  <a:ext cx="330840" cy="4982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6706800" y="3365640"/>
                  <a:ext cx="358200" cy="490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flipV="1">
                  <a:off x="6478200" y="3182760"/>
                  <a:ext cx="586440" cy="182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066800" y="2890440"/>
                  <a:ext cx="568800" cy="46260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rot="17266200">
                  <a:off x="6629400" y="2777760"/>
                  <a:ext cx="568080" cy="46332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12924000">
                  <a:off x="6394680" y="3167280"/>
                  <a:ext cx="567720" cy="46296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8598600">
                  <a:off x="6691680" y="3498840"/>
                  <a:ext cx="568440" cy="46296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rot="4395600">
                  <a:off x="7096680" y="3344040"/>
                  <a:ext cx="567000" cy="46332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610400" y="3162960"/>
                  <a:ext cx="34200" cy="3420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381800" y="3844440"/>
                  <a:ext cx="34200" cy="349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692040" y="3844440"/>
                  <a:ext cx="33480" cy="349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463440" y="3174840"/>
                  <a:ext cx="34200" cy="3348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031160" y="2740680"/>
                  <a:ext cx="34200" cy="3420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46640" y="3341880"/>
                  <a:ext cx="34200" cy="349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7016040" y="416844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07480" y="416844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15200" y="416844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52800" y="4168440"/>
                <a:ext cx="1177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55400" y="2743560"/>
                <a:ext cx="1222560" cy="122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163320" y="2910960"/>
                <a:ext cx="1216080" cy="1057680"/>
              </a:xfrm>
              <a:custGeom>
                <a:avLst/>
                <a:gdLst/>
                <a:ahLst/>
                <a:rect l="l" t="t" r="r" b="b"/>
                <a:pathLst>
                  <a:path w="1915" h="1666">
                    <a:moveTo>
                      <a:pt x="993" y="685"/>
                    </a:moveTo>
                    <a:cubicBezTo>
                      <a:pt x="939" y="655"/>
                      <a:pt x="918" y="658"/>
                      <a:pt x="873" y="633"/>
                    </a:cubicBezTo>
                    <a:cubicBezTo>
                      <a:pt x="828" y="608"/>
                      <a:pt x="760" y="569"/>
                      <a:pt x="723" y="535"/>
                    </a:cubicBezTo>
                    <a:cubicBezTo>
                      <a:pt x="686" y="501"/>
                      <a:pt x="665" y="464"/>
                      <a:pt x="648" y="430"/>
                    </a:cubicBezTo>
                    <a:cubicBezTo>
                      <a:pt x="631" y="396"/>
                      <a:pt x="617" y="375"/>
                      <a:pt x="618" y="333"/>
                    </a:cubicBezTo>
                    <a:cubicBezTo>
                      <a:pt x="619" y="291"/>
                      <a:pt x="623" y="221"/>
                      <a:pt x="655" y="175"/>
                    </a:cubicBezTo>
                    <a:cubicBezTo>
                      <a:pt x="687" y="129"/>
                      <a:pt x="754" y="84"/>
                      <a:pt x="813" y="55"/>
                    </a:cubicBezTo>
                    <a:cubicBezTo>
                      <a:pt x="872" y="26"/>
                      <a:pt x="937" y="2"/>
                      <a:pt x="1008" y="1"/>
                    </a:cubicBezTo>
                    <a:cubicBezTo>
                      <a:pt x="1079" y="0"/>
                      <a:pt x="1172" y="25"/>
                      <a:pt x="1242" y="49"/>
                    </a:cubicBezTo>
                    <a:cubicBezTo>
                      <a:pt x="1312" y="73"/>
                      <a:pt x="1371" y="110"/>
                      <a:pt x="1428" y="145"/>
                    </a:cubicBezTo>
                    <a:cubicBezTo>
                      <a:pt x="1485" y="180"/>
                      <a:pt x="1533" y="207"/>
                      <a:pt x="1585" y="257"/>
                    </a:cubicBezTo>
                    <a:cubicBezTo>
                      <a:pt x="1637" y="307"/>
                      <a:pt x="1696" y="385"/>
                      <a:pt x="1740" y="444"/>
                    </a:cubicBezTo>
                    <a:cubicBezTo>
                      <a:pt x="1784" y="503"/>
                      <a:pt x="1820" y="562"/>
                      <a:pt x="1848" y="609"/>
                    </a:cubicBezTo>
                    <a:cubicBezTo>
                      <a:pt x="1876" y="656"/>
                      <a:pt x="1901" y="685"/>
                      <a:pt x="1908" y="729"/>
                    </a:cubicBezTo>
                    <a:cubicBezTo>
                      <a:pt x="1915" y="773"/>
                      <a:pt x="1907" y="806"/>
                      <a:pt x="1890" y="871"/>
                    </a:cubicBezTo>
                    <a:cubicBezTo>
                      <a:pt x="1873" y="936"/>
                      <a:pt x="1834" y="1049"/>
                      <a:pt x="1803" y="1119"/>
                    </a:cubicBezTo>
                    <a:cubicBezTo>
                      <a:pt x="1772" y="1189"/>
                      <a:pt x="1771" y="1220"/>
                      <a:pt x="1704" y="1291"/>
                    </a:cubicBezTo>
                    <a:cubicBezTo>
                      <a:pt x="1637" y="1362"/>
                      <a:pt x="1484" y="1496"/>
                      <a:pt x="1398" y="1547"/>
                    </a:cubicBezTo>
                    <a:cubicBezTo>
                      <a:pt x="1312" y="1598"/>
                      <a:pt x="1251" y="1581"/>
                      <a:pt x="1188" y="1599"/>
                    </a:cubicBezTo>
                    <a:cubicBezTo>
                      <a:pt x="1125" y="1617"/>
                      <a:pt x="1076" y="1648"/>
                      <a:pt x="1020" y="1657"/>
                    </a:cubicBezTo>
                    <a:cubicBezTo>
                      <a:pt x="964" y="1666"/>
                      <a:pt x="915" y="1662"/>
                      <a:pt x="850" y="1652"/>
                    </a:cubicBezTo>
                    <a:cubicBezTo>
                      <a:pt x="785" y="1642"/>
                      <a:pt x="697" y="1621"/>
                      <a:pt x="630" y="1597"/>
                    </a:cubicBezTo>
                    <a:cubicBezTo>
                      <a:pt x="563" y="1573"/>
                      <a:pt x="503" y="1545"/>
                      <a:pt x="445" y="1509"/>
                    </a:cubicBezTo>
                    <a:cubicBezTo>
                      <a:pt x="387" y="1473"/>
                      <a:pt x="332" y="1434"/>
                      <a:pt x="280" y="1382"/>
                    </a:cubicBezTo>
                    <a:cubicBezTo>
                      <a:pt x="228" y="1330"/>
                      <a:pt x="170" y="1252"/>
                      <a:pt x="132" y="1195"/>
                    </a:cubicBezTo>
                    <a:cubicBezTo>
                      <a:pt x="94" y="1138"/>
                      <a:pt x="74" y="1093"/>
                      <a:pt x="54" y="1039"/>
                    </a:cubicBezTo>
                    <a:cubicBezTo>
                      <a:pt x="34" y="985"/>
                      <a:pt x="19" y="911"/>
                      <a:pt x="12" y="871"/>
                    </a:cubicBezTo>
                    <a:cubicBezTo>
                      <a:pt x="5" y="831"/>
                      <a:pt x="0" y="785"/>
                      <a:pt x="12" y="799"/>
                    </a:cubicBezTo>
                    <a:cubicBezTo>
                      <a:pt x="24" y="813"/>
                      <a:pt x="56" y="904"/>
                      <a:pt x="84" y="955"/>
                    </a:cubicBezTo>
                    <a:cubicBezTo>
                      <a:pt x="112" y="1006"/>
                      <a:pt x="145" y="1064"/>
                      <a:pt x="180" y="1105"/>
                    </a:cubicBezTo>
                    <a:cubicBezTo>
                      <a:pt x="215" y="1146"/>
                      <a:pt x="244" y="1164"/>
                      <a:pt x="294" y="1201"/>
                    </a:cubicBezTo>
                    <a:cubicBezTo>
                      <a:pt x="344" y="1238"/>
                      <a:pt x="413" y="1296"/>
                      <a:pt x="483" y="1330"/>
                    </a:cubicBezTo>
                    <a:cubicBezTo>
                      <a:pt x="553" y="1364"/>
                      <a:pt x="624" y="1391"/>
                      <a:pt x="715" y="1405"/>
                    </a:cubicBezTo>
                    <a:cubicBezTo>
                      <a:pt x="806" y="1419"/>
                      <a:pt x="951" y="1425"/>
                      <a:pt x="1030" y="1413"/>
                    </a:cubicBezTo>
                    <a:cubicBezTo>
                      <a:pt x="1109" y="1401"/>
                      <a:pt x="1143" y="1369"/>
                      <a:pt x="1188" y="1330"/>
                    </a:cubicBezTo>
                    <a:cubicBezTo>
                      <a:pt x="1233" y="1291"/>
                      <a:pt x="1279" y="1236"/>
                      <a:pt x="1302" y="1177"/>
                    </a:cubicBezTo>
                    <a:cubicBezTo>
                      <a:pt x="1325" y="1118"/>
                      <a:pt x="1338" y="1041"/>
                      <a:pt x="1323" y="978"/>
                    </a:cubicBezTo>
                    <a:cubicBezTo>
                      <a:pt x="1308" y="915"/>
                      <a:pt x="1265" y="847"/>
                      <a:pt x="1210" y="798"/>
                    </a:cubicBezTo>
                    <a:cubicBezTo>
                      <a:pt x="1155" y="749"/>
                      <a:pt x="1038" y="709"/>
                      <a:pt x="993" y="6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063960" y="3353760"/>
                <a:ext cx="14778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69200" y="3341520"/>
                <a:ext cx="34200" cy="3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359960" y="3337560"/>
                <a:ext cx="34200" cy="3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65240" y="3346200"/>
                <a:ext cx="34200" cy="3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489560" y="4432680"/>
                <a:ext cx="277920" cy="20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б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533400" y="2890080"/>
                <a:ext cx="840240" cy="465480"/>
              </a:xfrm>
              <a:custGeom>
                <a:avLst/>
                <a:gdLst/>
                <a:ahLst/>
                <a:rect l="l" t="t" r="r" b="b"/>
                <a:pathLst>
                  <a:path w="1323" h="733">
                    <a:moveTo>
                      <a:pt x="1323" y="707"/>
                    </a:moveTo>
                    <a:cubicBezTo>
                      <a:pt x="1279" y="642"/>
                      <a:pt x="1168" y="427"/>
                      <a:pt x="1062" y="320"/>
                    </a:cubicBezTo>
                    <a:cubicBezTo>
                      <a:pt x="956" y="213"/>
                      <a:pt x="807" y="115"/>
                      <a:pt x="687" y="65"/>
                    </a:cubicBezTo>
                    <a:cubicBezTo>
                      <a:pt x="567" y="15"/>
                      <a:pt x="444" y="0"/>
                      <a:pt x="342" y="17"/>
                    </a:cubicBezTo>
                    <a:cubicBezTo>
                      <a:pt x="240" y="34"/>
                      <a:pt x="127" y="107"/>
                      <a:pt x="72" y="170"/>
                    </a:cubicBezTo>
                    <a:cubicBezTo>
                      <a:pt x="17" y="233"/>
                      <a:pt x="0" y="324"/>
                      <a:pt x="12" y="397"/>
                    </a:cubicBezTo>
                    <a:cubicBezTo>
                      <a:pt x="24" y="470"/>
                      <a:pt x="96" y="554"/>
                      <a:pt x="142" y="607"/>
                    </a:cubicBezTo>
                    <a:cubicBezTo>
                      <a:pt x="188" y="660"/>
                      <a:pt x="274" y="703"/>
                      <a:pt x="291" y="718"/>
                    </a:cubicBezTo>
                    <a:cubicBezTo>
                      <a:pt x="308" y="733"/>
                      <a:pt x="255" y="702"/>
                      <a:pt x="246" y="698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80008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159360" y="3349080"/>
                <a:ext cx="840600" cy="455040"/>
              </a:xfrm>
              <a:custGeom>
                <a:avLst/>
                <a:gdLst/>
                <a:ahLst/>
                <a:rect l="l" t="t" r="r" b="b"/>
                <a:pathLst>
                  <a:path w="1324" h="717">
                    <a:moveTo>
                      <a:pt x="0" y="14"/>
                    </a:moveTo>
                    <a:cubicBezTo>
                      <a:pt x="30" y="72"/>
                      <a:pt x="98" y="264"/>
                      <a:pt x="181" y="364"/>
                    </a:cubicBezTo>
                    <a:cubicBezTo>
                      <a:pt x="264" y="464"/>
                      <a:pt x="368" y="557"/>
                      <a:pt x="501" y="614"/>
                    </a:cubicBezTo>
                    <a:cubicBezTo>
                      <a:pt x="634" y="671"/>
                      <a:pt x="854" y="717"/>
                      <a:pt x="981" y="704"/>
                    </a:cubicBezTo>
                    <a:cubicBezTo>
                      <a:pt x="1108" y="691"/>
                      <a:pt x="1206" y="597"/>
                      <a:pt x="1261" y="534"/>
                    </a:cubicBezTo>
                    <a:cubicBezTo>
                      <a:pt x="1316" y="471"/>
                      <a:pt x="1324" y="394"/>
                      <a:pt x="1311" y="324"/>
                    </a:cubicBezTo>
                    <a:cubicBezTo>
                      <a:pt x="1298" y="254"/>
                      <a:pt x="1239" y="168"/>
                      <a:pt x="1181" y="114"/>
                    </a:cubicBezTo>
                    <a:cubicBezTo>
                      <a:pt x="1123" y="60"/>
                      <a:pt x="1007" y="24"/>
                      <a:pt x="961" y="0"/>
                    </a:cubicBez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182400" y="3357360"/>
                <a:ext cx="529560" cy="4320"/>
              </a:xfrm>
              <a:prstGeom prst="line">
                <a:avLst/>
              </a:prstGeom>
              <a:ln cap="rnd" w="38160">
                <a:solidFill>
                  <a:srgbClr val="800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365800" y="2778120"/>
                <a:ext cx="360" cy="522000"/>
              </a:xfrm>
              <a:prstGeom prst="line">
                <a:avLst/>
              </a:prstGeom>
              <a:ln cap="rnd" w="28440">
                <a:solidFill>
                  <a:srgbClr val="0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362200" y="3420360"/>
                <a:ext cx="360" cy="521640"/>
              </a:xfrm>
              <a:prstGeom prst="line">
                <a:avLst/>
              </a:prstGeom>
              <a:ln cap="rnd" w="28440">
                <a:solidFill>
                  <a:srgbClr val="0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5400000" y="3353040"/>
                <a:ext cx="522000" cy="720"/>
              </a:xfrm>
              <a:prstGeom prst="line">
                <a:avLst/>
              </a:prstGeom>
              <a:ln cap="rnd" w="28440">
                <a:solidFill>
                  <a:srgbClr val="0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782960" y="3361320"/>
                <a:ext cx="522000" cy="360"/>
              </a:xfrm>
              <a:prstGeom prst="line">
                <a:avLst/>
              </a:prstGeom>
              <a:ln cap="rnd" w="28440">
                <a:solidFill>
                  <a:srgbClr val="000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1932480" y="1197720"/>
                <a:ext cx="3896640" cy="1188720"/>
                <a:chOff x="1932480" y="1197720"/>
                <a:chExt cx="3896640" cy="1188720"/>
              </a:xfrm>
            </p:grpSpPr>
            <p:sp>
              <p:nvSpPr>
                <p:cNvPr id="728" name=""/>
                <p:cNvSpPr/>
                <p:nvPr/>
              </p:nvSpPr>
              <p:spPr>
                <a:xfrm flipH="1" flipV="1">
                  <a:off x="2151000" y="1258560"/>
                  <a:ext cx="360" cy="74736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2085120" y="1904400"/>
                  <a:ext cx="3623760" cy="3384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172240" y="1278360"/>
                  <a:ext cx="3087360" cy="659880"/>
                </a:xfrm>
                <a:custGeom>
                  <a:avLst/>
                  <a:gdLst/>
                  <a:ahLst/>
                  <a:rect l="l" t="t" r="r" b="b"/>
                  <a:pathLst>
                    <a:path w="5332" h="1171">
                      <a:moveTo>
                        <a:pt x="0" y="1171"/>
                      </a:moveTo>
                      <a:cubicBezTo>
                        <a:pt x="58" y="1158"/>
                        <a:pt x="131" y="1145"/>
                        <a:pt x="210" y="1111"/>
                      </a:cubicBezTo>
                      <a:cubicBezTo>
                        <a:pt x="289" y="1077"/>
                        <a:pt x="407" y="1017"/>
                        <a:pt x="472" y="968"/>
                      </a:cubicBezTo>
                      <a:cubicBezTo>
                        <a:pt x="537" y="919"/>
                        <a:pt x="537" y="895"/>
                        <a:pt x="600" y="817"/>
                      </a:cubicBezTo>
                      <a:cubicBezTo>
                        <a:pt x="663" y="739"/>
                        <a:pt x="789" y="592"/>
                        <a:pt x="852" y="499"/>
                      </a:cubicBezTo>
                      <a:cubicBezTo>
                        <a:pt x="915" y="406"/>
                        <a:pt x="915" y="324"/>
                        <a:pt x="978" y="259"/>
                      </a:cubicBezTo>
                      <a:cubicBezTo>
                        <a:pt x="1041" y="194"/>
                        <a:pt x="1177" y="123"/>
                        <a:pt x="1230" y="109"/>
                      </a:cubicBezTo>
                      <a:cubicBezTo>
                        <a:pt x="1283" y="95"/>
                        <a:pt x="1282" y="143"/>
                        <a:pt x="1296" y="175"/>
                      </a:cubicBezTo>
                      <a:cubicBezTo>
                        <a:pt x="1310" y="207"/>
                        <a:pt x="1307" y="159"/>
                        <a:pt x="1314" y="301"/>
                      </a:cubicBezTo>
                      <a:cubicBezTo>
                        <a:pt x="1321" y="443"/>
                        <a:pt x="1327" y="888"/>
                        <a:pt x="1338" y="1027"/>
                      </a:cubicBezTo>
                      <a:cubicBezTo>
                        <a:pt x="1349" y="1166"/>
                        <a:pt x="1328" y="1128"/>
                        <a:pt x="1380" y="1133"/>
                      </a:cubicBezTo>
                      <a:cubicBezTo>
                        <a:pt x="1432" y="1138"/>
                        <a:pt x="1568" y="1126"/>
                        <a:pt x="1650" y="1057"/>
                      </a:cubicBezTo>
                      <a:cubicBezTo>
                        <a:pt x="1732" y="988"/>
                        <a:pt x="1807" y="810"/>
                        <a:pt x="1872" y="721"/>
                      </a:cubicBezTo>
                      <a:cubicBezTo>
                        <a:pt x="1937" y="632"/>
                        <a:pt x="1996" y="586"/>
                        <a:pt x="2040" y="523"/>
                      </a:cubicBezTo>
                      <a:cubicBezTo>
                        <a:pt x="2084" y="460"/>
                        <a:pt x="2101" y="403"/>
                        <a:pt x="2136" y="343"/>
                      </a:cubicBezTo>
                      <a:cubicBezTo>
                        <a:pt x="2171" y="283"/>
                        <a:pt x="2196" y="216"/>
                        <a:pt x="2250" y="163"/>
                      </a:cubicBezTo>
                      <a:cubicBezTo>
                        <a:pt x="2304" y="110"/>
                        <a:pt x="2400" y="27"/>
                        <a:pt x="2460" y="25"/>
                      </a:cubicBezTo>
                      <a:cubicBezTo>
                        <a:pt x="2520" y="23"/>
                        <a:pt x="2571" y="73"/>
                        <a:pt x="2610" y="151"/>
                      </a:cubicBezTo>
                      <a:cubicBezTo>
                        <a:pt x="2649" y="229"/>
                        <a:pt x="2677" y="406"/>
                        <a:pt x="2692" y="496"/>
                      </a:cubicBezTo>
                      <a:cubicBezTo>
                        <a:pt x="2707" y="586"/>
                        <a:pt x="2684" y="590"/>
                        <a:pt x="2700" y="691"/>
                      </a:cubicBezTo>
                      <a:cubicBezTo>
                        <a:pt x="2716" y="792"/>
                        <a:pt x="2704" y="1065"/>
                        <a:pt x="2790" y="1103"/>
                      </a:cubicBezTo>
                      <a:cubicBezTo>
                        <a:pt x="2876" y="1141"/>
                        <a:pt x="3101" y="1018"/>
                        <a:pt x="3216" y="919"/>
                      </a:cubicBezTo>
                      <a:cubicBezTo>
                        <a:pt x="3331" y="820"/>
                        <a:pt x="3420" y="639"/>
                        <a:pt x="3480" y="511"/>
                      </a:cubicBezTo>
                      <a:cubicBezTo>
                        <a:pt x="3540" y="383"/>
                        <a:pt x="3534" y="235"/>
                        <a:pt x="3576" y="151"/>
                      </a:cubicBezTo>
                      <a:cubicBezTo>
                        <a:pt x="3618" y="67"/>
                        <a:pt x="3690" y="0"/>
                        <a:pt x="3732" y="7"/>
                      </a:cubicBezTo>
                      <a:cubicBezTo>
                        <a:pt x="3774" y="14"/>
                        <a:pt x="3807" y="107"/>
                        <a:pt x="3828" y="193"/>
                      </a:cubicBezTo>
                      <a:cubicBezTo>
                        <a:pt x="3849" y="279"/>
                        <a:pt x="3847" y="434"/>
                        <a:pt x="3858" y="523"/>
                      </a:cubicBezTo>
                      <a:cubicBezTo>
                        <a:pt x="3869" y="612"/>
                        <a:pt x="3881" y="666"/>
                        <a:pt x="3892" y="728"/>
                      </a:cubicBezTo>
                      <a:cubicBezTo>
                        <a:pt x="3903" y="790"/>
                        <a:pt x="3912" y="843"/>
                        <a:pt x="3922" y="893"/>
                      </a:cubicBezTo>
                      <a:cubicBezTo>
                        <a:pt x="3932" y="943"/>
                        <a:pt x="3937" y="994"/>
                        <a:pt x="3952" y="1028"/>
                      </a:cubicBezTo>
                      <a:cubicBezTo>
                        <a:pt x="3967" y="1062"/>
                        <a:pt x="3977" y="1100"/>
                        <a:pt x="4012" y="1096"/>
                      </a:cubicBezTo>
                      <a:cubicBezTo>
                        <a:pt x="4047" y="1092"/>
                        <a:pt x="4069" y="1109"/>
                        <a:pt x="4164" y="1003"/>
                      </a:cubicBezTo>
                      <a:cubicBezTo>
                        <a:pt x="4259" y="897"/>
                        <a:pt x="4484" y="588"/>
                        <a:pt x="4584" y="457"/>
                      </a:cubicBezTo>
                      <a:cubicBezTo>
                        <a:pt x="4684" y="326"/>
                        <a:pt x="4694" y="291"/>
                        <a:pt x="4764" y="217"/>
                      </a:cubicBezTo>
                      <a:cubicBezTo>
                        <a:pt x="4834" y="143"/>
                        <a:pt x="4939" y="19"/>
                        <a:pt x="5002" y="16"/>
                      </a:cubicBezTo>
                      <a:cubicBezTo>
                        <a:pt x="5065" y="13"/>
                        <a:pt x="5116" y="122"/>
                        <a:pt x="5145" y="196"/>
                      </a:cubicBezTo>
                      <a:cubicBezTo>
                        <a:pt x="5174" y="270"/>
                        <a:pt x="5164" y="369"/>
                        <a:pt x="5175" y="458"/>
                      </a:cubicBezTo>
                      <a:cubicBezTo>
                        <a:pt x="5186" y="547"/>
                        <a:pt x="5203" y="667"/>
                        <a:pt x="5214" y="733"/>
                      </a:cubicBezTo>
                      <a:cubicBezTo>
                        <a:pt x="5225" y="799"/>
                        <a:pt x="5230" y="817"/>
                        <a:pt x="5242" y="856"/>
                      </a:cubicBezTo>
                      <a:cubicBezTo>
                        <a:pt x="5254" y="895"/>
                        <a:pt x="5272" y="929"/>
                        <a:pt x="5287" y="968"/>
                      </a:cubicBezTo>
                      <a:cubicBezTo>
                        <a:pt x="5302" y="1007"/>
                        <a:pt x="5323" y="1063"/>
                        <a:pt x="5332" y="10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932480" y="1197720"/>
                  <a:ext cx="145080" cy="18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43080" y="1908000"/>
                  <a:ext cx="86040" cy="18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3" name=""/>
                <p:cNvGrpSpPr/>
                <p:nvPr/>
              </p:nvGrpSpPr>
              <p:grpSpPr>
                <a:xfrm>
                  <a:off x="2887920" y="2005560"/>
                  <a:ext cx="120960" cy="34560"/>
                  <a:chOff x="2887920" y="2005560"/>
                  <a:chExt cx="120960" cy="3456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2887920" y="2022840"/>
                    <a:ext cx="11772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2891160" y="2005560"/>
                    <a:ext cx="13680" cy="34200"/>
                    <a:chOff x="2891160" y="2005560"/>
                    <a:chExt cx="13680" cy="342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V="1">
                      <a:off x="2891160" y="200556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2894400" y="202284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2995200" y="2005920"/>
                    <a:ext cx="13680" cy="34200"/>
                    <a:chOff x="2995200" y="2005920"/>
                    <a:chExt cx="13680" cy="3420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flipH="1">
                      <a:off x="2995200" y="202320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flipV="1">
                      <a:off x="2995560" y="200592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3721680" y="2005560"/>
                  <a:ext cx="120960" cy="34560"/>
                  <a:chOff x="3721680" y="2005560"/>
                  <a:chExt cx="120960" cy="3456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3721680" y="2022840"/>
                    <a:ext cx="11772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3724920" y="2005560"/>
                    <a:ext cx="13680" cy="34200"/>
                    <a:chOff x="3724920" y="2005560"/>
                    <a:chExt cx="13680" cy="3420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flipV="1">
                      <a:off x="3724920" y="200556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3728160" y="202284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3828960" y="2005920"/>
                    <a:ext cx="13680" cy="34200"/>
                    <a:chOff x="3828960" y="2005920"/>
                    <a:chExt cx="13680" cy="3420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flipH="1">
                      <a:off x="3828960" y="202320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flipH="1" flipV="1">
                      <a:off x="3829320" y="200592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4433760" y="2005560"/>
                  <a:ext cx="120960" cy="34560"/>
                  <a:chOff x="4433760" y="2005560"/>
                  <a:chExt cx="120960" cy="3456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4433760" y="2022840"/>
                    <a:ext cx="11772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4437000" y="2005560"/>
                    <a:ext cx="13680" cy="34200"/>
                    <a:chOff x="4437000" y="2005560"/>
                    <a:chExt cx="13680" cy="3420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flipV="1">
                      <a:off x="4437000" y="200556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4440240" y="202284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4541040" y="2005920"/>
                    <a:ext cx="13680" cy="34200"/>
                    <a:chOff x="4541040" y="2005920"/>
                    <a:chExt cx="13680" cy="3420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flipH="1">
                      <a:off x="4541040" y="202320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flipH="1" flipV="1">
                      <a:off x="4541400" y="200592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5232960" y="2005560"/>
                  <a:ext cx="120960" cy="34560"/>
                  <a:chOff x="5232960" y="2005560"/>
                  <a:chExt cx="120960" cy="3456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5232960" y="2022840"/>
                    <a:ext cx="117720" cy="0"/>
                  </a:xfrm>
                  <a:prstGeom prst="line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236200" y="2005560"/>
                    <a:ext cx="13680" cy="34200"/>
                    <a:chOff x="5236200" y="2005560"/>
                    <a:chExt cx="13680" cy="3420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 flipV="1">
                      <a:off x="5236200" y="200556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5239440" y="202284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2" name=""/>
                  <p:cNvGrpSpPr/>
                  <p:nvPr/>
                </p:nvGrpSpPr>
                <p:grpSpPr>
                  <a:xfrm>
                    <a:off x="5340240" y="2005920"/>
                    <a:ext cx="13680" cy="34200"/>
                    <a:chOff x="5340240" y="2005920"/>
                    <a:chExt cx="13680" cy="34200"/>
                  </a:xfrm>
                </p:grpSpPr>
                <p:sp>
                  <p:nvSpPr>
                    <p:cNvPr id="763" name=""/>
                    <p:cNvSpPr/>
                    <p:nvPr/>
                  </p:nvSpPr>
                  <p:spPr>
                    <a:xfrm flipH="1">
                      <a:off x="5340240" y="2023200"/>
                      <a:ext cx="136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H="1" flipV="1">
                      <a:off x="5340600" y="2005920"/>
                      <a:ext cx="10080" cy="16920"/>
                    </a:xfrm>
                    <a:prstGeom prst="line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5" name=""/>
                <p:cNvSpPr/>
                <p:nvPr/>
              </p:nvSpPr>
              <p:spPr>
                <a:xfrm>
                  <a:off x="3738960" y="2202840"/>
                  <a:ext cx="253440" cy="18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а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208840" y="2067480"/>
                  <a:ext cx="104040" cy="18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112480" y="2073600"/>
                  <a:ext cx="120240" cy="18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6775920" y="2203560"/>
                <a:ext cx="205560" cy="18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в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6215760" y="1175040"/>
                <a:ext cx="1310400" cy="1051200"/>
                <a:chOff x="6215760" y="1175040"/>
                <a:chExt cx="1310400" cy="105120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251760" y="1253160"/>
                  <a:ext cx="360" cy="65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flipV="1">
                  <a:off x="6258240" y="1909800"/>
                  <a:ext cx="1267920" cy="1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244560" y="1381680"/>
                  <a:ext cx="1149840" cy="532080"/>
                </a:xfrm>
                <a:custGeom>
                  <a:avLst/>
                  <a:gdLst/>
                  <a:ahLst/>
                  <a:rect l="l" t="t" r="r" b="b"/>
                  <a:pathLst>
                    <a:path w="2100" h="938">
                      <a:moveTo>
                        <a:pt x="0" y="898"/>
                      </a:moveTo>
                      <a:cubicBezTo>
                        <a:pt x="96" y="897"/>
                        <a:pt x="463" y="893"/>
                        <a:pt x="588" y="892"/>
                      </a:cubicBezTo>
                      <a:cubicBezTo>
                        <a:pt x="713" y="891"/>
                        <a:pt x="680" y="892"/>
                        <a:pt x="749" y="892"/>
                      </a:cubicBezTo>
                      <a:cubicBezTo>
                        <a:pt x="818" y="892"/>
                        <a:pt x="907" y="894"/>
                        <a:pt x="1002" y="892"/>
                      </a:cubicBezTo>
                      <a:cubicBezTo>
                        <a:pt x="1097" y="890"/>
                        <a:pt x="1225" y="882"/>
                        <a:pt x="1320" y="878"/>
                      </a:cubicBezTo>
                      <a:cubicBezTo>
                        <a:pt x="1415" y="874"/>
                        <a:pt x="1483" y="886"/>
                        <a:pt x="1570" y="868"/>
                      </a:cubicBezTo>
                      <a:cubicBezTo>
                        <a:pt x="1657" y="850"/>
                        <a:pt x="1780" y="830"/>
                        <a:pt x="1840" y="768"/>
                      </a:cubicBezTo>
                      <a:cubicBezTo>
                        <a:pt x="1900" y="706"/>
                        <a:pt x="1912" y="584"/>
                        <a:pt x="1930" y="496"/>
                      </a:cubicBezTo>
                      <a:cubicBezTo>
                        <a:pt x="1948" y="408"/>
                        <a:pt x="1937" y="304"/>
                        <a:pt x="1946" y="240"/>
                      </a:cubicBezTo>
                      <a:cubicBezTo>
                        <a:pt x="1955" y="177"/>
                        <a:pt x="1958" y="0"/>
                        <a:pt x="1984" y="116"/>
                      </a:cubicBezTo>
                      <a:cubicBezTo>
                        <a:pt x="2010" y="232"/>
                        <a:pt x="2076" y="767"/>
                        <a:pt x="2100" y="938"/>
                      </a:cubicBezTo>
                    </a:path>
                  </a:pathLst>
                </a:custGeom>
                <a:noFill/>
                <a:ln w="1908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316280" y="1175040"/>
                  <a:ext cx="32760" cy="105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089480" y="1909800"/>
                  <a:ext cx="29520" cy="306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7322760" y="1906560"/>
                  <a:ext cx="29520" cy="306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372080" y="1909800"/>
                  <a:ext cx="29520" cy="306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215760" y="1947240"/>
                  <a:ext cx="88560" cy="163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235200" y="1882800"/>
                  <a:ext cx="29520" cy="3060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069680" y="1957320"/>
                  <a:ext cx="88560" cy="163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306560" y="1960920"/>
                  <a:ext cx="88560" cy="163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388640" y="1960920"/>
                  <a:ext cx="88560" cy="163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" rIns="36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2" name=""/>
              <p:cNvSpPr/>
              <p:nvPr/>
            </p:nvSpPr>
            <p:spPr>
              <a:xfrm flipV="1">
                <a:off x="3772440" y="2554200"/>
                <a:ext cx="1080" cy="14997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936600" y="3357360"/>
                <a:ext cx="423000" cy="7560"/>
              </a:xfrm>
              <a:prstGeom prst="line">
                <a:avLst/>
              </a:prstGeom>
              <a:ln cap="rnd" w="38160">
                <a:solidFill>
                  <a:srgbClr val="000080"/>
                </a:solidFill>
                <a:custDash>
                  <a:ds d="100000" sp="1000"/>
                </a:custDash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140280" y="3341520"/>
                <a:ext cx="34200" cy="34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055200" y="1280880"/>
                <a:ext cx="11016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544880" y="1906560"/>
                <a:ext cx="5832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217480" y="2100240"/>
                <a:ext cx="10080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"/>
          <p:cNvSpPr/>
          <p:nvPr/>
        </p:nvSpPr>
        <p:spPr>
          <a:xfrm>
            <a:off x="164160" y="4724280"/>
            <a:ext cx="889956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 Стрелкой  отмечены периоды быстрой гибели цивилизаций (в физическом времени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, после котор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чинается новый отсчет эволюционного врем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) Последовательности спиралей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 – 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оответствуют значен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, 2, 4, 5,…, определяющие числ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иклов анализируемого процесса на рассматриваем интервале времени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, интервалу времени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0,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на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 соответствует последовательность из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етырех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иралей на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.С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 на интервал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/4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ему соответствует фазовый портрет вида 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.А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 Качественная структура эволюционного времени в эволюционном цикл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238752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6578640" y="257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2387520" y="49179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46000" y="266760"/>
            <a:ext cx="53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5. Циклы Великих Небесных Соединени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алендаря Майя в Платоновом го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079640" y="1251720"/>
            <a:ext cx="3173400" cy="3329280"/>
            <a:chOff x="1079640" y="1251720"/>
            <a:chExt cx="3173400" cy="3329280"/>
          </a:xfrm>
        </p:grpSpPr>
        <p:grpSp>
          <p:nvGrpSpPr>
            <p:cNvPr id="796" name=""/>
            <p:cNvGrpSpPr/>
            <p:nvPr/>
          </p:nvGrpSpPr>
          <p:grpSpPr>
            <a:xfrm>
              <a:off x="1079640" y="1251720"/>
              <a:ext cx="3173400" cy="3329280"/>
              <a:chOff x="1079640" y="1251720"/>
              <a:chExt cx="3173400" cy="3329280"/>
            </a:xfrm>
          </p:grpSpPr>
          <p:sp>
            <p:nvSpPr>
              <p:cNvPr id="797" name=""/>
              <p:cNvSpPr/>
              <p:nvPr/>
            </p:nvSpPr>
            <p:spPr>
              <a:xfrm>
                <a:off x="1407240" y="1510560"/>
                <a:ext cx="2814840" cy="2816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2816280" y="1514520"/>
                <a:ext cx="7560" cy="2811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 flipV="1">
                <a:off x="1418400" y="2900880"/>
                <a:ext cx="2807280" cy="262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195440" y="2897280"/>
                <a:ext cx="57600" cy="56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376640" y="287064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793960" y="430704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793960" y="1472400"/>
                <a:ext cx="57600" cy="56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72000" y="395676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456560" y="2417400"/>
                <a:ext cx="57600" cy="5652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47160" y="401760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099680" y="239508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793960" y="1529640"/>
                <a:ext cx="57600" cy="56160"/>
              </a:xfrm>
              <a:prstGeom prst="ellipse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15560" y="161352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0"/>
                    </a:moveTo>
                    <a:cubicBezTo>
                      <a:pt x="20" y="15"/>
                      <a:pt x="0" y="45"/>
                      <a:pt x="0" y="45"/>
                    </a:cubicBezTo>
                    <a:cubicBezTo>
                      <a:pt x="0" y="45"/>
                      <a:pt x="20" y="15"/>
                      <a:pt x="3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843280" y="135432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33880" y="227628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57560" y="235656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214720" y="428796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36720" y="1354320"/>
                <a:ext cx="64440" cy="723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70720" y="21049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28240" y="4398480"/>
                <a:ext cx="2016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79640" y="23299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988000" y="1251720"/>
                <a:ext cx="2016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492640" y="1251720"/>
                <a:ext cx="2019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Е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67480" y="233280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348360" y="37810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938600" y="37126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556280" y="242820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11720" y="1602000"/>
                <a:ext cx="652320" cy="23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или 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701080" y="403668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894480" y="2809080"/>
                <a:ext cx="612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2680" y="2779200"/>
                <a:ext cx="93240" cy="19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81480" y="1807920"/>
                <a:ext cx="690480" cy="27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 или</a:t>
                </a:r>
                <a:r>
                  <a:rPr b="0" i="1" lang="en-US" sz="1200" spc="-1" strike="noStrike">
                    <a:solidFill>
                      <a:srgbClr val="ffffff"/>
                    </a:solidFill>
                    <a:latin typeface="Arial"/>
                  </a:rPr>
                  <a:t> 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3032280" y="1628640"/>
                <a:ext cx="17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2050920" y="371628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851280" y="231300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692360" y="242100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3457440" y="3776760"/>
                <a:ext cx="17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2843280" y="404172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84360" y="2781360"/>
            <a:ext cx="20016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59280" y="281628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059280" y="1800360"/>
            <a:ext cx="199800" cy="2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427640" y="1628640"/>
            <a:ext cx="439236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году Платона (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25 77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) 5125-летний цик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лендаря Майя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торяется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5 раз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 в граничных точк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инается новый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Длинный Сче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охи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НС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тмечен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аты рассматриваемых событий особой историческ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жности отмечены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оизошло три Платоновых года назад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мент важнейшего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НС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соединения Зимн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лнцестояния с Центром Галак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70760" y="2435400"/>
            <a:ext cx="56880" cy="5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977080" y="2852640"/>
            <a:ext cx="64800" cy="71640"/>
          </a:xfrm>
          <a:prstGeom prst="rect">
            <a:avLst/>
          </a:prstGeom>
          <a:solidFill>
            <a:srgbClr val="ff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712360" y="1989000"/>
            <a:ext cx="58680" cy="5580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41560" y="4653000"/>
            <a:ext cx="87091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ять циклов календаря Майя практически точно укладывается в один год Платона, приче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Окончание очередного цикла календаря Майя 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1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актически совпадает с важнейшим из ВНС  – с прохождени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ки Зимнего Солнцестояния через плоскость Галактики на фоне  Центра Галак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Начало текущего цикла календаря Майя 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практически совпадает с началом новой эры – эры Кали Юги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затопление Посейдониса) произошло точно посредине (в мидпоинте) между началами третьего цик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единений  и четвертого цикла календаря Майя, приче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промежуток времени от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до  (3) составляет 5137 лет, что совпадает с длительностью цикла календаря Майя и Т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промежуток времени от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до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3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практически совпадает с длительности цикла Т</a:t>
            </a:r>
            <a:r>
              <a:rPr b="0" lang="ru-RU" sz="1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Событ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5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Крушение Даития и Рута) произошло в эпоху важнейшего из ВНС  – с прохождением точки Зимн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лнцестояния через плоскость Галактики на фоне  Центра Галакт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4200" y="189000"/>
            <a:ext cx="875052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47520" y="266760"/>
            <a:ext cx="69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6. Спирали эволюционного времени и мировые симв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422520" y="1052640"/>
            <a:ext cx="4611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ин цикл эволюционного времени в цикле года Платона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ликий Майянский символ Космического начала  «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31640" y="657360"/>
            <a:ext cx="1260720" cy="1295280"/>
            <a:chOff x="431640" y="657360"/>
            <a:chExt cx="1260720" cy="1295280"/>
          </a:xfrm>
        </p:grpSpPr>
        <p:sp>
          <p:nvSpPr>
            <p:cNvPr id="850" name=""/>
            <p:cNvSpPr/>
            <p:nvPr/>
          </p:nvSpPr>
          <p:spPr>
            <a:xfrm>
              <a:off x="509040" y="788760"/>
              <a:ext cx="1043280" cy="105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1640" y="1314720"/>
              <a:ext cx="12607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1028520" y="657360"/>
              <a:ext cx="360" cy="129528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7960" y="876960"/>
              <a:ext cx="862920" cy="718560"/>
            </a:xfrm>
            <a:custGeom>
              <a:avLst/>
              <a:gdLst/>
              <a:ahLst/>
              <a:rect l="l" t="t" r="r" b="b"/>
              <a:pathLst>
                <a:path w="1593" h="1312">
                  <a:moveTo>
                    <a:pt x="1593" y="802"/>
                  </a:moveTo>
                  <a:cubicBezTo>
                    <a:pt x="1572" y="751"/>
                    <a:pt x="1526" y="588"/>
                    <a:pt x="1475" y="497"/>
                  </a:cubicBezTo>
                  <a:cubicBezTo>
                    <a:pt x="1424" y="406"/>
                    <a:pt x="1372" y="329"/>
                    <a:pt x="1285" y="257"/>
                  </a:cubicBezTo>
                  <a:cubicBezTo>
                    <a:pt x="1198" y="185"/>
                    <a:pt x="1075" y="104"/>
                    <a:pt x="953" y="65"/>
                  </a:cubicBezTo>
                  <a:cubicBezTo>
                    <a:pt x="831" y="26"/>
                    <a:pt x="681" y="0"/>
                    <a:pt x="553" y="23"/>
                  </a:cubicBezTo>
                  <a:cubicBezTo>
                    <a:pt x="425" y="46"/>
                    <a:pt x="274" y="104"/>
                    <a:pt x="183" y="205"/>
                  </a:cubicBezTo>
                  <a:cubicBezTo>
                    <a:pt x="92" y="306"/>
                    <a:pt x="10" y="478"/>
                    <a:pt x="5" y="627"/>
                  </a:cubicBezTo>
                  <a:cubicBezTo>
                    <a:pt x="0" y="776"/>
                    <a:pt x="75" y="987"/>
                    <a:pt x="155" y="1097"/>
                  </a:cubicBezTo>
                  <a:cubicBezTo>
                    <a:pt x="235" y="1207"/>
                    <a:pt x="385" y="1262"/>
                    <a:pt x="485" y="1287"/>
                  </a:cubicBezTo>
                  <a:cubicBezTo>
                    <a:pt x="585" y="1312"/>
                    <a:pt x="692" y="1283"/>
                    <a:pt x="755" y="1247"/>
                  </a:cubicBezTo>
                  <a:cubicBezTo>
                    <a:pt x="818" y="1211"/>
                    <a:pt x="851" y="1132"/>
                    <a:pt x="863" y="1069"/>
                  </a:cubicBezTo>
                  <a:cubicBezTo>
                    <a:pt x="875" y="1006"/>
                    <a:pt x="860" y="911"/>
                    <a:pt x="825" y="867"/>
                  </a:cubicBezTo>
                  <a:cubicBezTo>
                    <a:pt x="790" y="823"/>
                    <a:pt x="690" y="819"/>
                    <a:pt x="655" y="80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36480" y="1301760"/>
              <a:ext cx="29160" cy="295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22760" y="1301760"/>
              <a:ext cx="29160" cy="295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16360" y="1318320"/>
              <a:ext cx="389880" cy="360"/>
            </a:xfrm>
            <a:prstGeom prst="line">
              <a:avLst/>
            </a:prstGeom>
            <a:ln w="38160">
              <a:solidFill>
                <a:srgbClr val="000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54800" y="1081440"/>
              <a:ext cx="11016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68160" y="1373400"/>
              <a:ext cx="96840" cy="1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210400" y="872640"/>
            <a:ext cx="814680" cy="905760"/>
            <a:chOff x="2210400" y="872640"/>
            <a:chExt cx="814680" cy="905760"/>
          </a:xfrm>
        </p:grpSpPr>
        <p:sp>
          <p:nvSpPr>
            <p:cNvPr id="860" name=""/>
            <p:cNvSpPr/>
            <p:nvPr/>
          </p:nvSpPr>
          <p:spPr>
            <a:xfrm rot="17163600">
              <a:off x="2236680" y="1010880"/>
              <a:ext cx="761760" cy="628560"/>
            </a:xfrm>
            <a:custGeom>
              <a:avLst/>
              <a:gdLst/>
              <a:ahLst/>
              <a:rect l="l" t="t" r="r" b="b"/>
              <a:pathLst>
                <a:path w="1593" h="1312">
                  <a:moveTo>
                    <a:pt x="1593" y="802"/>
                  </a:moveTo>
                  <a:cubicBezTo>
                    <a:pt x="1572" y="751"/>
                    <a:pt x="1526" y="588"/>
                    <a:pt x="1475" y="497"/>
                  </a:cubicBezTo>
                  <a:cubicBezTo>
                    <a:pt x="1424" y="406"/>
                    <a:pt x="1372" y="329"/>
                    <a:pt x="1285" y="257"/>
                  </a:cubicBezTo>
                  <a:cubicBezTo>
                    <a:pt x="1198" y="185"/>
                    <a:pt x="1075" y="104"/>
                    <a:pt x="953" y="65"/>
                  </a:cubicBezTo>
                  <a:cubicBezTo>
                    <a:pt x="831" y="26"/>
                    <a:pt x="681" y="0"/>
                    <a:pt x="553" y="23"/>
                  </a:cubicBezTo>
                  <a:cubicBezTo>
                    <a:pt x="425" y="46"/>
                    <a:pt x="274" y="104"/>
                    <a:pt x="183" y="205"/>
                  </a:cubicBezTo>
                  <a:cubicBezTo>
                    <a:pt x="92" y="306"/>
                    <a:pt x="10" y="478"/>
                    <a:pt x="5" y="627"/>
                  </a:cubicBezTo>
                  <a:cubicBezTo>
                    <a:pt x="0" y="776"/>
                    <a:pt x="75" y="987"/>
                    <a:pt x="155" y="1097"/>
                  </a:cubicBezTo>
                  <a:cubicBezTo>
                    <a:pt x="235" y="1207"/>
                    <a:pt x="385" y="1262"/>
                    <a:pt x="485" y="1287"/>
                  </a:cubicBezTo>
                  <a:cubicBezTo>
                    <a:pt x="585" y="1312"/>
                    <a:pt x="692" y="1283"/>
                    <a:pt x="755" y="1247"/>
                  </a:cubicBezTo>
                  <a:cubicBezTo>
                    <a:pt x="818" y="1211"/>
                    <a:pt x="851" y="1132"/>
                    <a:pt x="863" y="1069"/>
                  </a:cubicBezTo>
                  <a:cubicBezTo>
                    <a:pt x="875" y="1006"/>
                    <a:pt x="860" y="911"/>
                    <a:pt x="825" y="867"/>
                  </a:cubicBezTo>
                  <a:cubicBezTo>
                    <a:pt x="790" y="823"/>
                    <a:pt x="690" y="819"/>
                    <a:pt x="655" y="806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163600">
              <a:off x="2775240" y="970560"/>
              <a:ext cx="20880" cy="17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7163600">
              <a:off x="2660040" y="1400760"/>
              <a:ext cx="16920" cy="198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5628960" cy="25336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6016320" y="2023920"/>
            <a:ext cx="29026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ва цикла эволюционног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 цикле года Плато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) Фазовый портр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) График функции эволюцио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емени. Окружность – аналог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изического времени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)  Мировые симво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39640" y="4724280"/>
            <a:ext cx="5051160" cy="1300320"/>
            <a:chOff x="539640" y="4724280"/>
            <a:chExt cx="5051160" cy="1300320"/>
          </a:xfrm>
        </p:grpSpPr>
        <p:grpSp>
          <p:nvGrpSpPr>
            <p:cNvPr id="866" name=""/>
            <p:cNvGrpSpPr/>
            <p:nvPr/>
          </p:nvGrpSpPr>
          <p:grpSpPr>
            <a:xfrm>
              <a:off x="539640" y="4724280"/>
              <a:ext cx="5051160" cy="1300320"/>
              <a:chOff x="539640" y="4724280"/>
              <a:chExt cx="5051160" cy="1300320"/>
            </a:xfrm>
          </p:grpSpPr>
          <p:sp>
            <p:nvSpPr>
              <p:cNvPr id="867" name=""/>
              <p:cNvSpPr/>
              <p:nvPr/>
            </p:nvSpPr>
            <p:spPr>
              <a:xfrm>
                <a:off x="4413960" y="4819320"/>
                <a:ext cx="1176840" cy="106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2588760" y="4849920"/>
                <a:ext cx="978840" cy="1001520"/>
                <a:chOff x="2588760" y="4849920"/>
                <a:chExt cx="978840" cy="1001520"/>
              </a:xfrm>
            </p:grpSpPr>
            <p:sp>
              <p:nvSpPr>
                <p:cNvPr id="869" name=""/>
                <p:cNvSpPr/>
                <p:nvPr/>
              </p:nvSpPr>
              <p:spPr>
                <a:xfrm rot="5400000">
                  <a:off x="2586600" y="4854600"/>
                  <a:ext cx="982800" cy="978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592000" y="4858560"/>
                  <a:ext cx="843480" cy="971640"/>
                </a:xfrm>
                <a:custGeom>
                  <a:avLst/>
                  <a:gdLst/>
                  <a:ahLst/>
                  <a:rect l="l" t="t" r="r" b="b"/>
                  <a:pathLst>
                    <a:path w="1662" h="1909">
                      <a:moveTo>
                        <a:pt x="888" y="754"/>
                      </a:moveTo>
                      <a:cubicBezTo>
                        <a:pt x="897" y="664"/>
                        <a:pt x="947" y="741"/>
                        <a:pt x="963" y="724"/>
                      </a:cubicBezTo>
                      <a:cubicBezTo>
                        <a:pt x="979" y="707"/>
                        <a:pt x="956" y="674"/>
                        <a:pt x="985" y="649"/>
                      </a:cubicBezTo>
                      <a:cubicBezTo>
                        <a:pt x="1014" y="624"/>
                        <a:pt x="1093" y="588"/>
                        <a:pt x="1135" y="574"/>
                      </a:cubicBezTo>
                      <a:cubicBezTo>
                        <a:pt x="1177" y="560"/>
                        <a:pt x="1197" y="564"/>
                        <a:pt x="1237" y="566"/>
                      </a:cubicBezTo>
                      <a:cubicBezTo>
                        <a:pt x="1277" y="568"/>
                        <a:pt x="1333" y="568"/>
                        <a:pt x="1375" y="584"/>
                      </a:cubicBezTo>
                      <a:cubicBezTo>
                        <a:pt x="1417" y="600"/>
                        <a:pt x="1448" y="625"/>
                        <a:pt x="1487" y="665"/>
                      </a:cubicBezTo>
                      <a:cubicBezTo>
                        <a:pt x="1526" y="705"/>
                        <a:pt x="1578" y="764"/>
                        <a:pt x="1607" y="824"/>
                      </a:cubicBezTo>
                      <a:cubicBezTo>
                        <a:pt x="1636" y="883"/>
                        <a:pt x="1660" y="948"/>
                        <a:pt x="1661" y="1019"/>
                      </a:cubicBezTo>
                      <a:cubicBezTo>
                        <a:pt x="1662" y="1090"/>
                        <a:pt x="1636" y="1182"/>
                        <a:pt x="1613" y="1254"/>
                      </a:cubicBezTo>
                      <a:cubicBezTo>
                        <a:pt x="1590" y="1326"/>
                        <a:pt x="1555" y="1392"/>
                        <a:pt x="1522" y="1454"/>
                      </a:cubicBezTo>
                      <a:cubicBezTo>
                        <a:pt x="1489" y="1516"/>
                        <a:pt x="1463" y="1568"/>
                        <a:pt x="1413" y="1624"/>
                      </a:cubicBezTo>
                      <a:cubicBezTo>
                        <a:pt x="1363" y="1680"/>
                        <a:pt x="1279" y="1750"/>
                        <a:pt x="1219" y="1790"/>
                      </a:cubicBezTo>
                      <a:cubicBezTo>
                        <a:pt x="1159" y="1830"/>
                        <a:pt x="1106" y="1843"/>
                        <a:pt x="1052" y="1862"/>
                      </a:cubicBezTo>
                      <a:cubicBezTo>
                        <a:pt x="998" y="1881"/>
                        <a:pt x="951" y="1905"/>
                        <a:pt x="892" y="1907"/>
                      </a:cubicBezTo>
                      <a:cubicBezTo>
                        <a:pt x="833" y="1909"/>
                        <a:pt x="755" y="1892"/>
                        <a:pt x="697" y="1877"/>
                      </a:cubicBezTo>
                      <a:cubicBezTo>
                        <a:pt x="639" y="1862"/>
                        <a:pt x="596" y="1842"/>
                        <a:pt x="541" y="1814"/>
                      </a:cubicBezTo>
                      <a:cubicBezTo>
                        <a:pt x="486" y="1786"/>
                        <a:pt x="423" y="1752"/>
                        <a:pt x="367" y="1706"/>
                      </a:cubicBezTo>
                      <a:cubicBezTo>
                        <a:pt x="311" y="1660"/>
                        <a:pt x="249" y="1591"/>
                        <a:pt x="205" y="1538"/>
                      </a:cubicBezTo>
                      <a:cubicBezTo>
                        <a:pt x="161" y="1485"/>
                        <a:pt x="132" y="1446"/>
                        <a:pt x="103" y="1385"/>
                      </a:cubicBezTo>
                      <a:cubicBezTo>
                        <a:pt x="74" y="1324"/>
                        <a:pt x="47" y="1230"/>
                        <a:pt x="31" y="1172"/>
                      </a:cubicBezTo>
                      <a:cubicBezTo>
                        <a:pt x="15" y="1114"/>
                        <a:pt x="7" y="1089"/>
                        <a:pt x="4" y="1037"/>
                      </a:cubicBezTo>
                      <a:cubicBezTo>
                        <a:pt x="1" y="985"/>
                        <a:pt x="0" y="923"/>
                        <a:pt x="10" y="857"/>
                      </a:cubicBezTo>
                      <a:cubicBezTo>
                        <a:pt x="20" y="791"/>
                        <a:pt x="40" y="707"/>
                        <a:pt x="63" y="640"/>
                      </a:cubicBezTo>
                      <a:cubicBezTo>
                        <a:pt x="86" y="573"/>
                        <a:pt x="115" y="513"/>
                        <a:pt x="151" y="454"/>
                      </a:cubicBezTo>
                      <a:cubicBezTo>
                        <a:pt x="187" y="396"/>
                        <a:pt x="226" y="341"/>
                        <a:pt x="278" y="289"/>
                      </a:cubicBezTo>
                      <a:cubicBezTo>
                        <a:pt x="330" y="237"/>
                        <a:pt x="408" y="179"/>
                        <a:pt x="466" y="140"/>
                      </a:cubicBezTo>
                      <a:cubicBezTo>
                        <a:pt x="523" y="102"/>
                        <a:pt x="568" y="82"/>
                        <a:pt x="622" y="62"/>
                      </a:cubicBezTo>
                      <a:cubicBezTo>
                        <a:pt x="676" y="42"/>
                        <a:pt x="746" y="28"/>
                        <a:pt x="790" y="20"/>
                      </a:cubicBezTo>
                      <a:cubicBezTo>
                        <a:pt x="834" y="12"/>
                        <a:pt x="899" y="0"/>
                        <a:pt x="886" y="14"/>
                      </a:cubicBezTo>
                      <a:cubicBezTo>
                        <a:pt x="873" y="28"/>
                        <a:pt x="765" y="70"/>
                        <a:pt x="709" y="103"/>
                      </a:cubicBezTo>
                      <a:cubicBezTo>
                        <a:pt x="653" y="136"/>
                        <a:pt x="592" y="181"/>
                        <a:pt x="552" y="215"/>
                      </a:cubicBezTo>
                      <a:cubicBezTo>
                        <a:pt x="512" y="249"/>
                        <a:pt x="502" y="260"/>
                        <a:pt x="469" y="305"/>
                      </a:cubicBezTo>
                      <a:cubicBezTo>
                        <a:pt x="436" y="350"/>
                        <a:pt x="391" y="416"/>
                        <a:pt x="357" y="485"/>
                      </a:cubicBezTo>
                      <a:cubicBezTo>
                        <a:pt x="323" y="554"/>
                        <a:pt x="279" y="655"/>
                        <a:pt x="262" y="722"/>
                      </a:cubicBezTo>
                      <a:cubicBezTo>
                        <a:pt x="245" y="789"/>
                        <a:pt x="249" y="836"/>
                        <a:pt x="253" y="890"/>
                      </a:cubicBezTo>
                      <a:cubicBezTo>
                        <a:pt x="257" y="944"/>
                        <a:pt x="271" y="996"/>
                        <a:pt x="289" y="1046"/>
                      </a:cubicBezTo>
                      <a:cubicBezTo>
                        <a:pt x="307" y="1096"/>
                        <a:pt x="331" y="1144"/>
                        <a:pt x="363" y="1189"/>
                      </a:cubicBezTo>
                      <a:cubicBezTo>
                        <a:pt x="395" y="1234"/>
                        <a:pt x="428" y="1285"/>
                        <a:pt x="484" y="1314"/>
                      </a:cubicBezTo>
                      <a:cubicBezTo>
                        <a:pt x="540" y="1343"/>
                        <a:pt x="629" y="1369"/>
                        <a:pt x="700" y="1361"/>
                      </a:cubicBezTo>
                      <a:cubicBezTo>
                        <a:pt x="771" y="1353"/>
                        <a:pt x="879" y="1365"/>
                        <a:pt x="910" y="1264"/>
                      </a:cubicBezTo>
                      <a:cubicBezTo>
                        <a:pt x="941" y="1163"/>
                        <a:pt x="879" y="844"/>
                        <a:pt x="888" y="754"/>
                      </a:cubicBezTo>
                      <a:close/>
                    </a:path>
                  </a:pathLst>
                </a:custGeom>
                <a:solidFill>
                  <a:srgbClr val="ccff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3080520" y="4867920"/>
                  <a:ext cx="360" cy="9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937600" y="5198040"/>
                  <a:ext cx="289080" cy="290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722320" y="4859280"/>
                  <a:ext cx="358200" cy="699840"/>
                </a:xfrm>
                <a:custGeom>
                  <a:avLst/>
                  <a:gdLst/>
                  <a:ahLst/>
                  <a:rect l="l" t="t" r="r" b="b"/>
                  <a:pathLst>
                    <a:path w="706" h="1375">
                      <a:moveTo>
                        <a:pt x="702" y="0"/>
                      </a:moveTo>
                      <a:cubicBezTo>
                        <a:pt x="644" y="30"/>
                        <a:pt x="452" y="98"/>
                        <a:pt x="352" y="182"/>
                      </a:cubicBezTo>
                      <a:cubicBezTo>
                        <a:pt x="252" y="265"/>
                        <a:pt x="159" y="398"/>
                        <a:pt x="102" y="503"/>
                      </a:cubicBezTo>
                      <a:cubicBezTo>
                        <a:pt x="45" y="608"/>
                        <a:pt x="16" y="717"/>
                        <a:pt x="8" y="812"/>
                      </a:cubicBezTo>
                      <a:cubicBezTo>
                        <a:pt x="0" y="907"/>
                        <a:pt x="24" y="996"/>
                        <a:pt x="53" y="1074"/>
                      </a:cubicBezTo>
                      <a:cubicBezTo>
                        <a:pt x="82" y="1152"/>
                        <a:pt x="134" y="1230"/>
                        <a:pt x="181" y="1277"/>
                      </a:cubicBezTo>
                      <a:cubicBezTo>
                        <a:pt x="228" y="1324"/>
                        <a:pt x="278" y="1345"/>
                        <a:pt x="338" y="1359"/>
                      </a:cubicBezTo>
                      <a:cubicBezTo>
                        <a:pt x="398" y="1373"/>
                        <a:pt x="480" y="1375"/>
                        <a:pt x="541" y="1359"/>
                      </a:cubicBezTo>
                      <a:cubicBezTo>
                        <a:pt x="602" y="1343"/>
                        <a:pt x="672" y="1282"/>
                        <a:pt x="706" y="12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10800000">
                  <a:off x="3077280" y="5136840"/>
                  <a:ext cx="358200" cy="699840"/>
                </a:xfrm>
                <a:custGeom>
                  <a:avLst/>
                  <a:gdLst/>
                  <a:ahLst/>
                  <a:rect l="l" t="t" r="r" b="b"/>
                  <a:pathLst>
                    <a:path w="706" h="1375">
                      <a:moveTo>
                        <a:pt x="702" y="0"/>
                      </a:moveTo>
                      <a:cubicBezTo>
                        <a:pt x="644" y="30"/>
                        <a:pt x="452" y="98"/>
                        <a:pt x="352" y="182"/>
                      </a:cubicBezTo>
                      <a:cubicBezTo>
                        <a:pt x="252" y="265"/>
                        <a:pt x="159" y="398"/>
                        <a:pt x="102" y="503"/>
                      </a:cubicBezTo>
                      <a:cubicBezTo>
                        <a:pt x="45" y="608"/>
                        <a:pt x="16" y="717"/>
                        <a:pt x="8" y="812"/>
                      </a:cubicBezTo>
                      <a:cubicBezTo>
                        <a:pt x="0" y="907"/>
                        <a:pt x="24" y="996"/>
                        <a:pt x="53" y="1074"/>
                      </a:cubicBezTo>
                      <a:cubicBezTo>
                        <a:pt x="82" y="1152"/>
                        <a:pt x="134" y="1230"/>
                        <a:pt x="181" y="1277"/>
                      </a:cubicBezTo>
                      <a:cubicBezTo>
                        <a:pt x="228" y="1324"/>
                        <a:pt x="278" y="1345"/>
                        <a:pt x="338" y="1359"/>
                      </a:cubicBezTo>
                      <a:cubicBezTo>
                        <a:pt x="398" y="1373"/>
                        <a:pt x="480" y="1375"/>
                        <a:pt x="541" y="1359"/>
                      </a:cubicBezTo>
                      <a:cubicBezTo>
                        <a:pt x="602" y="1343"/>
                        <a:pt x="672" y="1282"/>
                        <a:pt x="706" y="12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400000">
                  <a:off x="3065400" y="4849920"/>
                  <a:ext cx="27360" cy="2736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5400000">
                  <a:off x="3062520" y="5824080"/>
                  <a:ext cx="27360" cy="2736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5400000">
                  <a:off x="3065400" y="5482080"/>
                  <a:ext cx="27360" cy="2736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5400000">
                  <a:off x="3064680" y="5184720"/>
                  <a:ext cx="28080" cy="27720"/>
                </a:xfrm>
                <a:prstGeom prst="ellipse">
                  <a:avLst/>
                </a:prstGeom>
                <a:solidFill>
                  <a:srgbClr val="ffcc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 rot="10800000">
                <a:off x="595440" y="4825440"/>
                <a:ext cx="997560" cy="1047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400000">
                <a:off x="642600" y="4787640"/>
                <a:ext cx="903240" cy="986040"/>
              </a:xfrm>
              <a:custGeom>
                <a:avLst/>
                <a:gdLst/>
                <a:ahLst/>
                <a:rect l="l" t="t" r="r" b="b"/>
                <a:pathLst>
                  <a:path w="1662" h="1909">
                    <a:moveTo>
                      <a:pt x="888" y="754"/>
                    </a:moveTo>
                    <a:cubicBezTo>
                      <a:pt x="897" y="664"/>
                      <a:pt x="947" y="741"/>
                      <a:pt x="963" y="724"/>
                    </a:cubicBezTo>
                    <a:cubicBezTo>
                      <a:pt x="979" y="707"/>
                      <a:pt x="956" y="674"/>
                      <a:pt x="985" y="649"/>
                    </a:cubicBezTo>
                    <a:cubicBezTo>
                      <a:pt x="1014" y="624"/>
                      <a:pt x="1093" y="588"/>
                      <a:pt x="1135" y="574"/>
                    </a:cubicBezTo>
                    <a:cubicBezTo>
                      <a:pt x="1177" y="560"/>
                      <a:pt x="1197" y="564"/>
                      <a:pt x="1237" y="566"/>
                    </a:cubicBezTo>
                    <a:cubicBezTo>
                      <a:pt x="1277" y="568"/>
                      <a:pt x="1333" y="568"/>
                      <a:pt x="1375" y="584"/>
                    </a:cubicBezTo>
                    <a:cubicBezTo>
                      <a:pt x="1417" y="600"/>
                      <a:pt x="1448" y="625"/>
                      <a:pt x="1487" y="665"/>
                    </a:cubicBezTo>
                    <a:cubicBezTo>
                      <a:pt x="1526" y="705"/>
                      <a:pt x="1578" y="764"/>
                      <a:pt x="1607" y="824"/>
                    </a:cubicBezTo>
                    <a:cubicBezTo>
                      <a:pt x="1636" y="883"/>
                      <a:pt x="1660" y="948"/>
                      <a:pt x="1661" y="1019"/>
                    </a:cubicBezTo>
                    <a:cubicBezTo>
                      <a:pt x="1662" y="1090"/>
                      <a:pt x="1636" y="1182"/>
                      <a:pt x="1613" y="1254"/>
                    </a:cubicBezTo>
                    <a:cubicBezTo>
                      <a:pt x="1590" y="1326"/>
                      <a:pt x="1555" y="1392"/>
                      <a:pt x="1522" y="1454"/>
                    </a:cubicBezTo>
                    <a:cubicBezTo>
                      <a:pt x="1489" y="1516"/>
                      <a:pt x="1463" y="1568"/>
                      <a:pt x="1413" y="1624"/>
                    </a:cubicBezTo>
                    <a:cubicBezTo>
                      <a:pt x="1363" y="1680"/>
                      <a:pt x="1279" y="1750"/>
                      <a:pt x="1219" y="1790"/>
                    </a:cubicBezTo>
                    <a:cubicBezTo>
                      <a:pt x="1159" y="1830"/>
                      <a:pt x="1106" y="1843"/>
                      <a:pt x="1052" y="1862"/>
                    </a:cubicBezTo>
                    <a:cubicBezTo>
                      <a:pt x="998" y="1881"/>
                      <a:pt x="951" y="1905"/>
                      <a:pt x="892" y="1907"/>
                    </a:cubicBezTo>
                    <a:cubicBezTo>
                      <a:pt x="833" y="1909"/>
                      <a:pt x="755" y="1892"/>
                      <a:pt x="697" y="1877"/>
                    </a:cubicBezTo>
                    <a:cubicBezTo>
                      <a:pt x="639" y="1862"/>
                      <a:pt x="596" y="1842"/>
                      <a:pt x="541" y="1814"/>
                    </a:cubicBezTo>
                    <a:cubicBezTo>
                      <a:pt x="486" y="1786"/>
                      <a:pt x="423" y="1752"/>
                      <a:pt x="367" y="1706"/>
                    </a:cubicBezTo>
                    <a:cubicBezTo>
                      <a:pt x="311" y="1660"/>
                      <a:pt x="249" y="1591"/>
                      <a:pt x="205" y="1538"/>
                    </a:cubicBezTo>
                    <a:cubicBezTo>
                      <a:pt x="161" y="1485"/>
                      <a:pt x="132" y="1446"/>
                      <a:pt x="103" y="1385"/>
                    </a:cubicBezTo>
                    <a:cubicBezTo>
                      <a:pt x="74" y="1324"/>
                      <a:pt x="47" y="1230"/>
                      <a:pt x="31" y="1172"/>
                    </a:cubicBezTo>
                    <a:cubicBezTo>
                      <a:pt x="15" y="1114"/>
                      <a:pt x="7" y="1089"/>
                      <a:pt x="4" y="1037"/>
                    </a:cubicBezTo>
                    <a:cubicBezTo>
                      <a:pt x="1" y="985"/>
                      <a:pt x="0" y="923"/>
                      <a:pt x="10" y="857"/>
                    </a:cubicBezTo>
                    <a:cubicBezTo>
                      <a:pt x="20" y="791"/>
                      <a:pt x="40" y="707"/>
                      <a:pt x="63" y="640"/>
                    </a:cubicBezTo>
                    <a:cubicBezTo>
                      <a:pt x="86" y="573"/>
                      <a:pt x="115" y="513"/>
                      <a:pt x="151" y="454"/>
                    </a:cubicBezTo>
                    <a:cubicBezTo>
                      <a:pt x="187" y="396"/>
                      <a:pt x="226" y="341"/>
                      <a:pt x="278" y="289"/>
                    </a:cubicBezTo>
                    <a:cubicBezTo>
                      <a:pt x="330" y="237"/>
                      <a:pt x="408" y="179"/>
                      <a:pt x="466" y="140"/>
                    </a:cubicBezTo>
                    <a:cubicBezTo>
                      <a:pt x="523" y="102"/>
                      <a:pt x="568" y="82"/>
                      <a:pt x="622" y="62"/>
                    </a:cubicBezTo>
                    <a:cubicBezTo>
                      <a:pt x="676" y="42"/>
                      <a:pt x="746" y="28"/>
                      <a:pt x="790" y="20"/>
                    </a:cubicBezTo>
                    <a:cubicBezTo>
                      <a:pt x="834" y="12"/>
                      <a:pt x="899" y="0"/>
                      <a:pt x="886" y="14"/>
                    </a:cubicBezTo>
                    <a:cubicBezTo>
                      <a:pt x="873" y="28"/>
                      <a:pt x="765" y="70"/>
                      <a:pt x="709" y="103"/>
                    </a:cubicBezTo>
                    <a:cubicBezTo>
                      <a:pt x="653" y="136"/>
                      <a:pt x="592" y="181"/>
                      <a:pt x="552" y="215"/>
                    </a:cubicBezTo>
                    <a:cubicBezTo>
                      <a:pt x="512" y="249"/>
                      <a:pt x="502" y="260"/>
                      <a:pt x="469" y="305"/>
                    </a:cubicBezTo>
                    <a:cubicBezTo>
                      <a:pt x="436" y="350"/>
                      <a:pt x="391" y="416"/>
                      <a:pt x="357" y="485"/>
                    </a:cubicBezTo>
                    <a:cubicBezTo>
                      <a:pt x="323" y="554"/>
                      <a:pt x="279" y="655"/>
                      <a:pt x="262" y="722"/>
                    </a:cubicBezTo>
                    <a:cubicBezTo>
                      <a:pt x="245" y="789"/>
                      <a:pt x="249" y="836"/>
                      <a:pt x="253" y="890"/>
                    </a:cubicBezTo>
                    <a:cubicBezTo>
                      <a:pt x="257" y="944"/>
                      <a:pt x="271" y="996"/>
                      <a:pt x="289" y="1046"/>
                    </a:cubicBezTo>
                    <a:cubicBezTo>
                      <a:pt x="307" y="1096"/>
                      <a:pt x="331" y="1144"/>
                      <a:pt x="363" y="1189"/>
                    </a:cubicBezTo>
                    <a:cubicBezTo>
                      <a:pt x="395" y="1234"/>
                      <a:pt x="428" y="1285"/>
                      <a:pt x="484" y="1314"/>
                    </a:cubicBezTo>
                    <a:cubicBezTo>
                      <a:pt x="540" y="1343"/>
                      <a:pt x="629" y="1369"/>
                      <a:pt x="700" y="1361"/>
                    </a:cubicBezTo>
                    <a:cubicBezTo>
                      <a:pt x="771" y="1353"/>
                      <a:pt x="879" y="1365"/>
                      <a:pt x="910" y="1264"/>
                    </a:cubicBezTo>
                    <a:cubicBezTo>
                      <a:pt x="941" y="1163"/>
                      <a:pt x="879" y="844"/>
                      <a:pt x="888" y="754"/>
                    </a:cubicBezTo>
                    <a:close/>
                  </a:path>
                </a:pathLst>
              </a:custGeom>
              <a:solidFill>
                <a:srgbClr val="ccfff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 flipV="1">
                <a:off x="539640" y="5347080"/>
                <a:ext cx="114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1039320" y="4805280"/>
                <a:ext cx="383040" cy="709560"/>
              </a:xfrm>
              <a:custGeom>
                <a:avLst/>
                <a:gdLst/>
                <a:ahLst/>
                <a:rect l="l" t="t" r="r" b="b"/>
                <a:pathLst>
                  <a:path w="706" h="1375">
                    <a:moveTo>
                      <a:pt x="702" y="0"/>
                    </a:moveTo>
                    <a:cubicBezTo>
                      <a:pt x="644" y="30"/>
                      <a:pt x="452" y="98"/>
                      <a:pt x="352" y="182"/>
                    </a:cubicBezTo>
                    <a:cubicBezTo>
                      <a:pt x="252" y="265"/>
                      <a:pt x="159" y="398"/>
                      <a:pt x="102" y="503"/>
                    </a:cubicBezTo>
                    <a:cubicBezTo>
                      <a:pt x="45" y="608"/>
                      <a:pt x="16" y="717"/>
                      <a:pt x="8" y="812"/>
                    </a:cubicBezTo>
                    <a:cubicBezTo>
                      <a:pt x="0" y="907"/>
                      <a:pt x="24" y="996"/>
                      <a:pt x="53" y="1074"/>
                    </a:cubicBezTo>
                    <a:cubicBezTo>
                      <a:pt x="82" y="1152"/>
                      <a:pt x="134" y="1230"/>
                      <a:pt x="181" y="1277"/>
                    </a:cubicBezTo>
                    <a:cubicBezTo>
                      <a:pt x="228" y="1324"/>
                      <a:pt x="278" y="1345"/>
                      <a:pt x="338" y="1359"/>
                    </a:cubicBezTo>
                    <a:cubicBezTo>
                      <a:pt x="398" y="1373"/>
                      <a:pt x="480" y="1375"/>
                      <a:pt x="541" y="1359"/>
                    </a:cubicBezTo>
                    <a:cubicBezTo>
                      <a:pt x="602" y="1343"/>
                      <a:pt x="672" y="1282"/>
                      <a:pt x="706" y="1262"/>
                    </a:cubicBez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16200000">
                <a:off x="758880" y="5179680"/>
                <a:ext cx="383760" cy="710280"/>
              </a:xfrm>
              <a:custGeom>
                <a:avLst/>
                <a:gdLst/>
                <a:ahLst/>
                <a:rect l="l" t="t" r="r" b="b"/>
                <a:pathLst>
                  <a:path w="706" h="1375">
                    <a:moveTo>
                      <a:pt x="702" y="0"/>
                    </a:moveTo>
                    <a:cubicBezTo>
                      <a:pt x="644" y="30"/>
                      <a:pt x="452" y="98"/>
                      <a:pt x="352" y="182"/>
                    </a:cubicBezTo>
                    <a:cubicBezTo>
                      <a:pt x="252" y="265"/>
                      <a:pt x="159" y="398"/>
                      <a:pt x="102" y="503"/>
                    </a:cubicBezTo>
                    <a:cubicBezTo>
                      <a:pt x="45" y="608"/>
                      <a:pt x="16" y="717"/>
                      <a:pt x="8" y="812"/>
                    </a:cubicBezTo>
                    <a:cubicBezTo>
                      <a:pt x="0" y="907"/>
                      <a:pt x="24" y="996"/>
                      <a:pt x="53" y="1074"/>
                    </a:cubicBezTo>
                    <a:cubicBezTo>
                      <a:pt x="82" y="1152"/>
                      <a:pt x="134" y="1230"/>
                      <a:pt x="181" y="1277"/>
                    </a:cubicBezTo>
                    <a:cubicBezTo>
                      <a:pt x="228" y="1324"/>
                      <a:pt x="278" y="1345"/>
                      <a:pt x="338" y="1359"/>
                    </a:cubicBezTo>
                    <a:cubicBezTo>
                      <a:pt x="398" y="1373"/>
                      <a:pt x="480" y="1375"/>
                      <a:pt x="541" y="1359"/>
                    </a:cubicBezTo>
                    <a:cubicBezTo>
                      <a:pt x="602" y="1343"/>
                      <a:pt x="672" y="1282"/>
                      <a:pt x="706" y="1262"/>
                    </a:cubicBezTo>
                  </a:path>
                </a:pathLst>
              </a:cu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0800000">
                <a:off x="1568880" y="5335560"/>
                <a:ext cx="27720" cy="29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10800000">
                <a:off x="580320" y="5331960"/>
                <a:ext cx="27720" cy="291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1096560" y="4724280"/>
                <a:ext cx="1080" cy="12024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5400000">
                <a:off x="941760" y="5206320"/>
                <a:ext cx="309240" cy="29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0800000">
                <a:off x="927720" y="5335560"/>
                <a:ext cx="27720" cy="29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0800000">
                <a:off x="1227960" y="5335560"/>
                <a:ext cx="29160" cy="2952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087920" y="5353560"/>
                <a:ext cx="360" cy="59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43440" y="5366160"/>
                <a:ext cx="360" cy="58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22160" y="5180400"/>
                <a:ext cx="148320" cy="15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omic Sans MS"/>
                  </a:rPr>
                  <a:t>S1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61440" y="5183640"/>
                <a:ext cx="17712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omic Sans MS"/>
                  </a:rPr>
                  <a:t>S2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602360" y="5382720"/>
                <a:ext cx="140760" cy="16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Comic Sans MS"/>
                  </a:rPr>
                  <a:t>S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411920" y="5799600"/>
                <a:ext cx="194040" cy="2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947160" y="5937120"/>
                <a:ext cx="3884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057680" y="5917680"/>
                <a:ext cx="22680" cy="4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0" y="0"/>
                    </a:moveTo>
                    <a:lnTo>
                      <a:pt x="36" y="30"/>
                    </a:lnTo>
                    <a:lnTo>
                      <a:pt x="6" y="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251000" y="5917680"/>
                <a:ext cx="22680" cy="41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0" y="0"/>
                    </a:moveTo>
                    <a:lnTo>
                      <a:pt x="36" y="30"/>
                    </a:lnTo>
                    <a:lnTo>
                      <a:pt x="6" y="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99" name="" descr=""/>
          <p:cNvPicPr/>
          <p:nvPr/>
        </p:nvPicPr>
        <p:blipFill>
          <a:blip r:embed="rId2"/>
          <a:stretch/>
        </p:blipFill>
        <p:spPr>
          <a:xfrm>
            <a:off x="4500720" y="490536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1149840" y="5950080"/>
            <a:ext cx="67320" cy="1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001560" y="4834080"/>
            <a:ext cx="2997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цикл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онного времен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 ограниченным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ускорение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цикле года Плат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точное воспро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мвола Тайджиту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– древней фор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мвола Инь-Ян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как ее вве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ай Жи-д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Lai Zhi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900000" y="6237360"/>
            <a:ext cx="44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887640" y="5013360"/>
            <a:ext cx="398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16000" y="189000"/>
            <a:ext cx="8750160" cy="644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6600" y="404640"/>
            <a:ext cx="743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7. Четыре эволюционных цикла на протяжении года Платон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539640" y="981000"/>
            <a:ext cx="1576440" cy="1607760"/>
            <a:chOff x="539640" y="981000"/>
            <a:chExt cx="1576440" cy="1607760"/>
          </a:xfrm>
        </p:grpSpPr>
        <p:sp>
          <p:nvSpPr>
            <p:cNvPr id="909" name=""/>
            <p:cNvSpPr/>
            <p:nvPr/>
          </p:nvSpPr>
          <p:spPr>
            <a:xfrm flipH="1" flipV="1">
              <a:off x="1370520" y="1254960"/>
              <a:ext cx="2880" cy="4921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0080" y="1224720"/>
              <a:ext cx="1220400" cy="122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9360" y="1836000"/>
              <a:ext cx="1476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74520" y="1226520"/>
              <a:ext cx="377640" cy="601560"/>
            </a:xfrm>
            <a:custGeom>
              <a:avLst/>
              <a:gdLst/>
              <a:ahLst/>
              <a:rect l="l" t="t" r="r" b="b"/>
              <a:pathLst>
                <a:path w="596" h="949">
                  <a:moveTo>
                    <a:pt x="596" y="0"/>
                  </a:moveTo>
                  <a:cubicBezTo>
                    <a:pt x="575" y="4"/>
                    <a:pt x="527" y="14"/>
                    <a:pt x="476" y="30"/>
                  </a:cubicBezTo>
                  <a:cubicBezTo>
                    <a:pt x="425" y="46"/>
                    <a:pt x="352" y="61"/>
                    <a:pt x="288" y="94"/>
                  </a:cubicBezTo>
                  <a:cubicBezTo>
                    <a:pt x="224" y="127"/>
                    <a:pt x="140" y="176"/>
                    <a:pt x="94" y="226"/>
                  </a:cubicBezTo>
                  <a:cubicBezTo>
                    <a:pt x="48" y="276"/>
                    <a:pt x="24" y="335"/>
                    <a:pt x="12" y="391"/>
                  </a:cubicBezTo>
                  <a:cubicBezTo>
                    <a:pt x="0" y="447"/>
                    <a:pt x="2" y="508"/>
                    <a:pt x="19" y="563"/>
                  </a:cubicBezTo>
                  <a:cubicBezTo>
                    <a:pt x="36" y="618"/>
                    <a:pt x="72" y="680"/>
                    <a:pt x="111" y="724"/>
                  </a:cubicBezTo>
                  <a:cubicBezTo>
                    <a:pt x="150" y="768"/>
                    <a:pt x="210" y="802"/>
                    <a:pt x="252" y="829"/>
                  </a:cubicBezTo>
                  <a:cubicBezTo>
                    <a:pt x="294" y="856"/>
                    <a:pt x="327" y="873"/>
                    <a:pt x="366" y="889"/>
                  </a:cubicBezTo>
                  <a:cubicBezTo>
                    <a:pt x="405" y="905"/>
                    <a:pt x="452" y="915"/>
                    <a:pt x="486" y="925"/>
                  </a:cubicBezTo>
                  <a:cubicBezTo>
                    <a:pt x="520" y="935"/>
                    <a:pt x="555" y="944"/>
                    <a:pt x="573" y="949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51440" y="1461240"/>
              <a:ext cx="602280" cy="383040"/>
            </a:xfrm>
            <a:custGeom>
              <a:avLst/>
              <a:gdLst/>
              <a:ahLst/>
              <a:rect l="l" t="t" r="r" b="b"/>
              <a:pathLst>
                <a:path w="949" h="601">
                  <a:moveTo>
                    <a:pt x="949" y="601"/>
                  </a:moveTo>
                  <a:cubicBezTo>
                    <a:pt x="945" y="580"/>
                    <a:pt x="937" y="528"/>
                    <a:pt x="923" y="476"/>
                  </a:cubicBezTo>
                  <a:cubicBezTo>
                    <a:pt x="909" y="424"/>
                    <a:pt x="895" y="352"/>
                    <a:pt x="863" y="288"/>
                  </a:cubicBezTo>
                  <a:cubicBezTo>
                    <a:pt x="831" y="224"/>
                    <a:pt x="781" y="140"/>
                    <a:pt x="731" y="94"/>
                  </a:cubicBezTo>
                  <a:cubicBezTo>
                    <a:pt x="681" y="48"/>
                    <a:pt x="622" y="24"/>
                    <a:pt x="566" y="12"/>
                  </a:cubicBezTo>
                  <a:cubicBezTo>
                    <a:pt x="510" y="0"/>
                    <a:pt x="452" y="2"/>
                    <a:pt x="394" y="19"/>
                  </a:cubicBezTo>
                  <a:cubicBezTo>
                    <a:pt x="336" y="36"/>
                    <a:pt x="263" y="76"/>
                    <a:pt x="216" y="113"/>
                  </a:cubicBezTo>
                  <a:cubicBezTo>
                    <a:pt x="169" y="150"/>
                    <a:pt x="137" y="203"/>
                    <a:pt x="111" y="242"/>
                  </a:cubicBezTo>
                  <a:cubicBezTo>
                    <a:pt x="85" y="281"/>
                    <a:pt x="74" y="310"/>
                    <a:pt x="60" y="347"/>
                  </a:cubicBezTo>
                  <a:cubicBezTo>
                    <a:pt x="46" y="384"/>
                    <a:pt x="37" y="424"/>
                    <a:pt x="27" y="464"/>
                  </a:cubicBezTo>
                  <a:cubicBezTo>
                    <a:pt x="17" y="504"/>
                    <a:pt x="6" y="561"/>
                    <a:pt x="0" y="587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56840" y="1840680"/>
              <a:ext cx="379440" cy="603360"/>
            </a:xfrm>
            <a:custGeom>
              <a:avLst/>
              <a:gdLst/>
              <a:ahLst/>
              <a:rect l="l" t="t" r="r" b="b"/>
              <a:pathLst>
                <a:path w="597" h="951">
                  <a:moveTo>
                    <a:pt x="0" y="951"/>
                  </a:moveTo>
                  <a:cubicBezTo>
                    <a:pt x="21" y="947"/>
                    <a:pt x="70" y="936"/>
                    <a:pt x="121" y="921"/>
                  </a:cubicBezTo>
                  <a:cubicBezTo>
                    <a:pt x="172" y="906"/>
                    <a:pt x="245" y="893"/>
                    <a:pt x="309" y="861"/>
                  </a:cubicBezTo>
                  <a:cubicBezTo>
                    <a:pt x="373" y="829"/>
                    <a:pt x="457" y="779"/>
                    <a:pt x="503" y="729"/>
                  </a:cubicBezTo>
                  <a:cubicBezTo>
                    <a:pt x="549" y="679"/>
                    <a:pt x="573" y="620"/>
                    <a:pt x="585" y="564"/>
                  </a:cubicBezTo>
                  <a:cubicBezTo>
                    <a:pt x="597" y="508"/>
                    <a:pt x="597" y="446"/>
                    <a:pt x="578" y="392"/>
                  </a:cubicBezTo>
                  <a:cubicBezTo>
                    <a:pt x="559" y="338"/>
                    <a:pt x="507" y="282"/>
                    <a:pt x="468" y="240"/>
                  </a:cubicBezTo>
                  <a:cubicBezTo>
                    <a:pt x="429" y="198"/>
                    <a:pt x="383" y="168"/>
                    <a:pt x="342" y="141"/>
                  </a:cubicBezTo>
                  <a:cubicBezTo>
                    <a:pt x="301" y="114"/>
                    <a:pt x="261" y="93"/>
                    <a:pt x="222" y="75"/>
                  </a:cubicBezTo>
                  <a:cubicBezTo>
                    <a:pt x="183" y="57"/>
                    <a:pt x="145" y="43"/>
                    <a:pt x="108" y="30"/>
                  </a:cubicBezTo>
                  <a:cubicBezTo>
                    <a:pt x="71" y="17"/>
                    <a:pt x="25" y="6"/>
                    <a:pt x="3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9360" y="1836720"/>
              <a:ext cx="618120" cy="380520"/>
            </a:xfrm>
            <a:custGeom>
              <a:avLst/>
              <a:gdLst/>
              <a:ahLst/>
              <a:rect l="l" t="t" r="r" b="b"/>
              <a:pathLst>
                <a:path w="975" h="599">
                  <a:moveTo>
                    <a:pt x="0" y="0"/>
                  </a:moveTo>
                  <a:cubicBezTo>
                    <a:pt x="5" y="21"/>
                    <a:pt x="16" y="74"/>
                    <a:pt x="33" y="126"/>
                  </a:cubicBezTo>
                  <a:cubicBezTo>
                    <a:pt x="50" y="178"/>
                    <a:pt x="68" y="248"/>
                    <a:pt x="101" y="311"/>
                  </a:cubicBezTo>
                  <a:cubicBezTo>
                    <a:pt x="134" y="374"/>
                    <a:pt x="183" y="459"/>
                    <a:pt x="233" y="505"/>
                  </a:cubicBezTo>
                  <a:cubicBezTo>
                    <a:pt x="283" y="551"/>
                    <a:pt x="342" y="575"/>
                    <a:pt x="398" y="587"/>
                  </a:cubicBezTo>
                  <a:cubicBezTo>
                    <a:pt x="454" y="599"/>
                    <a:pt x="512" y="597"/>
                    <a:pt x="570" y="580"/>
                  </a:cubicBezTo>
                  <a:cubicBezTo>
                    <a:pt x="628" y="563"/>
                    <a:pt x="701" y="523"/>
                    <a:pt x="748" y="486"/>
                  </a:cubicBezTo>
                  <a:cubicBezTo>
                    <a:pt x="795" y="449"/>
                    <a:pt x="826" y="398"/>
                    <a:pt x="853" y="357"/>
                  </a:cubicBezTo>
                  <a:cubicBezTo>
                    <a:pt x="880" y="316"/>
                    <a:pt x="893" y="276"/>
                    <a:pt x="908" y="239"/>
                  </a:cubicBezTo>
                  <a:cubicBezTo>
                    <a:pt x="923" y="202"/>
                    <a:pt x="934" y="169"/>
                    <a:pt x="945" y="134"/>
                  </a:cubicBezTo>
                  <a:cubicBezTo>
                    <a:pt x="956" y="99"/>
                    <a:pt x="969" y="51"/>
                    <a:pt x="975" y="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332000" y="1816200"/>
              <a:ext cx="34200" cy="3348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324440" y="2425680"/>
              <a:ext cx="34200" cy="342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29960" y="1823400"/>
              <a:ext cx="34200" cy="342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4960" y="1823400"/>
              <a:ext cx="34200" cy="3420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28040" y="1217880"/>
              <a:ext cx="34200" cy="3348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1347120" y="1087200"/>
              <a:ext cx="360" cy="1501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64520" y="1926360"/>
              <a:ext cx="136800" cy="20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42520" y="1266840"/>
              <a:ext cx="137160" cy="20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187280" y="1537200"/>
              <a:ext cx="137160" cy="20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1350720" y="1262520"/>
              <a:ext cx="360" cy="487800"/>
            </a:xfrm>
            <a:prstGeom prst="line">
              <a:avLst/>
            </a:prstGeom>
            <a:ln cap="rnd" w="3816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64240" y="981000"/>
              <a:ext cx="13680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40600" y="1564200"/>
              <a:ext cx="136800" cy="20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39640" y="1602360"/>
              <a:ext cx="137160" cy="20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" rIns="36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Comic Sans MS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783360" y="1837800"/>
              <a:ext cx="487440" cy="720"/>
            </a:xfrm>
            <a:prstGeom prst="line">
              <a:avLst/>
            </a:prstGeom>
            <a:ln cap="rnd" w="38160">
              <a:solidFill>
                <a:srgbClr val="000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2993040" y="985680"/>
            <a:ext cx="813240" cy="822600"/>
            <a:chOff x="2993040" y="985680"/>
            <a:chExt cx="813240" cy="822600"/>
          </a:xfrm>
        </p:grpSpPr>
        <p:sp>
          <p:nvSpPr>
            <p:cNvPr id="931" name=""/>
            <p:cNvSpPr/>
            <p:nvPr/>
          </p:nvSpPr>
          <p:spPr>
            <a:xfrm rot="1785600">
              <a:off x="3292920" y="1015560"/>
              <a:ext cx="213480" cy="345960"/>
            </a:xfrm>
            <a:custGeom>
              <a:avLst/>
              <a:gdLst/>
              <a:ahLst/>
              <a:rect l="l" t="t" r="r" b="b"/>
              <a:pathLst>
                <a:path w="596" h="949">
                  <a:moveTo>
                    <a:pt x="596" y="0"/>
                  </a:moveTo>
                  <a:cubicBezTo>
                    <a:pt x="575" y="4"/>
                    <a:pt x="527" y="14"/>
                    <a:pt x="476" y="30"/>
                  </a:cubicBezTo>
                  <a:cubicBezTo>
                    <a:pt x="425" y="46"/>
                    <a:pt x="352" y="61"/>
                    <a:pt x="288" y="94"/>
                  </a:cubicBezTo>
                  <a:cubicBezTo>
                    <a:pt x="224" y="127"/>
                    <a:pt x="140" y="176"/>
                    <a:pt x="94" y="226"/>
                  </a:cubicBezTo>
                  <a:cubicBezTo>
                    <a:pt x="48" y="276"/>
                    <a:pt x="24" y="335"/>
                    <a:pt x="12" y="391"/>
                  </a:cubicBezTo>
                  <a:cubicBezTo>
                    <a:pt x="0" y="447"/>
                    <a:pt x="2" y="508"/>
                    <a:pt x="19" y="563"/>
                  </a:cubicBezTo>
                  <a:cubicBezTo>
                    <a:pt x="36" y="618"/>
                    <a:pt x="72" y="680"/>
                    <a:pt x="111" y="724"/>
                  </a:cubicBezTo>
                  <a:cubicBezTo>
                    <a:pt x="150" y="768"/>
                    <a:pt x="210" y="802"/>
                    <a:pt x="252" y="829"/>
                  </a:cubicBezTo>
                  <a:cubicBezTo>
                    <a:pt x="294" y="856"/>
                    <a:pt x="327" y="873"/>
                    <a:pt x="366" y="889"/>
                  </a:cubicBezTo>
                  <a:cubicBezTo>
                    <a:pt x="405" y="905"/>
                    <a:pt x="452" y="915"/>
                    <a:pt x="486" y="925"/>
                  </a:cubicBezTo>
                  <a:cubicBezTo>
                    <a:pt x="520" y="935"/>
                    <a:pt x="555" y="944"/>
                    <a:pt x="573" y="949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785600">
              <a:off x="3434400" y="1281240"/>
              <a:ext cx="339840" cy="218880"/>
            </a:xfrm>
            <a:custGeom>
              <a:avLst/>
              <a:gdLst/>
              <a:ahLst/>
              <a:rect l="l" t="t" r="r" b="b"/>
              <a:pathLst>
                <a:path w="949" h="601">
                  <a:moveTo>
                    <a:pt x="949" y="601"/>
                  </a:moveTo>
                  <a:cubicBezTo>
                    <a:pt x="945" y="580"/>
                    <a:pt x="937" y="528"/>
                    <a:pt x="923" y="476"/>
                  </a:cubicBezTo>
                  <a:cubicBezTo>
                    <a:pt x="909" y="424"/>
                    <a:pt x="895" y="352"/>
                    <a:pt x="863" y="288"/>
                  </a:cubicBezTo>
                  <a:cubicBezTo>
                    <a:pt x="831" y="224"/>
                    <a:pt x="781" y="140"/>
                    <a:pt x="731" y="94"/>
                  </a:cubicBezTo>
                  <a:cubicBezTo>
                    <a:pt x="681" y="48"/>
                    <a:pt x="622" y="24"/>
                    <a:pt x="566" y="12"/>
                  </a:cubicBezTo>
                  <a:cubicBezTo>
                    <a:pt x="510" y="0"/>
                    <a:pt x="452" y="2"/>
                    <a:pt x="394" y="19"/>
                  </a:cubicBezTo>
                  <a:cubicBezTo>
                    <a:pt x="336" y="36"/>
                    <a:pt x="263" y="76"/>
                    <a:pt x="216" y="113"/>
                  </a:cubicBezTo>
                  <a:cubicBezTo>
                    <a:pt x="169" y="150"/>
                    <a:pt x="137" y="203"/>
                    <a:pt x="111" y="242"/>
                  </a:cubicBezTo>
                  <a:cubicBezTo>
                    <a:pt x="85" y="281"/>
                    <a:pt x="74" y="310"/>
                    <a:pt x="60" y="347"/>
                  </a:cubicBezTo>
                  <a:cubicBezTo>
                    <a:pt x="46" y="384"/>
                    <a:pt x="37" y="424"/>
                    <a:pt x="27" y="464"/>
                  </a:cubicBezTo>
                  <a:cubicBezTo>
                    <a:pt x="17" y="504"/>
                    <a:pt x="6" y="561"/>
                    <a:pt x="0" y="587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1785600">
              <a:off x="3308400" y="1431000"/>
              <a:ext cx="213840" cy="346680"/>
            </a:xfrm>
            <a:custGeom>
              <a:avLst/>
              <a:gdLst/>
              <a:ahLst/>
              <a:rect l="l" t="t" r="r" b="b"/>
              <a:pathLst>
                <a:path w="597" h="951">
                  <a:moveTo>
                    <a:pt x="0" y="951"/>
                  </a:moveTo>
                  <a:cubicBezTo>
                    <a:pt x="21" y="947"/>
                    <a:pt x="70" y="936"/>
                    <a:pt x="121" y="921"/>
                  </a:cubicBezTo>
                  <a:cubicBezTo>
                    <a:pt x="172" y="906"/>
                    <a:pt x="245" y="893"/>
                    <a:pt x="309" y="861"/>
                  </a:cubicBezTo>
                  <a:cubicBezTo>
                    <a:pt x="373" y="829"/>
                    <a:pt x="457" y="779"/>
                    <a:pt x="503" y="729"/>
                  </a:cubicBezTo>
                  <a:cubicBezTo>
                    <a:pt x="549" y="679"/>
                    <a:pt x="573" y="620"/>
                    <a:pt x="585" y="564"/>
                  </a:cubicBezTo>
                  <a:cubicBezTo>
                    <a:pt x="597" y="508"/>
                    <a:pt x="597" y="446"/>
                    <a:pt x="578" y="392"/>
                  </a:cubicBezTo>
                  <a:cubicBezTo>
                    <a:pt x="559" y="338"/>
                    <a:pt x="507" y="282"/>
                    <a:pt x="468" y="240"/>
                  </a:cubicBezTo>
                  <a:cubicBezTo>
                    <a:pt x="429" y="198"/>
                    <a:pt x="383" y="168"/>
                    <a:pt x="342" y="141"/>
                  </a:cubicBezTo>
                  <a:cubicBezTo>
                    <a:pt x="301" y="114"/>
                    <a:pt x="261" y="93"/>
                    <a:pt x="222" y="75"/>
                  </a:cubicBezTo>
                  <a:cubicBezTo>
                    <a:pt x="183" y="57"/>
                    <a:pt x="145" y="43"/>
                    <a:pt x="108" y="30"/>
                  </a:cubicBezTo>
                  <a:cubicBezTo>
                    <a:pt x="71" y="17"/>
                    <a:pt x="25" y="6"/>
                    <a:pt x="3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785600">
              <a:off x="3024000" y="1292760"/>
              <a:ext cx="349200" cy="218160"/>
            </a:xfrm>
            <a:custGeom>
              <a:avLst/>
              <a:gdLst/>
              <a:ahLst/>
              <a:rect l="l" t="t" r="r" b="b"/>
              <a:pathLst>
                <a:path w="975" h="599">
                  <a:moveTo>
                    <a:pt x="0" y="0"/>
                  </a:moveTo>
                  <a:cubicBezTo>
                    <a:pt x="5" y="21"/>
                    <a:pt x="16" y="74"/>
                    <a:pt x="33" y="126"/>
                  </a:cubicBezTo>
                  <a:cubicBezTo>
                    <a:pt x="50" y="178"/>
                    <a:pt x="68" y="248"/>
                    <a:pt x="101" y="311"/>
                  </a:cubicBezTo>
                  <a:cubicBezTo>
                    <a:pt x="134" y="374"/>
                    <a:pt x="183" y="459"/>
                    <a:pt x="233" y="505"/>
                  </a:cubicBezTo>
                  <a:cubicBezTo>
                    <a:pt x="283" y="551"/>
                    <a:pt x="342" y="575"/>
                    <a:pt x="398" y="587"/>
                  </a:cubicBezTo>
                  <a:cubicBezTo>
                    <a:pt x="454" y="599"/>
                    <a:pt x="512" y="597"/>
                    <a:pt x="570" y="580"/>
                  </a:cubicBezTo>
                  <a:cubicBezTo>
                    <a:pt x="628" y="563"/>
                    <a:pt x="701" y="523"/>
                    <a:pt x="748" y="486"/>
                  </a:cubicBezTo>
                  <a:cubicBezTo>
                    <a:pt x="795" y="449"/>
                    <a:pt x="826" y="398"/>
                    <a:pt x="853" y="357"/>
                  </a:cubicBezTo>
                  <a:cubicBezTo>
                    <a:pt x="880" y="316"/>
                    <a:pt x="893" y="276"/>
                    <a:pt x="908" y="239"/>
                  </a:cubicBezTo>
                  <a:cubicBezTo>
                    <a:pt x="923" y="202"/>
                    <a:pt x="934" y="169"/>
                    <a:pt x="945" y="134"/>
                  </a:cubicBezTo>
                  <a:cubicBezTo>
                    <a:pt x="956" y="99"/>
                    <a:pt x="969" y="51"/>
                    <a:pt x="975" y="2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785600">
              <a:off x="3396240" y="1384200"/>
              <a:ext cx="19080" cy="194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785600">
              <a:off x="3225960" y="1692360"/>
              <a:ext cx="16920" cy="15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1785600">
              <a:off x="3690720" y="1568520"/>
              <a:ext cx="13320" cy="32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1785600">
              <a:off x="3091320" y="1215720"/>
              <a:ext cx="12960" cy="15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785600">
              <a:off x="3573360" y="1084320"/>
              <a:ext cx="10800" cy="15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2991240" y="1948320"/>
            <a:ext cx="851040" cy="864360"/>
            <a:chOff x="2991240" y="1948320"/>
            <a:chExt cx="851040" cy="864360"/>
          </a:xfrm>
        </p:grpSpPr>
        <p:sp>
          <p:nvSpPr>
            <p:cNvPr id="941" name=""/>
            <p:cNvSpPr/>
            <p:nvPr/>
          </p:nvSpPr>
          <p:spPr>
            <a:xfrm>
              <a:off x="3057840" y="2003400"/>
              <a:ext cx="725400" cy="74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2991240" y="1948320"/>
              <a:ext cx="851040" cy="864360"/>
              <a:chOff x="2991240" y="1948320"/>
              <a:chExt cx="851040" cy="864360"/>
            </a:xfrm>
          </p:grpSpPr>
          <p:sp>
            <p:nvSpPr>
              <p:cNvPr id="943" name=""/>
              <p:cNvSpPr/>
              <p:nvPr/>
            </p:nvSpPr>
            <p:spPr>
              <a:xfrm rot="1785600">
                <a:off x="3304800" y="1979280"/>
                <a:ext cx="222840" cy="363960"/>
              </a:xfrm>
              <a:custGeom>
                <a:avLst/>
                <a:gdLst/>
                <a:ahLst/>
                <a:rect l="l" t="t" r="r" b="b"/>
                <a:pathLst>
                  <a:path w="596" h="949">
                    <a:moveTo>
                      <a:pt x="596" y="0"/>
                    </a:moveTo>
                    <a:cubicBezTo>
                      <a:pt x="575" y="4"/>
                      <a:pt x="527" y="14"/>
                      <a:pt x="476" y="30"/>
                    </a:cubicBezTo>
                    <a:cubicBezTo>
                      <a:pt x="425" y="46"/>
                      <a:pt x="352" y="61"/>
                      <a:pt x="288" y="94"/>
                    </a:cubicBezTo>
                    <a:cubicBezTo>
                      <a:pt x="224" y="127"/>
                      <a:pt x="140" y="176"/>
                      <a:pt x="94" y="226"/>
                    </a:cubicBezTo>
                    <a:cubicBezTo>
                      <a:pt x="48" y="276"/>
                      <a:pt x="24" y="335"/>
                      <a:pt x="12" y="391"/>
                    </a:cubicBezTo>
                    <a:cubicBezTo>
                      <a:pt x="0" y="447"/>
                      <a:pt x="2" y="508"/>
                      <a:pt x="19" y="563"/>
                    </a:cubicBezTo>
                    <a:cubicBezTo>
                      <a:pt x="36" y="618"/>
                      <a:pt x="72" y="680"/>
                      <a:pt x="111" y="724"/>
                    </a:cubicBezTo>
                    <a:cubicBezTo>
                      <a:pt x="150" y="768"/>
                      <a:pt x="210" y="802"/>
                      <a:pt x="252" y="829"/>
                    </a:cubicBezTo>
                    <a:cubicBezTo>
                      <a:pt x="294" y="856"/>
                      <a:pt x="327" y="873"/>
                      <a:pt x="366" y="889"/>
                    </a:cubicBezTo>
                    <a:cubicBezTo>
                      <a:pt x="405" y="905"/>
                      <a:pt x="452" y="915"/>
                      <a:pt x="486" y="925"/>
                    </a:cubicBezTo>
                    <a:cubicBezTo>
                      <a:pt x="520" y="935"/>
                      <a:pt x="555" y="944"/>
                      <a:pt x="573" y="949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85600">
                <a:off x="3453120" y="2258640"/>
                <a:ext cx="355320" cy="230400"/>
              </a:xfrm>
              <a:custGeom>
                <a:avLst/>
                <a:gdLst/>
                <a:ahLst/>
                <a:rect l="l" t="t" r="r" b="b"/>
                <a:pathLst>
                  <a:path w="949" h="601">
                    <a:moveTo>
                      <a:pt x="949" y="601"/>
                    </a:moveTo>
                    <a:cubicBezTo>
                      <a:pt x="945" y="580"/>
                      <a:pt x="937" y="528"/>
                      <a:pt x="923" y="476"/>
                    </a:cubicBezTo>
                    <a:cubicBezTo>
                      <a:pt x="909" y="424"/>
                      <a:pt x="895" y="352"/>
                      <a:pt x="863" y="288"/>
                    </a:cubicBezTo>
                    <a:cubicBezTo>
                      <a:pt x="831" y="224"/>
                      <a:pt x="781" y="140"/>
                      <a:pt x="731" y="94"/>
                    </a:cubicBezTo>
                    <a:cubicBezTo>
                      <a:pt x="681" y="48"/>
                      <a:pt x="622" y="24"/>
                      <a:pt x="566" y="12"/>
                    </a:cubicBezTo>
                    <a:cubicBezTo>
                      <a:pt x="510" y="0"/>
                      <a:pt x="452" y="2"/>
                      <a:pt x="394" y="19"/>
                    </a:cubicBezTo>
                    <a:cubicBezTo>
                      <a:pt x="336" y="36"/>
                      <a:pt x="263" y="76"/>
                      <a:pt x="216" y="113"/>
                    </a:cubicBezTo>
                    <a:cubicBezTo>
                      <a:pt x="169" y="150"/>
                      <a:pt x="137" y="203"/>
                      <a:pt x="111" y="242"/>
                    </a:cubicBezTo>
                    <a:cubicBezTo>
                      <a:pt x="85" y="281"/>
                      <a:pt x="74" y="310"/>
                      <a:pt x="60" y="347"/>
                    </a:cubicBezTo>
                    <a:cubicBezTo>
                      <a:pt x="46" y="384"/>
                      <a:pt x="37" y="424"/>
                      <a:pt x="27" y="464"/>
                    </a:cubicBezTo>
                    <a:cubicBezTo>
                      <a:pt x="17" y="504"/>
                      <a:pt x="6" y="561"/>
                      <a:pt x="0" y="587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85600">
                <a:off x="3321000" y="2416680"/>
                <a:ext cx="223200" cy="364680"/>
              </a:xfrm>
              <a:custGeom>
                <a:avLst/>
                <a:gdLst/>
                <a:ahLst/>
                <a:rect l="l" t="t" r="r" b="b"/>
                <a:pathLst>
                  <a:path w="597" h="951">
                    <a:moveTo>
                      <a:pt x="0" y="951"/>
                    </a:moveTo>
                    <a:cubicBezTo>
                      <a:pt x="21" y="947"/>
                      <a:pt x="70" y="936"/>
                      <a:pt x="121" y="921"/>
                    </a:cubicBezTo>
                    <a:cubicBezTo>
                      <a:pt x="172" y="906"/>
                      <a:pt x="245" y="893"/>
                      <a:pt x="309" y="861"/>
                    </a:cubicBezTo>
                    <a:cubicBezTo>
                      <a:pt x="373" y="829"/>
                      <a:pt x="457" y="779"/>
                      <a:pt x="503" y="729"/>
                    </a:cubicBezTo>
                    <a:cubicBezTo>
                      <a:pt x="549" y="679"/>
                      <a:pt x="573" y="620"/>
                      <a:pt x="585" y="564"/>
                    </a:cubicBezTo>
                    <a:cubicBezTo>
                      <a:pt x="597" y="508"/>
                      <a:pt x="597" y="446"/>
                      <a:pt x="578" y="392"/>
                    </a:cubicBezTo>
                    <a:cubicBezTo>
                      <a:pt x="559" y="338"/>
                      <a:pt x="507" y="282"/>
                      <a:pt x="468" y="240"/>
                    </a:cubicBezTo>
                    <a:cubicBezTo>
                      <a:pt x="429" y="198"/>
                      <a:pt x="383" y="168"/>
                      <a:pt x="342" y="141"/>
                    </a:cubicBezTo>
                    <a:cubicBezTo>
                      <a:pt x="301" y="114"/>
                      <a:pt x="261" y="93"/>
                      <a:pt x="222" y="75"/>
                    </a:cubicBezTo>
                    <a:cubicBezTo>
                      <a:pt x="183" y="57"/>
                      <a:pt x="145" y="43"/>
                      <a:pt x="108" y="30"/>
                    </a:cubicBezTo>
                    <a:cubicBezTo>
                      <a:pt x="71" y="17"/>
                      <a:pt x="25" y="6"/>
                      <a:pt x="3" y="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785600">
                <a:off x="3024000" y="2271240"/>
                <a:ext cx="364680" cy="229680"/>
              </a:xfrm>
              <a:custGeom>
                <a:avLst/>
                <a:gdLst/>
                <a:ahLst/>
                <a:rect l="l" t="t" r="r" b="b"/>
                <a:pathLst>
                  <a:path w="975" h="599">
                    <a:moveTo>
                      <a:pt x="0" y="0"/>
                    </a:moveTo>
                    <a:cubicBezTo>
                      <a:pt x="5" y="21"/>
                      <a:pt x="16" y="74"/>
                      <a:pt x="33" y="126"/>
                    </a:cubicBezTo>
                    <a:cubicBezTo>
                      <a:pt x="50" y="178"/>
                      <a:pt x="68" y="248"/>
                      <a:pt x="101" y="311"/>
                    </a:cubicBezTo>
                    <a:cubicBezTo>
                      <a:pt x="134" y="374"/>
                      <a:pt x="183" y="459"/>
                      <a:pt x="233" y="505"/>
                    </a:cubicBezTo>
                    <a:cubicBezTo>
                      <a:pt x="283" y="551"/>
                      <a:pt x="342" y="575"/>
                      <a:pt x="398" y="587"/>
                    </a:cubicBezTo>
                    <a:cubicBezTo>
                      <a:pt x="454" y="599"/>
                      <a:pt x="512" y="597"/>
                      <a:pt x="570" y="580"/>
                    </a:cubicBezTo>
                    <a:cubicBezTo>
                      <a:pt x="628" y="563"/>
                      <a:pt x="701" y="523"/>
                      <a:pt x="748" y="486"/>
                    </a:cubicBezTo>
                    <a:cubicBezTo>
                      <a:pt x="795" y="449"/>
                      <a:pt x="826" y="398"/>
                      <a:pt x="853" y="357"/>
                    </a:cubicBezTo>
                    <a:cubicBezTo>
                      <a:pt x="880" y="316"/>
                      <a:pt x="893" y="276"/>
                      <a:pt x="908" y="239"/>
                    </a:cubicBezTo>
                    <a:cubicBezTo>
                      <a:pt x="923" y="202"/>
                      <a:pt x="934" y="169"/>
                      <a:pt x="945" y="134"/>
                    </a:cubicBezTo>
                    <a:cubicBezTo>
                      <a:pt x="956" y="99"/>
                      <a:pt x="969" y="51"/>
                      <a:pt x="975" y="29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85600">
                <a:off x="3412800" y="2367000"/>
                <a:ext cx="20160" cy="20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785600">
                <a:off x="3234960" y="2691720"/>
                <a:ext cx="17640" cy="15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785600">
                <a:off x="3720600" y="2560680"/>
                <a:ext cx="14040" cy="32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785600">
                <a:off x="3094200" y="2189520"/>
                <a:ext cx="13680" cy="162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785600">
                <a:off x="3597840" y="2051640"/>
                <a:ext cx="11520" cy="162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5064120" y="1197000"/>
            <a:ext cx="372600" cy="393840"/>
            <a:chOff x="5064120" y="1197000"/>
            <a:chExt cx="372600" cy="393840"/>
          </a:xfrm>
        </p:grpSpPr>
        <p:sp>
          <p:nvSpPr>
            <p:cNvPr id="953" name=""/>
            <p:cNvSpPr/>
            <p:nvPr/>
          </p:nvSpPr>
          <p:spPr>
            <a:xfrm>
              <a:off x="5259960" y="1197000"/>
              <a:ext cx="4680" cy="393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5079240" y="1387440"/>
              <a:ext cx="351720" cy="64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13680" y="1375920"/>
              <a:ext cx="360" cy="2145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98320" y="1200600"/>
              <a:ext cx="4320" cy="206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064120" y="1571040"/>
              <a:ext cx="206640" cy="7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5240880" y="1216080"/>
              <a:ext cx="195840" cy="7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4998960" y="2117880"/>
            <a:ext cx="546120" cy="519120"/>
            <a:chOff x="4998960" y="2117880"/>
            <a:chExt cx="546120" cy="519120"/>
          </a:xfrm>
        </p:grpSpPr>
        <p:sp>
          <p:nvSpPr>
            <p:cNvPr id="960" name=""/>
            <p:cNvSpPr/>
            <p:nvPr/>
          </p:nvSpPr>
          <p:spPr>
            <a:xfrm>
              <a:off x="4998960" y="2117880"/>
              <a:ext cx="546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279760" y="2193480"/>
              <a:ext cx="5760" cy="3780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103720" y="2376720"/>
              <a:ext cx="343440" cy="57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33480" y="2359080"/>
              <a:ext cx="720" cy="1976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17400" y="2201760"/>
              <a:ext cx="360" cy="1944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5121000" y="2556360"/>
              <a:ext cx="180720" cy="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5265720" y="2208600"/>
              <a:ext cx="164880" cy="3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6882480" y="1134720"/>
            <a:ext cx="601920" cy="601200"/>
            <a:chOff x="6882480" y="1134720"/>
            <a:chExt cx="601920" cy="601200"/>
          </a:xfrm>
        </p:grpSpPr>
        <p:sp>
          <p:nvSpPr>
            <p:cNvPr id="968" name=""/>
            <p:cNvSpPr/>
            <p:nvPr/>
          </p:nvSpPr>
          <p:spPr>
            <a:xfrm rot="2602800">
              <a:off x="6967440" y="1225440"/>
              <a:ext cx="431280" cy="419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317360" y="1292400"/>
              <a:ext cx="2880" cy="2822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050240" y="1574280"/>
              <a:ext cx="268560" cy="21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7041960" y="1292400"/>
              <a:ext cx="279360" cy="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50240" y="1284120"/>
              <a:ext cx="2880" cy="2926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005600" y="2133720"/>
            <a:ext cx="446040" cy="434520"/>
            <a:chOff x="7005600" y="2133720"/>
            <a:chExt cx="446040" cy="434520"/>
          </a:xfrm>
        </p:grpSpPr>
        <p:sp>
          <p:nvSpPr>
            <p:cNvPr id="974" name=""/>
            <p:cNvSpPr/>
            <p:nvPr/>
          </p:nvSpPr>
          <p:spPr>
            <a:xfrm>
              <a:off x="7008840" y="2136960"/>
              <a:ext cx="438480" cy="42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27360" y="2133720"/>
              <a:ext cx="7560" cy="72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27360" y="2561040"/>
              <a:ext cx="7560" cy="72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005600" y="2353320"/>
              <a:ext cx="7560" cy="72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444080" y="2354040"/>
              <a:ext cx="7560" cy="72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016760" y="2357280"/>
              <a:ext cx="425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30600" y="2142720"/>
              <a:ext cx="0" cy="4165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82840" y="3213000"/>
            <a:ext cx="15645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азовый портрет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556000" y="3249720"/>
            <a:ext cx="15112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рафик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Эволюцио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500720" y="3270240"/>
            <a:ext cx="15112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сновные символы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00720" y="3197160"/>
            <a:ext cx="19083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Хунаб Ку – Священный символ Майя и Астрономический кр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5" name="200px-Jewish_swastika" descr=""/>
          <p:cNvPicPr/>
          <p:nvPr/>
        </p:nvPicPr>
        <p:blipFill>
          <a:blip r:embed="rId1"/>
          <a:stretch/>
        </p:blipFill>
        <p:spPr>
          <a:xfrm>
            <a:off x="431640" y="4292640"/>
            <a:ext cx="2210040" cy="207000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3024360" y="4365720"/>
            <a:ext cx="586872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ббалистическая мандала со свастикой для медитаций о циклической природе и структуре Вселе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астик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еврейских букв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леф </a:t>
            </a:r>
            <a:r>
              <a:rPr b="1" lang="he-IL" sz="1200" spc="-1" strike="noStrike">
                <a:solidFill>
                  <a:srgbClr val="ffffff"/>
                </a:solidFill>
                <a:latin typeface="Arial"/>
              </a:rPr>
              <a:t>א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ш </a:t>
            </a:r>
            <a:r>
              <a:rPr b="1" lang="he-IL" sz="1200" spc="-1" strike="noStrike">
                <a:solidFill>
                  <a:srgbClr val="ffffff"/>
                </a:solidFill>
                <a:latin typeface="Arial"/>
              </a:rPr>
              <a:t>ר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каббалистическом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е 18-го столетия “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шат Элизе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” равви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изера Фишл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комментариях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на малопонятую древнюю эсхатологическую книгу “</a:t>
            </a:r>
            <a:r>
              <a:rPr b="1" lang="en" sz="1200" spc="-1" strike="noStrike">
                <a:solidFill>
                  <a:srgbClr val="ffffff"/>
                </a:solidFill>
                <a:latin typeface="Arial"/>
              </a:rPr>
              <a:t>Karnayim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”, авторство которой относят равви Ахарону из Кардины.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Симв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расположен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в круг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 окружен 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циклическим гимном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на арамейском язык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По книг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эта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ндала предназначена помочь мисту в созерцании циклической природы и структуры Вселенной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14200" y="189000"/>
            <a:ext cx="8750520" cy="655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86920" y="404640"/>
            <a:ext cx="73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8. Энергетические свойства спиралей пространства-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0920" y="907920"/>
            <a:ext cx="87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в физике, так и в эзотерике пространство и время представляют единое цело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о находит свое отражение и в энергетических свойствах спиралей, представляющ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ремя в пространст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503280" y="1989000"/>
            <a:ext cx="3709800" cy="1181160"/>
            <a:chOff x="503280" y="1989000"/>
            <a:chExt cx="3709800" cy="1181160"/>
          </a:xfrm>
        </p:grpSpPr>
        <p:grpSp>
          <p:nvGrpSpPr>
            <p:cNvPr id="993" name=""/>
            <p:cNvGrpSpPr/>
            <p:nvPr/>
          </p:nvGrpSpPr>
          <p:grpSpPr>
            <a:xfrm>
              <a:off x="503280" y="1989000"/>
              <a:ext cx="1191600" cy="1181160"/>
              <a:chOff x="503280" y="1989000"/>
              <a:chExt cx="1191600" cy="1181160"/>
            </a:xfrm>
          </p:grpSpPr>
          <p:sp>
            <p:nvSpPr>
              <p:cNvPr id="994" name=""/>
              <p:cNvSpPr/>
              <p:nvPr/>
            </p:nvSpPr>
            <p:spPr>
              <a:xfrm>
                <a:off x="503280" y="1989000"/>
                <a:ext cx="1191600" cy="118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23520" y="2305080"/>
                <a:ext cx="105840" cy="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18920" y="2198880"/>
                <a:ext cx="684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97" name=""/>
              <p:cNvGrpSpPr/>
              <p:nvPr/>
            </p:nvGrpSpPr>
            <p:grpSpPr>
              <a:xfrm>
                <a:off x="778680" y="2256840"/>
                <a:ext cx="602640" cy="627840"/>
                <a:chOff x="778680" y="2256840"/>
                <a:chExt cx="602640" cy="6278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838440" y="2295000"/>
                  <a:ext cx="537480" cy="537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101240" y="2557800"/>
                  <a:ext cx="11160" cy="11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109880" y="2354400"/>
                  <a:ext cx="25056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17266200">
                  <a:off x="917640" y="2304720"/>
                  <a:ext cx="249840" cy="20376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2924000">
                  <a:off x="814320" y="2476440"/>
                  <a:ext cx="24984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8598600">
                  <a:off x="945000" y="2626920"/>
                  <a:ext cx="25020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4395600">
                  <a:off x="1123200" y="2553480"/>
                  <a:ext cx="248760" cy="20412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349640" y="2474280"/>
                  <a:ext cx="14760" cy="1476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248840" y="2773800"/>
                  <a:ext cx="1476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45360" y="2773800"/>
                  <a:ext cx="1440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44560" y="2479680"/>
                  <a:ext cx="14760" cy="1440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094400" y="2288520"/>
                  <a:ext cx="14760" cy="1476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101240" y="2553120"/>
                  <a:ext cx="1476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1" name=""/>
            <p:cNvGrpSpPr/>
            <p:nvPr/>
          </p:nvGrpSpPr>
          <p:grpSpPr>
            <a:xfrm>
              <a:off x="3002040" y="1989000"/>
              <a:ext cx="1211040" cy="1181160"/>
              <a:chOff x="3002040" y="1989000"/>
              <a:chExt cx="1211040" cy="1181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02040" y="1989000"/>
                <a:ext cx="1191600" cy="118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4083840" y="2309040"/>
                <a:ext cx="44280" cy="8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>
                <a:off x="4128120" y="2300400"/>
                <a:ext cx="84960" cy="5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5" name=""/>
              <p:cNvGrpSpPr/>
              <p:nvPr/>
            </p:nvGrpSpPr>
            <p:grpSpPr>
              <a:xfrm>
                <a:off x="3288240" y="2257200"/>
                <a:ext cx="602640" cy="627840"/>
                <a:chOff x="3288240" y="2257200"/>
                <a:chExt cx="602640" cy="62784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3348000" y="2295360"/>
                  <a:ext cx="537120" cy="537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610440" y="2558160"/>
                  <a:ext cx="11160" cy="118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19440" y="2354760"/>
                  <a:ext cx="25020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17266200">
                  <a:off x="3427200" y="2305080"/>
                  <a:ext cx="249840" cy="20376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12924000">
                  <a:off x="3323880" y="2476440"/>
                  <a:ext cx="24948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rot="8598600">
                  <a:off x="3454560" y="2627280"/>
                  <a:ext cx="249840" cy="20304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rot="4395600">
                  <a:off x="3632760" y="2553840"/>
                  <a:ext cx="248760" cy="204120"/>
                </a:xfrm>
                <a:custGeom>
                  <a:avLst/>
                  <a:gdLst/>
                  <a:ahLst/>
                  <a:rect l="l" t="t" r="r" b="b"/>
                  <a:pathLst>
                    <a:path w="895" h="730">
                      <a:moveTo>
                        <a:pt x="895" y="460"/>
                      </a:moveTo>
                      <a:cubicBezTo>
                        <a:pt x="884" y="444"/>
                        <a:pt x="856" y="397"/>
                        <a:pt x="835" y="365"/>
                      </a:cubicBezTo>
                      <a:cubicBezTo>
                        <a:pt x="814" y="333"/>
                        <a:pt x="800" y="302"/>
                        <a:pt x="770" y="265"/>
                      </a:cubicBezTo>
                      <a:cubicBezTo>
                        <a:pt x="740" y="228"/>
                        <a:pt x="703" y="185"/>
                        <a:pt x="655" y="145"/>
                      </a:cubicBezTo>
                      <a:cubicBezTo>
                        <a:pt x="607" y="105"/>
                        <a:pt x="542" y="47"/>
                        <a:pt x="483" y="25"/>
                      </a:cubicBezTo>
                      <a:cubicBezTo>
                        <a:pt x="424" y="3"/>
                        <a:pt x="356" y="0"/>
                        <a:pt x="300" y="15"/>
                      </a:cubicBezTo>
                      <a:cubicBezTo>
                        <a:pt x="244" y="30"/>
                        <a:pt x="184" y="63"/>
                        <a:pt x="145" y="115"/>
                      </a:cubicBezTo>
                      <a:cubicBezTo>
                        <a:pt x="106" y="167"/>
                        <a:pt x="81" y="268"/>
                        <a:pt x="63" y="325"/>
                      </a:cubicBezTo>
                      <a:cubicBezTo>
                        <a:pt x="45" y="382"/>
                        <a:pt x="42" y="414"/>
                        <a:pt x="35" y="460"/>
                      </a:cubicBezTo>
                      <a:cubicBezTo>
                        <a:pt x="28" y="506"/>
                        <a:pt x="24" y="558"/>
                        <a:pt x="18" y="603"/>
                      </a:cubicBezTo>
                      <a:cubicBezTo>
                        <a:pt x="12" y="648"/>
                        <a:pt x="4" y="704"/>
                        <a:pt x="0" y="730"/>
                      </a:cubicBezTo>
                    </a:path>
                  </a:pathLst>
                </a:custGeom>
                <a:noFill/>
                <a:ln w="3816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858840" y="2474640"/>
                  <a:ext cx="14760" cy="1476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758400" y="2774160"/>
                  <a:ext cx="1476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454560" y="2774160"/>
                  <a:ext cx="1440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354120" y="2480040"/>
                  <a:ext cx="14760" cy="1440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03960" y="2288880"/>
                  <a:ext cx="14760" cy="1476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610440" y="2553480"/>
                  <a:ext cx="14760" cy="15120"/>
                </a:xfrm>
                <a:prstGeom prst="ellipse">
                  <a:avLst/>
                </a:prstGeom>
                <a:solidFill>
                  <a:srgbClr val="00ffff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"/>
            <p:cNvGrpSpPr/>
            <p:nvPr/>
          </p:nvGrpSpPr>
          <p:grpSpPr>
            <a:xfrm>
              <a:off x="2076840" y="2284200"/>
              <a:ext cx="601200" cy="628200"/>
              <a:chOff x="2076840" y="2284200"/>
              <a:chExt cx="601200" cy="628200"/>
            </a:xfrm>
          </p:grpSpPr>
          <p:sp>
            <p:nvSpPr>
              <p:cNvPr id="1030" name=""/>
              <p:cNvSpPr/>
              <p:nvPr/>
            </p:nvSpPr>
            <p:spPr>
              <a:xfrm>
                <a:off x="2135880" y="2322720"/>
                <a:ext cx="536040" cy="538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398320" y="2585880"/>
                <a:ext cx="11160" cy="1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06960" y="2382480"/>
                <a:ext cx="249840" cy="203400"/>
              </a:xfrm>
              <a:custGeom>
                <a:avLst/>
                <a:gdLst/>
                <a:ahLst/>
                <a:rect l="l" t="t" r="r" b="b"/>
                <a:pathLst>
                  <a:path w="895" h="730">
                    <a:moveTo>
                      <a:pt x="895" y="460"/>
                    </a:moveTo>
                    <a:cubicBezTo>
                      <a:pt x="884" y="444"/>
                      <a:pt x="856" y="397"/>
                      <a:pt x="835" y="365"/>
                    </a:cubicBezTo>
                    <a:cubicBezTo>
                      <a:pt x="814" y="333"/>
                      <a:pt x="800" y="302"/>
                      <a:pt x="770" y="265"/>
                    </a:cubicBezTo>
                    <a:cubicBezTo>
                      <a:pt x="740" y="228"/>
                      <a:pt x="703" y="185"/>
                      <a:pt x="655" y="145"/>
                    </a:cubicBezTo>
                    <a:cubicBezTo>
                      <a:pt x="607" y="105"/>
                      <a:pt x="542" y="47"/>
                      <a:pt x="483" y="25"/>
                    </a:cubicBezTo>
                    <a:cubicBezTo>
                      <a:pt x="424" y="3"/>
                      <a:pt x="356" y="0"/>
                      <a:pt x="300" y="15"/>
                    </a:cubicBezTo>
                    <a:cubicBezTo>
                      <a:pt x="244" y="30"/>
                      <a:pt x="184" y="63"/>
                      <a:pt x="145" y="115"/>
                    </a:cubicBezTo>
                    <a:cubicBezTo>
                      <a:pt x="106" y="167"/>
                      <a:pt x="81" y="268"/>
                      <a:pt x="63" y="325"/>
                    </a:cubicBezTo>
                    <a:cubicBezTo>
                      <a:pt x="45" y="382"/>
                      <a:pt x="42" y="414"/>
                      <a:pt x="35" y="460"/>
                    </a:cubicBezTo>
                    <a:cubicBezTo>
                      <a:pt x="28" y="506"/>
                      <a:pt x="24" y="558"/>
                      <a:pt x="18" y="603"/>
                    </a:cubicBezTo>
                    <a:cubicBezTo>
                      <a:pt x="12" y="648"/>
                      <a:pt x="4" y="704"/>
                      <a:pt x="0" y="73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7266200">
                <a:off x="2215080" y="2332440"/>
                <a:ext cx="250200" cy="203400"/>
              </a:xfrm>
              <a:custGeom>
                <a:avLst/>
                <a:gdLst/>
                <a:ahLst/>
                <a:rect l="l" t="t" r="r" b="b"/>
                <a:pathLst>
                  <a:path w="895" h="730">
                    <a:moveTo>
                      <a:pt x="895" y="460"/>
                    </a:moveTo>
                    <a:cubicBezTo>
                      <a:pt x="884" y="444"/>
                      <a:pt x="856" y="397"/>
                      <a:pt x="835" y="365"/>
                    </a:cubicBezTo>
                    <a:cubicBezTo>
                      <a:pt x="814" y="333"/>
                      <a:pt x="800" y="302"/>
                      <a:pt x="770" y="265"/>
                    </a:cubicBezTo>
                    <a:cubicBezTo>
                      <a:pt x="740" y="228"/>
                      <a:pt x="703" y="185"/>
                      <a:pt x="655" y="145"/>
                    </a:cubicBezTo>
                    <a:cubicBezTo>
                      <a:pt x="607" y="105"/>
                      <a:pt x="542" y="47"/>
                      <a:pt x="483" y="25"/>
                    </a:cubicBezTo>
                    <a:cubicBezTo>
                      <a:pt x="424" y="3"/>
                      <a:pt x="356" y="0"/>
                      <a:pt x="300" y="15"/>
                    </a:cubicBezTo>
                    <a:cubicBezTo>
                      <a:pt x="244" y="30"/>
                      <a:pt x="184" y="63"/>
                      <a:pt x="145" y="115"/>
                    </a:cubicBezTo>
                    <a:cubicBezTo>
                      <a:pt x="106" y="167"/>
                      <a:pt x="81" y="268"/>
                      <a:pt x="63" y="325"/>
                    </a:cubicBezTo>
                    <a:cubicBezTo>
                      <a:pt x="45" y="382"/>
                      <a:pt x="42" y="414"/>
                      <a:pt x="35" y="460"/>
                    </a:cubicBezTo>
                    <a:cubicBezTo>
                      <a:pt x="28" y="506"/>
                      <a:pt x="24" y="558"/>
                      <a:pt x="18" y="603"/>
                    </a:cubicBezTo>
                    <a:cubicBezTo>
                      <a:pt x="12" y="648"/>
                      <a:pt x="4" y="704"/>
                      <a:pt x="0" y="73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2924000">
                <a:off x="2112480" y="2503440"/>
                <a:ext cx="249120" cy="203400"/>
              </a:xfrm>
              <a:custGeom>
                <a:avLst/>
                <a:gdLst/>
                <a:ahLst/>
                <a:rect l="l" t="t" r="r" b="b"/>
                <a:pathLst>
                  <a:path w="895" h="730">
                    <a:moveTo>
                      <a:pt x="895" y="460"/>
                    </a:moveTo>
                    <a:cubicBezTo>
                      <a:pt x="884" y="444"/>
                      <a:pt x="856" y="397"/>
                      <a:pt x="835" y="365"/>
                    </a:cubicBezTo>
                    <a:cubicBezTo>
                      <a:pt x="814" y="333"/>
                      <a:pt x="800" y="302"/>
                      <a:pt x="770" y="265"/>
                    </a:cubicBezTo>
                    <a:cubicBezTo>
                      <a:pt x="740" y="228"/>
                      <a:pt x="703" y="185"/>
                      <a:pt x="655" y="145"/>
                    </a:cubicBezTo>
                    <a:cubicBezTo>
                      <a:pt x="607" y="105"/>
                      <a:pt x="542" y="47"/>
                      <a:pt x="483" y="25"/>
                    </a:cubicBezTo>
                    <a:cubicBezTo>
                      <a:pt x="424" y="3"/>
                      <a:pt x="356" y="0"/>
                      <a:pt x="300" y="15"/>
                    </a:cubicBezTo>
                    <a:cubicBezTo>
                      <a:pt x="244" y="30"/>
                      <a:pt x="184" y="63"/>
                      <a:pt x="145" y="115"/>
                    </a:cubicBezTo>
                    <a:cubicBezTo>
                      <a:pt x="106" y="167"/>
                      <a:pt x="81" y="268"/>
                      <a:pt x="63" y="325"/>
                    </a:cubicBezTo>
                    <a:cubicBezTo>
                      <a:pt x="45" y="382"/>
                      <a:pt x="42" y="414"/>
                      <a:pt x="35" y="460"/>
                    </a:cubicBezTo>
                    <a:cubicBezTo>
                      <a:pt x="28" y="506"/>
                      <a:pt x="24" y="558"/>
                      <a:pt x="18" y="603"/>
                    </a:cubicBezTo>
                    <a:cubicBezTo>
                      <a:pt x="12" y="648"/>
                      <a:pt x="4" y="704"/>
                      <a:pt x="0" y="73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8598600">
                <a:off x="2242080" y="2654280"/>
                <a:ext cx="249480" cy="203400"/>
              </a:xfrm>
              <a:custGeom>
                <a:avLst/>
                <a:gdLst/>
                <a:ahLst/>
                <a:rect l="l" t="t" r="r" b="b"/>
                <a:pathLst>
                  <a:path w="895" h="730">
                    <a:moveTo>
                      <a:pt x="895" y="460"/>
                    </a:moveTo>
                    <a:cubicBezTo>
                      <a:pt x="884" y="444"/>
                      <a:pt x="856" y="397"/>
                      <a:pt x="835" y="365"/>
                    </a:cubicBezTo>
                    <a:cubicBezTo>
                      <a:pt x="814" y="333"/>
                      <a:pt x="800" y="302"/>
                      <a:pt x="770" y="265"/>
                    </a:cubicBezTo>
                    <a:cubicBezTo>
                      <a:pt x="740" y="228"/>
                      <a:pt x="703" y="185"/>
                      <a:pt x="655" y="145"/>
                    </a:cubicBezTo>
                    <a:cubicBezTo>
                      <a:pt x="607" y="105"/>
                      <a:pt x="542" y="47"/>
                      <a:pt x="483" y="25"/>
                    </a:cubicBezTo>
                    <a:cubicBezTo>
                      <a:pt x="424" y="3"/>
                      <a:pt x="356" y="0"/>
                      <a:pt x="300" y="15"/>
                    </a:cubicBezTo>
                    <a:cubicBezTo>
                      <a:pt x="244" y="30"/>
                      <a:pt x="184" y="63"/>
                      <a:pt x="145" y="115"/>
                    </a:cubicBezTo>
                    <a:cubicBezTo>
                      <a:pt x="106" y="167"/>
                      <a:pt x="81" y="268"/>
                      <a:pt x="63" y="325"/>
                    </a:cubicBezTo>
                    <a:cubicBezTo>
                      <a:pt x="45" y="382"/>
                      <a:pt x="42" y="414"/>
                      <a:pt x="35" y="460"/>
                    </a:cubicBezTo>
                    <a:cubicBezTo>
                      <a:pt x="28" y="506"/>
                      <a:pt x="24" y="558"/>
                      <a:pt x="18" y="603"/>
                    </a:cubicBezTo>
                    <a:cubicBezTo>
                      <a:pt x="12" y="648"/>
                      <a:pt x="4" y="704"/>
                      <a:pt x="0" y="73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4395600">
                <a:off x="2419920" y="2581560"/>
                <a:ext cx="249120" cy="203760"/>
              </a:xfrm>
              <a:custGeom>
                <a:avLst/>
                <a:gdLst/>
                <a:ahLst/>
                <a:rect l="l" t="t" r="r" b="b"/>
                <a:pathLst>
                  <a:path w="895" h="730">
                    <a:moveTo>
                      <a:pt x="895" y="460"/>
                    </a:moveTo>
                    <a:cubicBezTo>
                      <a:pt x="884" y="444"/>
                      <a:pt x="856" y="397"/>
                      <a:pt x="835" y="365"/>
                    </a:cubicBezTo>
                    <a:cubicBezTo>
                      <a:pt x="814" y="333"/>
                      <a:pt x="800" y="302"/>
                      <a:pt x="770" y="265"/>
                    </a:cubicBezTo>
                    <a:cubicBezTo>
                      <a:pt x="740" y="228"/>
                      <a:pt x="703" y="185"/>
                      <a:pt x="655" y="145"/>
                    </a:cubicBezTo>
                    <a:cubicBezTo>
                      <a:pt x="607" y="105"/>
                      <a:pt x="542" y="47"/>
                      <a:pt x="483" y="25"/>
                    </a:cubicBezTo>
                    <a:cubicBezTo>
                      <a:pt x="424" y="3"/>
                      <a:pt x="356" y="0"/>
                      <a:pt x="300" y="15"/>
                    </a:cubicBezTo>
                    <a:cubicBezTo>
                      <a:pt x="244" y="30"/>
                      <a:pt x="184" y="63"/>
                      <a:pt x="145" y="115"/>
                    </a:cubicBezTo>
                    <a:cubicBezTo>
                      <a:pt x="106" y="167"/>
                      <a:pt x="81" y="268"/>
                      <a:pt x="63" y="325"/>
                    </a:cubicBezTo>
                    <a:cubicBezTo>
                      <a:pt x="45" y="382"/>
                      <a:pt x="42" y="414"/>
                      <a:pt x="35" y="460"/>
                    </a:cubicBezTo>
                    <a:cubicBezTo>
                      <a:pt x="28" y="506"/>
                      <a:pt x="24" y="558"/>
                      <a:pt x="18" y="603"/>
                    </a:cubicBezTo>
                    <a:cubicBezTo>
                      <a:pt x="12" y="648"/>
                      <a:pt x="4" y="704"/>
                      <a:pt x="0" y="730"/>
                    </a:cubicBezTo>
                  </a:path>
                </a:pathLst>
              </a:custGeom>
              <a:noFill/>
              <a:ln w="38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646000" y="2502360"/>
                <a:ext cx="14760" cy="147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545560" y="2801880"/>
                <a:ext cx="14760" cy="15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242800" y="2801880"/>
                <a:ext cx="14400" cy="15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42360" y="2507400"/>
                <a:ext cx="14760" cy="144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391480" y="2316240"/>
                <a:ext cx="14760" cy="147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398320" y="2581200"/>
                <a:ext cx="14760" cy="15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3" name=""/>
          <p:cNvSpPr/>
          <p:nvPr/>
        </p:nvSpPr>
        <p:spPr>
          <a:xfrm>
            <a:off x="455040" y="3213000"/>
            <a:ext cx="415224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)                           б)                         в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ЯТИЛУЧЕВАЯ СПИРАЛЬ В КАЧЕСТ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МЕРА СПИРАЛЬНОЙ МАНДАЛ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Если сконцентрировать внимание на спирали (б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представить,  что  она  вращается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по  час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стрелк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,  то  в  восприятии оператора </a:t>
            </a:r>
            <a:r>
              <a:rPr b="1" i="1" lang="en-US" sz="1200" spc="-1" strike="noStrike">
                <a:solidFill>
                  <a:srgbClr val="0033cc"/>
                </a:solidFill>
                <a:latin typeface="Arial"/>
              </a:rPr>
              <a:t>врем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разно  говоря,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концентрируется  в центре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cc"/>
                </a:solidFill>
                <a:latin typeface="Arial"/>
              </a:rPr>
              <a:t>ускоряется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Наоборот,  если  сконцентрирова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нимание на спирали  (б) и представить, что 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ащается   против  часовой  стрелки  (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,  то  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осприятии оператора   время,  образно  говор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пределяется по периферии мандалы. В э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лучае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усиливается восприятие пространств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ходный  эффект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можно получить в целях снят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нформации с объекта, используя вместо спира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банку с вод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424840" y="4883040"/>
            <a:ext cx="3399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МЕННЫЕ ЛАБИРИНТЫ КАРЕЛИИ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ладают теми же свойствам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зменения восприят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странства-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выхода в тонкие пл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5219640" y="1924200"/>
            <a:ext cx="363852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60280"/>
            <a:ext cx="8605800" cy="633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.2. НАУЧНЫЙ ПОДХО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аучный метод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окупность способов получения новых знаний и методов решения задач в рамках любой наук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оторый предусматривает построение теории и ее верификацию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ля объяснения наблюдаемых фактов выдвигаютс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гипотез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аксиом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, на основе котор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помощью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огических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уждений строятс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теор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одел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ории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ерифицируютс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экспериментом или наблюд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ипы моделей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атематическая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ММ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истем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принятых математически состоятельных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аксиом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 которых,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нове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двоично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логик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да/нет) получают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теорем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т.е. математические свойства систем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 принята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процесса или явления с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эмпирически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значения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араметро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зотерическая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истем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ербальных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словесных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описаний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процесса или яв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стрологическая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– принятая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М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явления с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вербальны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эмпирическим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араметр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нтез астрологических, естественнонаучных и эзотерических концепций при построении модел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ля количественного  и  качественного  описания  космических  циклов  и  их  точек  бифуркац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е противоречит научному подходу, если мы следуем его логи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ратим внимание, что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Е.П. Блаватская призывае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к тому же: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принимать Учение “на веру”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 подходить критически к сообщаемым положениям и, по возможности, соотносить  их  с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анными  науки,  что,  собственно,  сама она  и делала при написании своих работ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 этом говорит и выбранный ею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эпиграф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на книгах Тайной Доктрины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“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Нет религии выше Истин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8748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2484360" y="5229360"/>
            <a:ext cx="644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БЛАГОДАРЮ ЗА ВНИМ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ДО НОВЫХ ВСТРЕЧ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39280" y="2313000"/>
            <a:ext cx="8037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Докладчик выражает глубокую признатель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проф. Рубану И.В. – за содействие исследования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79"/>
                </a:solidFill>
                <a:latin typeface="Arial"/>
              </a:rPr>
              <a:t>Web-</a:t>
            </a: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мастеру В. Пудову – за поддержание сайта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Яну Викеринку (</a:t>
            </a:r>
            <a:r>
              <a:rPr b="1" lang="ru-RU" sz="2400" spc="-1" strike="noStrike" u="sng">
                <a:solidFill>
                  <a:srgbClr val="ffff79"/>
                </a:solidFill>
                <a:uFillTx/>
                <a:latin typeface="Arial"/>
              </a:rPr>
              <a:t>http://www.soulsofdistortion.nl</a:t>
            </a: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/ 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79"/>
                </a:solidFill>
                <a:latin typeface="Arial"/>
              </a:rPr>
              <a:t>за плодотворные диску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60280"/>
            <a:ext cx="8605800" cy="633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.3. СИНТЕЗ НОВЫХ АСТРОЛОГИЧЕСКИХ МОДЕЛ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ипотезы 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ез введен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вых гипотез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ксио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невозможно изучать феномены, для которых отсутствуют М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и без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ерификац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верк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полученных моделей и основанных на них выводов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Источники гипотез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изическ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в широком смысле)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анны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о Космосе и Земл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временные данны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о событиях и процессах в социум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стрологическ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нцепц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спользуемые в современную эпох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зотерическ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нцепц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ртефакты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Старого и Нового Све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Цель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лучить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личественн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чественн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более широкого класс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точников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лияни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смос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в явлениях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циклическог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порадического характер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Верификация моделей и вывод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изводится сравнением их свойств и прогнозов с соответствующими объектами: социаль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нозы сравниваются с развитием событий в социуме, геофизические – с явлениями клима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емлетрясениями и т.д.; эзотерические – не должны противоречить эзотерическим концепци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доби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как вверху, так и внизу. Частные модели отражают свойства общих, и наобор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налогии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реемственност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: новые модели должны коррелировать с существующи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езонанс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инхронизм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: вероятность появления события и его размах тем выше, чем больш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х факторов влияния благоприятствуют его появлению в одно и то же врем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200" y="260280"/>
            <a:ext cx="8605800" cy="6337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41360"/>
            <a:ext cx="802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1. ВЕЛИКОЕ НЕБЕСНОЕ СОЕД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http://astrotheos.com/Page8.htm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Астрономический крест и свастика как символы Кардинального креста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9280" y="1376280"/>
            <a:ext cx="4536360" cy="3688920"/>
            <a:chOff x="359280" y="1376280"/>
            <a:chExt cx="4536360" cy="3688920"/>
          </a:xfrm>
        </p:grpSpPr>
        <p:grpSp>
          <p:nvGrpSpPr>
            <p:cNvPr id="137" name=""/>
            <p:cNvGrpSpPr/>
            <p:nvPr/>
          </p:nvGrpSpPr>
          <p:grpSpPr>
            <a:xfrm>
              <a:off x="359280" y="1376280"/>
              <a:ext cx="4536360" cy="3688920"/>
              <a:chOff x="359280" y="1376280"/>
              <a:chExt cx="4536360" cy="36889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040" y="2122200"/>
                <a:ext cx="2315520" cy="25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829160" y="3944160"/>
                <a:ext cx="104472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Эклиптик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2600" y="1986480"/>
                <a:ext cx="1515240" cy="51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Arial"/>
                  </a:rPr>
                  <a:t>Северный полюс эклиптики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15200" y="2149200"/>
                <a:ext cx="230400" cy="24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r>
                  <a:rPr b="1" lang="en-GB" sz="1200" spc="-1" strike="noStrike" baseline="-25000">
                    <a:solidFill>
                      <a:srgbClr val="0000ff"/>
                    </a:solidFill>
                    <a:latin typeface="Arial"/>
                  </a:rPr>
                  <a:t>E</a:t>
                </a: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48080" y="2095200"/>
                <a:ext cx="174600" cy="19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 </a:t>
                </a:r>
                <a:r>
                  <a:rPr b="1" lang="en-GB" sz="1200" spc="-1" strike="noStrike">
                    <a:solidFill>
                      <a:srgbClr val="800080"/>
                    </a:solidFill>
                    <a:latin typeface="Arial"/>
                  </a:rPr>
                  <a:t>P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42840" y="1796760"/>
                <a:ext cx="155556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80"/>
                    </a:solidFill>
                    <a:latin typeface="Arial"/>
                  </a:rPr>
                  <a:t>Северный полюс экватор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18600" y="3664080"/>
                <a:ext cx="845640" cy="19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80"/>
                    </a:solidFill>
                    <a:latin typeface="Arial"/>
                  </a:rPr>
                  <a:t>Эквато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30080" y="3318840"/>
                <a:ext cx="2069280" cy="349560"/>
              </a:xfrm>
              <a:custGeom>
                <a:avLst/>
                <a:gdLst/>
                <a:ahLst/>
                <a:rect l="l" t="t" r="r" b="b"/>
                <a:pathLst>
                  <a:path w="2745" h="464">
                    <a:moveTo>
                      <a:pt x="0" y="182"/>
                    </a:moveTo>
                    <a:cubicBezTo>
                      <a:pt x="29" y="221"/>
                      <a:pt x="58" y="261"/>
                      <a:pt x="114" y="296"/>
                    </a:cubicBezTo>
                    <a:cubicBezTo>
                      <a:pt x="170" y="331"/>
                      <a:pt x="271" y="371"/>
                      <a:pt x="336" y="392"/>
                    </a:cubicBezTo>
                    <a:cubicBezTo>
                      <a:pt x="401" y="413"/>
                      <a:pt x="444" y="413"/>
                      <a:pt x="504" y="422"/>
                    </a:cubicBezTo>
                    <a:cubicBezTo>
                      <a:pt x="564" y="431"/>
                      <a:pt x="627" y="439"/>
                      <a:pt x="699" y="444"/>
                    </a:cubicBezTo>
                    <a:cubicBezTo>
                      <a:pt x="771" y="449"/>
                      <a:pt x="853" y="449"/>
                      <a:pt x="936" y="452"/>
                    </a:cubicBezTo>
                    <a:cubicBezTo>
                      <a:pt x="1019" y="455"/>
                      <a:pt x="1123" y="464"/>
                      <a:pt x="1200" y="464"/>
                    </a:cubicBezTo>
                    <a:cubicBezTo>
                      <a:pt x="1277" y="464"/>
                      <a:pt x="1323" y="454"/>
                      <a:pt x="1398" y="452"/>
                    </a:cubicBezTo>
                    <a:cubicBezTo>
                      <a:pt x="1473" y="450"/>
                      <a:pt x="1577" y="455"/>
                      <a:pt x="1650" y="452"/>
                    </a:cubicBezTo>
                    <a:cubicBezTo>
                      <a:pt x="1723" y="449"/>
                      <a:pt x="1778" y="443"/>
                      <a:pt x="1839" y="434"/>
                    </a:cubicBezTo>
                    <a:cubicBezTo>
                      <a:pt x="1900" y="425"/>
                      <a:pt x="1951" y="414"/>
                      <a:pt x="2015" y="400"/>
                    </a:cubicBezTo>
                    <a:cubicBezTo>
                      <a:pt x="2079" y="386"/>
                      <a:pt x="2162" y="367"/>
                      <a:pt x="2225" y="350"/>
                    </a:cubicBezTo>
                    <a:cubicBezTo>
                      <a:pt x="2288" y="333"/>
                      <a:pt x="2340" y="320"/>
                      <a:pt x="2395" y="300"/>
                    </a:cubicBezTo>
                    <a:cubicBezTo>
                      <a:pt x="2450" y="280"/>
                      <a:pt x="2505" y="260"/>
                      <a:pt x="2555" y="230"/>
                    </a:cubicBezTo>
                    <a:cubicBezTo>
                      <a:pt x="2605" y="200"/>
                      <a:pt x="2663" y="158"/>
                      <a:pt x="2695" y="120"/>
                    </a:cubicBezTo>
                    <a:cubicBezTo>
                      <a:pt x="2727" y="82"/>
                      <a:pt x="2735" y="25"/>
                      <a:pt x="2745" y="0"/>
                    </a:cubicBezTo>
                  </a:path>
                </a:pathLst>
              </a:custGeom>
              <a:noFill/>
              <a:ln w="1908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725120" y="2854440"/>
                <a:ext cx="1822320" cy="1062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42840" y="2619360"/>
                <a:ext cx="275760" cy="21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GB" sz="11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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40000" y="3871800"/>
                <a:ext cx="253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GB" sz="11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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29160" y="3691080"/>
                <a:ext cx="266760" cy="18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9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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12360" y="2814120"/>
                <a:ext cx="2170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en-GB" sz="11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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55240" y="3252600"/>
                <a:ext cx="985680" cy="21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800080"/>
                    </a:solidFill>
                    <a:latin typeface="Arial"/>
                  </a:rPr>
                  <a:t>R.A.= 6 h (90°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8000" y="3293280"/>
                <a:ext cx="93168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800080"/>
                    </a:solidFill>
                    <a:latin typeface="Arial"/>
                  </a:rPr>
                  <a:t>R.A.= 18 h  (270°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50280" y="2588040"/>
                <a:ext cx="723600" cy="19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λ = 9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3720" y="3917160"/>
                <a:ext cx="682920" cy="20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Times New Roman"/>
                  </a:rPr>
                  <a:t>λ = 27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07400" y="1629360"/>
                <a:ext cx="248400" cy="280080"/>
              </a:xfrm>
              <a:prstGeom prst="su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42200" y="1376280"/>
                <a:ext cx="1487880" cy="20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0080"/>
                    </a:solidFill>
                    <a:latin typeface="Arial"/>
                  </a:rPr>
                  <a:t>Полярная звезда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46720" y="2828880"/>
                <a:ext cx="1823400" cy="1126440"/>
              </a:xfrm>
              <a:custGeom>
                <a:avLst/>
                <a:gdLst/>
                <a:ahLst/>
                <a:rect l="l" t="t" r="r" b="b"/>
                <a:pathLst>
                  <a:path w="2419" h="1495">
                    <a:moveTo>
                      <a:pt x="0" y="1450"/>
                    </a:moveTo>
                    <a:cubicBezTo>
                      <a:pt x="32" y="1457"/>
                      <a:pt x="125" y="1485"/>
                      <a:pt x="190" y="1490"/>
                    </a:cubicBezTo>
                    <a:cubicBezTo>
                      <a:pt x="255" y="1495"/>
                      <a:pt x="320" y="1490"/>
                      <a:pt x="390" y="1480"/>
                    </a:cubicBezTo>
                    <a:cubicBezTo>
                      <a:pt x="460" y="1470"/>
                      <a:pt x="540" y="1453"/>
                      <a:pt x="610" y="1430"/>
                    </a:cubicBezTo>
                    <a:cubicBezTo>
                      <a:pt x="680" y="1407"/>
                      <a:pt x="740" y="1374"/>
                      <a:pt x="810" y="1340"/>
                    </a:cubicBezTo>
                    <a:cubicBezTo>
                      <a:pt x="880" y="1306"/>
                      <a:pt x="950" y="1273"/>
                      <a:pt x="1033" y="1228"/>
                    </a:cubicBezTo>
                    <a:cubicBezTo>
                      <a:pt x="1116" y="1183"/>
                      <a:pt x="1216" y="1123"/>
                      <a:pt x="1310" y="1070"/>
                    </a:cubicBezTo>
                    <a:cubicBezTo>
                      <a:pt x="1404" y="1017"/>
                      <a:pt x="1497" y="978"/>
                      <a:pt x="1600" y="910"/>
                    </a:cubicBezTo>
                    <a:cubicBezTo>
                      <a:pt x="1703" y="842"/>
                      <a:pt x="1830" y="738"/>
                      <a:pt x="1930" y="660"/>
                    </a:cubicBezTo>
                    <a:cubicBezTo>
                      <a:pt x="2030" y="582"/>
                      <a:pt x="2130" y="501"/>
                      <a:pt x="2200" y="440"/>
                    </a:cubicBezTo>
                    <a:cubicBezTo>
                      <a:pt x="2270" y="379"/>
                      <a:pt x="2312" y="342"/>
                      <a:pt x="2347" y="292"/>
                    </a:cubicBezTo>
                    <a:cubicBezTo>
                      <a:pt x="2382" y="242"/>
                      <a:pt x="2401" y="189"/>
                      <a:pt x="2410" y="140"/>
                    </a:cubicBezTo>
                    <a:cubicBezTo>
                      <a:pt x="2419" y="91"/>
                      <a:pt x="2402" y="29"/>
                      <a:pt x="2400" y="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8120" y="3094200"/>
                <a:ext cx="140040" cy="5241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11800" y="2823120"/>
                <a:ext cx="54000" cy="54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10800" y="3618720"/>
                <a:ext cx="54360" cy="54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66440" y="3089880"/>
                <a:ext cx="54000" cy="54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25120" y="3890160"/>
                <a:ext cx="54000" cy="54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9200" y="3283920"/>
                <a:ext cx="54000" cy="54000"/>
              </a:xfrm>
              <a:prstGeom prst="ellipse">
                <a:avLst/>
              </a:prstGeom>
              <a:solidFill>
                <a:srgbClr val="80008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9400" y="3419640"/>
                <a:ext cx="54000" cy="54000"/>
              </a:xfrm>
              <a:prstGeom prst="ellipse">
                <a:avLst/>
              </a:prstGeom>
              <a:solidFill>
                <a:srgbClr val="80008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39160" y="2812320"/>
                <a:ext cx="1786320" cy="1071360"/>
              </a:xfrm>
              <a:custGeom>
                <a:avLst/>
                <a:gdLst/>
                <a:ahLst/>
                <a:rect l="l" t="t" r="r" b="b"/>
                <a:pathLst>
                  <a:path w="2370" h="1422">
                    <a:moveTo>
                      <a:pt x="2370" y="32"/>
                    </a:moveTo>
                    <a:cubicBezTo>
                      <a:pt x="2338" y="27"/>
                      <a:pt x="2253" y="4"/>
                      <a:pt x="2190" y="2"/>
                    </a:cubicBezTo>
                    <a:cubicBezTo>
                      <a:pt x="2127" y="0"/>
                      <a:pt x="2062" y="7"/>
                      <a:pt x="1993" y="18"/>
                    </a:cubicBezTo>
                    <a:cubicBezTo>
                      <a:pt x="1924" y="29"/>
                      <a:pt x="1843" y="45"/>
                      <a:pt x="1773" y="68"/>
                    </a:cubicBezTo>
                    <a:cubicBezTo>
                      <a:pt x="1703" y="91"/>
                      <a:pt x="1643" y="124"/>
                      <a:pt x="1573" y="158"/>
                    </a:cubicBezTo>
                    <a:cubicBezTo>
                      <a:pt x="1503" y="192"/>
                      <a:pt x="1433" y="225"/>
                      <a:pt x="1350" y="270"/>
                    </a:cubicBezTo>
                    <a:cubicBezTo>
                      <a:pt x="1267" y="315"/>
                      <a:pt x="1167" y="375"/>
                      <a:pt x="1073" y="428"/>
                    </a:cubicBezTo>
                    <a:cubicBezTo>
                      <a:pt x="979" y="481"/>
                      <a:pt x="886" y="520"/>
                      <a:pt x="783" y="588"/>
                    </a:cubicBezTo>
                    <a:cubicBezTo>
                      <a:pt x="679" y="656"/>
                      <a:pt x="552" y="760"/>
                      <a:pt x="452" y="838"/>
                    </a:cubicBezTo>
                    <a:cubicBezTo>
                      <a:pt x="352" y="916"/>
                      <a:pt x="247" y="994"/>
                      <a:pt x="182" y="1058"/>
                    </a:cubicBezTo>
                    <a:cubicBezTo>
                      <a:pt x="117" y="1122"/>
                      <a:pt x="87" y="1181"/>
                      <a:pt x="60" y="1222"/>
                    </a:cubicBezTo>
                    <a:cubicBezTo>
                      <a:pt x="33" y="1263"/>
                      <a:pt x="30" y="1269"/>
                      <a:pt x="20" y="1302"/>
                    </a:cubicBezTo>
                    <a:cubicBezTo>
                      <a:pt x="10" y="1335"/>
                      <a:pt x="4" y="1397"/>
                      <a:pt x="0" y="1422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66440" y="3080880"/>
                <a:ext cx="54000" cy="54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195000" y="4392000"/>
                <a:ext cx="27576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8360" y="4572720"/>
                <a:ext cx="3934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5120" y="4459680"/>
                <a:ext cx="198720" cy="14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9280" y="4577040"/>
                <a:ext cx="4536360" cy="48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Рис. 1. Равноденствия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0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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, </a:t>
                </a:r>
                <a:r>
                  <a:rPr b="0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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и Солнцестояния (</a:t>
                </a:r>
                <a:r>
                  <a:rPr b="0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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,</a:t>
                </a:r>
                <a:r>
                  <a:rPr b="0" lang="en-US" sz="10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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в эклиптической системе координат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024520" y="1862280"/>
            <a:ext cx="3650760" cy="3082320"/>
            <a:chOff x="5024520" y="1862280"/>
            <a:chExt cx="3650760" cy="3082320"/>
          </a:xfrm>
        </p:grpSpPr>
        <p:grpSp>
          <p:nvGrpSpPr>
            <p:cNvPr id="172" name=""/>
            <p:cNvGrpSpPr/>
            <p:nvPr/>
          </p:nvGrpSpPr>
          <p:grpSpPr>
            <a:xfrm>
              <a:off x="5024520" y="1862280"/>
              <a:ext cx="3650760" cy="3082320"/>
              <a:chOff x="5024520" y="1862280"/>
              <a:chExt cx="3650760" cy="3082320"/>
            </a:xfrm>
          </p:grpSpPr>
          <p:sp>
            <p:nvSpPr>
              <p:cNvPr id="173" name=""/>
              <p:cNvSpPr/>
              <p:nvPr/>
            </p:nvSpPr>
            <p:spPr>
              <a:xfrm>
                <a:off x="5363640" y="3390120"/>
                <a:ext cx="750600" cy="21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0° </a:t>
                </a:r>
                <a:r>
                  <a:rPr b="1" lang="en-GB" sz="900" spc="-1" strike="noStrike">
                    <a:solidFill>
                      <a:srgbClr val="000080"/>
                    </a:solidFill>
                    <a:latin typeface="Wingdings"/>
                    <a:ea typeface="Wingdings"/>
                  </a:rPr>
                  <a:t></a:t>
                </a: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 = 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6360" y="2007000"/>
                <a:ext cx="1348920" cy="23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Axis of Solstic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50400" y="3980880"/>
                <a:ext cx="1345320" cy="22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Axis of Equinoxe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23080" y="3378960"/>
                <a:ext cx="826920" cy="19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0° </a:t>
                </a:r>
                <a:r>
                  <a:rPr b="1" lang="en-GB" sz="1200" spc="-1" strike="noStrike">
                    <a:solidFill>
                      <a:srgbClr val="000080"/>
                    </a:solidFill>
                    <a:latin typeface="Wingdings"/>
                    <a:ea typeface="Wingdings"/>
                  </a:rPr>
                  <a:t></a:t>
                </a: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 =</a:t>
                </a:r>
                <a:r>
                  <a:rPr b="1" lang="ru-RU" sz="1200" spc="-1" strike="noStrike">
                    <a:solidFill>
                      <a:srgbClr val="000080"/>
                    </a:solidFill>
                    <a:latin typeface="Arial"/>
                  </a:rPr>
                  <a:t>1</a:t>
                </a: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8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17160" y="2567160"/>
                <a:ext cx="670680" cy="19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Eclipti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0120" y="2338560"/>
                <a:ext cx="1646280" cy="1645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88600" y="3192120"/>
                <a:ext cx="1646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815880" y="2346120"/>
                <a:ext cx="28800" cy="1647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91240" y="3123360"/>
                <a:ext cx="224640" cy="15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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720480" y="2075400"/>
                <a:ext cx="224640" cy="15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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31640" y="4114080"/>
                <a:ext cx="225000" cy="15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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49720" y="3123360"/>
                <a:ext cx="224640" cy="15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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69520" y="3173040"/>
                <a:ext cx="45360" cy="45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92840" y="2331000"/>
                <a:ext cx="45360" cy="4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08600" y="3161520"/>
                <a:ext cx="45360" cy="4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19480" y="3950640"/>
                <a:ext cx="45720" cy="45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438240" y="1862280"/>
                <a:ext cx="910800" cy="17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0° </a:t>
                </a:r>
                <a:r>
                  <a:rPr b="1" lang="en-GB" sz="1200" spc="-1" strike="noStrike">
                    <a:solidFill>
                      <a:srgbClr val="0000ff"/>
                    </a:solidFill>
                    <a:latin typeface="Wingdings"/>
                    <a:ea typeface="Wingdings"/>
                  </a:rPr>
                  <a:t></a:t>
                </a: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 = 270</a:t>
                </a:r>
                <a:r>
                  <a:rPr b="1" lang="en-GB" sz="900" spc="-1" strike="noStrike">
                    <a:solidFill>
                      <a:srgbClr val="0000ff"/>
                    </a:solidFill>
                    <a:latin typeface="Arial"/>
                  </a:rPr>
                  <a:t>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99440" y="4308840"/>
                <a:ext cx="788760" cy="20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0° </a:t>
                </a:r>
                <a:r>
                  <a:rPr b="1" lang="en-GB" sz="1200" spc="-1" strike="noStrike">
                    <a:solidFill>
                      <a:srgbClr val="0000ff"/>
                    </a:solidFill>
                    <a:latin typeface="Wingdings"/>
                    <a:ea typeface="Wingdings"/>
                  </a:rPr>
                  <a:t></a:t>
                </a: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 = 9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846120" y="2182320"/>
                <a:ext cx="49536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7002000" y="3218760"/>
                <a:ext cx="285480" cy="735120"/>
              </a:xfrm>
              <a:prstGeom prst="line">
                <a:avLst/>
              </a:prstGeom>
              <a:ln w="9360">
                <a:solidFill>
                  <a:srgbClr val="00800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996160" y="2544120"/>
                <a:ext cx="360" cy="64008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61880" y="3199680"/>
                <a:ext cx="720" cy="64008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1600" y="2334600"/>
                <a:ext cx="640080" cy="72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133680" y="3980880"/>
                <a:ext cx="640080" cy="72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24520" y="4541040"/>
                <a:ext cx="3513960" cy="40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Рис. 2. Прецессия равноденствий – как она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видна с Северного полюса эклиптики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732720" y="5516640"/>
            <a:ext cx="110880" cy="108000"/>
            <a:chOff x="6732720" y="5516640"/>
            <a:chExt cx="110880" cy="108000"/>
          </a:xfrm>
        </p:grpSpPr>
        <p:grpSp>
          <p:nvGrpSpPr>
            <p:cNvPr id="199" name=""/>
            <p:cNvGrpSpPr/>
            <p:nvPr/>
          </p:nvGrpSpPr>
          <p:grpSpPr>
            <a:xfrm>
              <a:off x="6732720" y="5516640"/>
              <a:ext cx="110880" cy="108000"/>
              <a:chOff x="6732720" y="5516640"/>
              <a:chExt cx="110880" cy="108000"/>
            </a:xfrm>
          </p:grpSpPr>
          <p:sp>
            <p:nvSpPr>
              <p:cNvPr id="200" name=""/>
              <p:cNvSpPr/>
              <p:nvPr/>
            </p:nvSpPr>
            <p:spPr>
              <a:xfrm>
                <a:off x="6732720" y="5516640"/>
                <a:ext cx="110880" cy="1080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88520" y="5517000"/>
                <a:ext cx="0" cy="107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732720" y="5571000"/>
              <a:ext cx="110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5280" y="5229360"/>
            <a:ext cx="78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Оси тропического Зодиака эффективны как с эзотерической, так и с физической точек з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ttp://astrotheos.com/Downloads/CC1.zip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]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ом отношении совершенный крест      , образов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ми осями –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емной крес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представляет Ставрос (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uros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   – философский крест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бъединении с окружностью эклиптики Земной крест образует Астрономический крест     и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ест мира, а в ином представлении – Анкх    . С учетом его вращения – свастику     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    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Многие эзотерические ссылки на точку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0°</a:t>
            </a:r>
            <a:r>
              <a:rPr b="1" lang="en-GB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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ворят о значимости именно Тропический зодиа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11960" y="1262160"/>
            <a:ext cx="104760" cy="114120"/>
            <a:chOff x="7311960" y="1262160"/>
            <a:chExt cx="104760" cy="114120"/>
          </a:xfrm>
        </p:grpSpPr>
        <p:sp>
          <p:nvSpPr>
            <p:cNvPr id="205" name=""/>
            <p:cNvSpPr/>
            <p:nvPr/>
          </p:nvSpPr>
          <p:spPr>
            <a:xfrm>
              <a:off x="7311960" y="1315080"/>
              <a:ext cx="104760" cy="1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3440" y="1262160"/>
              <a:ext cx="1800" cy="114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164360" y="5689440"/>
            <a:ext cx="103320" cy="115920"/>
            <a:chOff x="7164360" y="5689440"/>
            <a:chExt cx="103320" cy="115920"/>
          </a:xfrm>
        </p:grpSpPr>
        <p:sp>
          <p:nvSpPr>
            <p:cNvPr id="208" name=""/>
            <p:cNvSpPr/>
            <p:nvPr/>
          </p:nvSpPr>
          <p:spPr>
            <a:xfrm>
              <a:off x="7164360" y="5743080"/>
              <a:ext cx="103320" cy="108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15840" y="5689440"/>
              <a:ext cx="1440" cy="11592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1280" y="6021360"/>
            <a:ext cx="108000" cy="157320"/>
            <a:chOff x="3851280" y="6021360"/>
            <a:chExt cx="108000" cy="157320"/>
          </a:xfrm>
        </p:grpSpPr>
        <p:sp>
          <p:nvSpPr>
            <p:cNvPr id="211" name=""/>
            <p:cNvSpPr/>
            <p:nvPr/>
          </p:nvSpPr>
          <p:spPr>
            <a:xfrm>
              <a:off x="3869280" y="6021360"/>
              <a:ext cx="69480" cy="64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51280" y="6095160"/>
              <a:ext cx="108000" cy="144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03480" y="6095160"/>
              <a:ext cx="0" cy="8352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732360" y="6022440"/>
            <a:ext cx="143280" cy="143280"/>
            <a:chOff x="6732360" y="6022440"/>
            <a:chExt cx="143280" cy="143280"/>
          </a:xfrm>
        </p:grpSpPr>
        <p:cxnSp>
          <p:nvCxnSpPr>
            <p:cNvPr id="215" name=""/>
            <p:cNvCxnSpPr/>
            <p:nvPr/>
          </p:nvCxnSpPr>
          <p:spPr>
            <a:xfrm flipH="1" rot="16200000">
              <a:off x="6733080" y="6024240"/>
              <a:ext cx="143640" cy="13968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0080"/>
              </a:solidFill>
              <a:miter/>
            </a:ln>
          </p:spPr>
        </p:cxnSp>
        <p:cxnSp>
          <p:nvCxnSpPr>
            <p:cNvPr id="216" name=""/>
            <p:cNvCxnSpPr/>
            <p:nvPr/>
          </p:nvCxnSpPr>
          <p:spPr>
            <a:xfrm flipV="1">
              <a:off x="6732360" y="6023520"/>
              <a:ext cx="143640" cy="140400"/>
            </a:xfrm>
            <a:prstGeom prst="bentConnector3">
              <a:avLst>
                <a:gd name="adj1" fmla="val 49748"/>
              </a:avLst>
            </a:prstGeom>
            <a:ln w="15840">
              <a:solidFill>
                <a:srgbClr val="000080"/>
              </a:solidFill>
              <a:miter/>
            </a:ln>
          </p:spPr>
        </p:cxnSp>
      </p:grpSp>
      <p:grpSp>
        <p:nvGrpSpPr>
          <p:cNvPr id="217" name=""/>
          <p:cNvGrpSpPr/>
          <p:nvPr/>
        </p:nvGrpSpPr>
        <p:grpSpPr>
          <a:xfrm>
            <a:off x="7272360" y="5985000"/>
            <a:ext cx="111240" cy="180720"/>
            <a:chOff x="7272360" y="5985000"/>
            <a:chExt cx="111240" cy="180720"/>
          </a:xfrm>
        </p:grpSpPr>
        <p:sp>
          <p:nvSpPr>
            <p:cNvPr id="218" name=""/>
            <p:cNvSpPr/>
            <p:nvPr/>
          </p:nvSpPr>
          <p:spPr>
            <a:xfrm>
              <a:off x="7272360" y="5985000"/>
              <a:ext cx="11124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283160" y="6024240"/>
              <a:ext cx="87480" cy="100440"/>
              <a:chOff x="7283160" y="6024240"/>
              <a:chExt cx="87480" cy="100440"/>
            </a:xfrm>
          </p:grpSpPr>
          <p:sp>
            <p:nvSpPr>
              <p:cNvPr id="220" name=""/>
              <p:cNvSpPr/>
              <p:nvPr/>
            </p:nvSpPr>
            <p:spPr>
              <a:xfrm>
                <a:off x="7301520" y="6024240"/>
                <a:ext cx="50760" cy="100440"/>
              </a:xfrm>
              <a:custGeom>
                <a:avLst/>
                <a:gdLst/>
                <a:ahLst/>
                <a:rect l="l" t="t" r="r" b="b"/>
                <a:pathLst>
                  <a:path w="560" h="1106">
                    <a:moveTo>
                      <a:pt x="14" y="0"/>
                    </a:moveTo>
                    <a:lnTo>
                      <a:pt x="549" y="0"/>
                    </a:lnTo>
                    <a:lnTo>
                      <a:pt x="0" y="1106"/>
                    </a:lnTo>
                    <a:lnTo>
                      <a:pt x="560" y="110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04760" y="6072120"/>
                <a:ext cx="432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83160" y="6065280"/>
                <a:ext cx="19080" cy="16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51560" y="6065280"/>
                <a:ext cx="19080" cy="1692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7559640" y="5877000"/>
            <a:ext cx="111240" cy="108000"/>
            <a:chOff x="7559640" y="5877000"/>
            <a:chExt cx="111240" cy="108000"/>
          </a:xfrm>
        </p:grpSpPr>
        <p:grpSp>
          <p:nvGrpSpPr>
            <p:cNvPr id="225" name=""/>
            <p:cNvGrpSpPr/>
            <p:nvPr/>
          </p:nvGrpSpPr>
          <p:grpSpPr>
            <a:xfrm>
              <a:off x="7559640" y="5877000"/>
              <a:ext cx="111240" cy="108000"/>
              <a:chOff x="7559640" y="5877000"/>
              <a:chExt cx="111240" cy="1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7559640" y="5877000"/>
                <a:ext cx="111240" cy="1080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15440" y="5877360"/>
                <a:ext cx="0" cy="107640"/>
              </a:xfrm>
              <a:prstGeom prst="line">
                <a:avLst/>
              </a:prstGeom>
              <a:ln w="158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559640" y="5931360"/>
              <a:ext cx="110880" cy="0"/>
            </a:xfrm>
            <a:prstGeom prst="line">
              <a:avLst/>
            </a:prstGeom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A541-47C1-4E7B-B153-210280382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4360" y="225360"/>
            <a:ext cx="8856720" cy="648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360" y="44136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2. Солярный зоди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9280" y="1055520"/>
            <a:ext cx="4753080" cy="3525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0120" y="1052640"/>
            <a:ext cx="30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Геометрия Солярного зодиа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859280" y="1881360"/>
            <a:ext cx="360360" cy="287280"/>
            <a:chOff x="4859280" y="1881360"/>
            <a:chExt cx="360360" cy="287280"/>
          </a:xfrm>
        </p:grpSpPr>
        <p:sp>
          <p:nvSpPr>
            <p:cNvPr id="236" name=""/>
            <p:cNvSpPr/>
            <p:nvPr/>
          </p:nvSpPr>
          <p:spPr>
            <a:xfrm>
              <a:off x="4859280" y="216864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59280" y="1881360"/>
              <a:ext cx="3603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716360" y="1773360"/>
          <a:ext cx="4033800" cy="2274840"/>
        </p:xfrm>
        <a:graphic>
          <a:graphicData uri="http://schemas.openxmlformats.org/drawingml/2006/table">
            <a:tbl>
              <a:tblPr/>
              <a:tblGrid>
                <a:gridCol w="504720"/>
                <a:gridCol w="3529080"/>
              </a:tblGrid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динальные точки и оси Троп.Зодиа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ц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F’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си Сев. Полюса Галакт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“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стояний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л. Зодиака) на эклиптику и пересечение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Z’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оскостей эклиптики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актического экватор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“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денствий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л. Зодиака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ае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динальные точки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’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’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ярного  Зоди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182880" y="4724280"/>
            <a:ext cx="8350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меч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1. Угол между осями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Z’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осью Солнцестояний Троп. Зодиака для текущей эпохи составляет минуты дуг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2. Стрелки показывают наблюдаемое направление движения объектов относительно Зем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нце движется по Эклиптике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Галактический Центр – по Галактическому экватору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аналог эклиптики для Солнечной системы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.      – положение Центра Галактик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1640" y="5859360"/>
            <a:ext cx="125640" cy="12564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2097000"/>
            <a:ext cx="125280" cy="125640"/>
          </a:xfrm>
          <a:prstGeom prst="su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7280" y="262080"/>
            <a:ext cx="8605800" cy="633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6920" y="843120"/>
            <a:ext cx="4483800" cy="2298600"/>
            <a:chOff x="286920" y="843120"/>
            <a:chExt cx="4483800" cy="2298600"/>
          </a:xfrm>
        </p:grpSpPr>
        <p:grpSp>
          <p:nvGrpSpPr>
            <p:cNvPr id="245" name=""/>
            <p:cNvGrpSpPr/>
            <p:nvPr/>
          </p:nvGrpSpPr>
          <p:grpSpPr>
            <a:xfrm>
              <a:off x="286920" y="843120"/>
              <a:ext cx="4483800" cy="2298600"/>
              <a:chOff x="286920" y="843120"/>
              <a:chExt cx="4483800" cy="229860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4840" y="843120"/>
                <a:ext cx="4241880" cy="21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484920" y="1612440"/>
                <a:ext cx="4222800" cy="124200"/>
              </a:xfrm>
              <a:custGeom>
                <a:avLst/>
                <a:gdLst/>
                <a:ahLst/>
                <a:rect l="l" t="t" r="r" b="b"/>
                <a:pathLst>
                  <a:path w="7537" h="222">
                    <a:moveTo>
                      <a:pt x="0" y="222"/>
                    </a:moveTo>
                    <a:cubicBezTo>
                      <a:pt x="167" y="205"/>
                      <a:pt x="696" y="148"/>
                      <a:pt x="1003" y="122"/>
                    </a:cubicBezTo>
                    <a:cubicBezTo>
                      <a:pt x="1310" y="96"/>
                      <a:pt x="1539" y="83"/>
                      <a:pt x="1842" y="66"/>
                    </a:cubicBezTo>
                    <a:cubicBezTo>
                      <a:pt x="2145" y="49"/>
                      <a:pt x="2538" y="31"/>
                      <a:pt x="2823" y="22"/>
                    </a:cubicBezTo>
                    <a:cubicBezTo>
                      <a:pt x="3108" y="13"/>
                      <a:pt x="3291" y="15"/>
                      <a:pt x="3553" y="12"/>
                    </a:cubicBezTo>
                    <a:cubicBezTo>
                      <a:pt x="3815" y="9"/>
                      <a:pt x="4121" y="0"/>
                      <a:pt x="4393" y="2"/>
                    </a:cubicBezTo>
                    <a:cubicBezTo>
                      <a:pt x="4665" y="4"/>
                      <a:pt x="4913" y="11"/>
                      <a:pt x="5183" y="22"/>
                    </a:cubicBezTo>
                    <a:cubicBezTo>
                      <a:pt x="5453" y="33"/>
                      <a:pt x="5722" y="47"/>
                      <a:pt x="6013" y="66"/>
                    </a:cubicBezTo>
                    <a:cubicBezTo>
                      <a:pt x="6304" y="85"/>
                      <a:pt x="6719" y="122"/>
                      <a:pt x="6931" y="138"/>
                    </a:cubicBezTo>
                    <a:cubicBezTo>
                      <a:pt x="7143" y="154"/>
                      <a:pt x="7184" y="153"/>
                      <a:pt x="7285" y="162"/>
                    </a:cubicBezTo>
                    <a:cubicBezTo>
                      <a:pt x="7386" y="171"/>
                      <a:pt x="7461" y="181"/>
                      <a:pt x="7537" y="192"/>
                    </a:cubicBezTo>
                  </a:path>
                </a:pathLst>
              </a:custGeom>
              <a:noFill/>
              <a:ln w="284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57640" y="1158840"/>
                <a:ext cx="974160" cy="1811160"/>
              </a:xfrm>
              <a:custGeom>
                <a:avLst/>
                <a:gdLst/>
                <a:ahLst/>
                <a:rect l="l" t="t" r="r" b="b"/>
                <a:pathLst>
                  <a:path w="1739" h="3234">
                    <a:moveTo>
                      <a:pt x="0" y="0"/>
                    </a:moveTo>
                    <a:cubicBezTo>
                      <a:pt x="86" y="160"/>
                      <a:pt x="173" y="320"/>
                      <a:pt x="258" y="474"/>
                    </a:cubicBezTo>
                    <a:cubicBezTo>
                      <a:pt x="343" y="628"/>
                      <a:pt x="426" y="768"/>
                      <a:pt x="510" y="924"/>
                    </a:cubicBezTo>
                    <a:cubicBezTo>
                      <a:pt x="594" y="1080"/>
                      <a:pt x="673" y="1242"/>
                      <a:pt x="761" y="1412"/>
                    </a:cubicBezTo>
                    <a:cubicBezTo>
                      <a:pt x="849" y="1582"/>
                      <a:pt x="939" y="1757"/>
                      <a:pt x="1037" y="1944"/>
                    </a:cubicBezTo>
                    <a:cubicBezTo>
                      <a:pt x="1135" y="2131"/>
                      <a:pt x="1232" y="2317"/>
                      <a:pt x="1349" y="2532"/>
                    </a:cubicBezTo>
                    <a:cubicBezTo>
                      <a:pt x="1466" y="2747"/>
                      <a:pt x="1602" y="2990"/>
                      <a:pt x="1739" y="3234"/>
                    </a:cubicBez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6920" y="1737000"/>
                <a:ext cx="141120" cy="1656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0800" y="1629360"/>
                <a:ext cx="309240" cy="2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100" spc="-1" strike="noStrike">
                    <a:solidFill>
                      <a:srgbClr val="ff9900"/>
                    </a:solidFill>
                    <a:latin typeface="Wingdings 2"/>
                    <a:ea typeface="Wingdings 2"/>
                  </a:rPr>
                  <a:t></a:t>
                </a:r>
                <a:endParaRPr b="0" lang="en-US" sz="2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07160" y="2244240"/>
                <a:ext cx="93744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Galactic Cent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50640" y="2957040"/>
                <a:ext cx="1101960" cy="1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8000"/>
                    </a:solidFill>
                    <a:latin typeface="Arial"/>
                  </a:rPr>
                  <a:t>Galactic Eclipti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77160" y="1773720"/>
                <a:ext cx="493560" cy="16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80"/>
                    </a:solidFill>
                    <a:latin typeface="Arial"/>
                  </a:rPr>
                  <a:t>Ecliptic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59200" y="2291400"/>
                <a:ext cx="110880" cy="110880"/>
              </a:xfrm>
              <a:prstGeom prst="sun">
                <a:avLst>
                  <a:gd name="adj" fmla="val 25000"/>
                </a:avLst>
              </a:prstGeom>
              <a:solidFill>
                <a:srgbClr val="00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556000" y="1162440"/>
                <a:ext cx="23400" cy="18716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11400" y="2634480"/>
                <a:ext cx="1344600" cy="30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ff"/>
                    </a:solidFill>
                    <a:latin typeface="Arial"/>
                  </a:rPr>
                  <a:t>Precessional motion of the Solstice Meridia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589480" y="2839320"/>
                <a:ext cx="245160" cy="6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6400" y="1599120"/>
                <a:ext cx="56880" cy="568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37400" y="1286640"/>
                <a:ext cx="9756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Z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515680" y="1599120"/>
                <a:ext cx="56880" cy="568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42400" y="1296720"/>
                <a:ext cx="28908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0000"/>
                    </a:solidFill>
                    <a:latin typeface="Arial"/>
                  </a:rPr>
                  <a:t>0°</a:t>
                </a:r>
                <a:r>
                  <a:rPr b="1" lang="en-GB" sz="1200" spc="-1" strike="noStrike">
                    <a:solidFill>
                      <a:srgbClr val="ff0000"/>
                    </a:solidFill>
                    <a:latin typeface="Wingdings"/>
                    <a:ea typeface="Wingdings"/>
                  </a:rPr>
                  <a:t>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41560" y="1407600"/>
                <a:ext cx="456840" cy="1879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673720" y="1400760"/>
                <a:ext cx="413280" cy="201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0480" y="2701440"/>
                <a:ext cx="22500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-3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0560" y="1397520"/>
                <a:ext cx="22500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" rIns="36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ffffff"/>
                    </a:solidFill>
                    <a:latin typeface="Arial"/>
                  </a:rPr>
                  <a:t>-20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755640" y="40464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.3. Великое Небесное Соединение (ВНС)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CC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X-Correl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27600" y="923760"/>
            <a:ext cx="420840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оложение Галактического экватора в 2010г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очечная оценка эпохи ВН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мая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, 199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рвальные оценк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2.12.1975 – 22.12.20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оха трансформ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959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203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ериод повтор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раза за цикл Прецессии 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6500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е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31640" y="3392640"/>
            <a:ext cx="3384720" cy="3019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124000" y="5192640"/>
            <a:ext cx="61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640" y="5121360"/>
            <a:ext cx="9925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Троп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одиа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3753000"/>
            <a:ext cx="179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59640" y="3573360"/>
            <a:ext cx="803520" cy="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" rIns="3600" tIns="3600" bIns="3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оляр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одиа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95640" y="3595680"/>
            <a:ext cx="511344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Тропический и Солярный Зодиаки на 2010 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релка дает направление фактической прецессии Тропического Зодиака вдоль Солярно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Точки 0 Овна в обоих Зодиаках заканчивают пу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Стрельцу и синхронно входят в знаки Козеро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Наступает эпоха Козеро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Эпоха Козерога проходит под знаком Водолея: т.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и знаки совпадают, на Землю энергии Водо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ередаются в неискаженном ви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Символ ВНС – 8-конечный крест       как налож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емного и Солярного крестов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235640" y="5879880"/>
            <a:ext cx="212040" cy="213120"/>
            <a:chOff x="7235640" y="5879880"/>
            <a:chExt cx="212040" cy="213120"/>
          </a:xfrm>
        </p:grpSpPr>
        <p:sp>
          <p:nvSpPr>
            <p:cNvPr id="275" name=""/>
            <p:cNvSpPr/>
            <p:nvPr/>
          </p:nvSpPr>
          <p:spPr>
            <a:xfrm>
              <a:off x="7345440" y="5879880"/>
              <a:ext cx="0" cy="213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235640" y="5983200"/>
              <a:ext cx="2120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2000" y="5903280"/>
              <a:ext cx="140400" cy="160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265160" y="5912640"/>
              <a:ext cx="159840" cy="139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2616120"/>
                <a:ext cx="1270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260280"/>
            <a:ext cx="8605800" cy="629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260280"/>
          <a:ext cx="8605800" cy="6232680"/>
        </p:xfrm>
        <a:graphic>
          <a:graphicData uri="http://schemas.openxmlformats.org/drawingml/2006/table">
            <a:tbl>
              <a:tblPr/>
              <a:tblGrid>
                <a:gridCol w="8605800"/>
              </a:tblGrid>
              <a:tr h="19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. АУРИЧЕСКАЯ ШКАЛА ПЕРИОДОВ И ЭВОЛЮЦИОННОГО ВРЕМЕ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ttp://astrotheos.com /Page2.htm, 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ttp://astrotheos.com/page3.htm]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олотое сечение и числа Фибонач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е Сечение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еление отрезка в средне пропорциональном отноше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ет единственное значение для чисел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    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8 33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и       =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8 33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, приче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рический ря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узком смысле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еометрическая прогресси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ую можно представить в ви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рмоническим сопряже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яд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рядка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ли аурическим рядом в широком смысле) назовем ря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                              , т. е. ряд, полученный из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средством домножения каждого его члена на одно и то же число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 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Важнейшим для последующего является ряд порядка 2, то есть ря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 (числа) Фибоначчи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{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=1,2,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о ряд из натуральных чисел, который задает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ыми членами 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= u</a:t>
                      </a:r>
                      <a:r>
                        <a:rPr b="1" lang="en-US" sz="14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= 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рекуррентным правилом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+1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кже рассматривается ряд 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{v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=1,2,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торый построен по тому же рекуррентному правилу, н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ачальными членами 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= 1, v</a:t>
                      </a:r>
                      <a:r>
                        <a:rPr b="1" lang="en-US" sz="1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= 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вязь между этими рядами определяется равенств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+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надцать их первых значений даны в следующей таблиц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38920" y="1160640"/>
                <a:ext cx="162072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959280" y="1557360"/>
                <a:ext cx="21096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243320" y="1916280"/>
                <a:ext cx="8683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276720" y="2600280"/>
                <a:ext cx="3348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871640" y="3357720"/>
                <a:ext cx="1620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727280" y="3968640"/>
                <a:ext cx="4249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ϕ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16000" y="1952640"/>
                <a:ext cx="211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975280" y="2241720"/>
                <a:ext cx="2700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5977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189000"/>
            <a:ext cx="8605800" cy="633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0920" y="189000"/>
          <a:ext cx="8569080" cy="6235560"/>
        </p:xfrm>
        <a:graphic>
          <a:graphicData uri="http://schemas.openxmlformats.org/drawingml/2006/table">
            <a:tbl>
              <a:tblPr/>
              <a:tblGrid>
                <a:gridCol w="504720"/>
                <a:gridCol w="576360"/>
                <a:gridCol w="539640"/>
                <a:gridCol w="934920"/>
                <a:gridCol w="6013440"/>
              </a:tblGrid>
              <a:tr h="565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. Связь аурических рядов и чисел Фибоначчи</a:t>
                      </a: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сновные ря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рические ряды  удовлетворяют свойству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u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 знач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ют обобщенные ряды Фибоначчи, а ряды Фибоначч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аурические, т.к. выражаются через Золотое сечение. Причем э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ы единственные, которые обладают этим свойств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Ряды </a:t>
                      </a: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аны  соотношени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Член Ф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а Г разбивает отрезок между членами ряда Фибонач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олотом сечени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i+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Ф</a:t>
                      </a:r>
                      <a:r>
                        <a:rPr b="1" lang="en-US" sz="14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14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i+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лижа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яд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т.е. Ф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 v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яд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ает точные, а ряд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мптотические точки Золотого сечения для ряд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</a:t>
                      </a:r>
                      <a:r>
                        <a:rPr b="1" lang="en-US" sz="1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=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6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6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.2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8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1.0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7.9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9.0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6.9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6.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22.9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99.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21.9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527280" y="2889360"/>
                <a:ext cx="1765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ϕ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156360" y="2852640"/>
                <a:ext cx="1511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Φ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608360" y="3645000"/>
                <a:ext cx="2052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05" name=""/>
          <p:cNvGrpSpPr/>
          <p:nvPr/>
        </p:nvGrpSpPr>
        <p:grpSpPr>
          <a:xfrm>
            <a:off x="4067280" y="4221000"/>
            <a:ext cx="1942920" cy="81000"/>
            <a:chOff x="4067280" y="4221000"/>
            <a:chExt cx="1942920" cy="81000"/>
          </a:xfrm>
        </p:grpSpPr>
        <p:sp>
          <p:nvSpPr>
            <p:cNvPr id="306" name=""/>
            <p:cNvSpPr/>
            <p:nvPr/>
          </p:nvSpPr>
          <p:spPr>
            <a:xfrm flipV="1">
              <a:off x="4067280" y="4251600"/>
              <a:ext cx="19429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32080" y="4224600"/>
              <a:ext cx="75600" cy="7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55960" y="4221000"/>
              <a:ext cx="64800" cy="72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91840" y="4228560"/>
              <a:ext cx="64800" cy="64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04:20Z</dcterms:created>
  <dc:creator>Video</dc:creator>
  <dc:description/>
  <dc:language>en-US</dc:language>
  <cp:lastModifiedBy>Customer</cp:lastModifiedBy>
  <dcterms:modified xsi:type="dcterms:W3CDTF">2010-12-23T14:11:14Z</dcterms:modified>
  <cp:revision>135</cp:revision>
  <dc:subject/>
  <dc:title>Слайд 1</dc:title>
</cp:coreProperties>
</file>